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B07AE-25E8-4CEE-8D1B-028A515E2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D6FC5-E026-4701-BC68-1543F48A2A1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91C9B-ED54-4942-ADE5-9E5F80719DD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A984B-47A5-4E3B-B3D4-52AB4CB0B74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977760" y="329760"/>
            <a:ext cx="11049120" cy="115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634FB-6151-4425-A05A-BB13A96134B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0B502-EBDD-4667-90D0-D78CE1D627A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A5908-C331-4E30-A860-78832F7567A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18E67-C113-4B93-9AB3-4E034D4A9BA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14C68-9A0C-4E23-859C-03A38B3A9C0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70915-44D9-4D47-BD9C-DF2A65BDF9D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1348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44920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97776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71348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44920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89E58-A2D6-4450-AAD3-B74EE32D5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F2590-E669-452C-A717-DC3EF020E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348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4920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7776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1348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4920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A9C47-BE68-443B-9497-DD7115BA3A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C65DE-6448-4AC8-A22A-3AAC185203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807CC-EB78-4E13-AE04-D64DB4EB1C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DA3BA-FD8C-4FE7-9DD9-AAC26DDEAB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9CBEC-52DE-40F4-AACB-71FB28C1DC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57B64-2215-4BE3-B8EE-0FB344025A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77760" y="329760"/>
            <a:ext cx="11049120" cy="115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174C5-E849-44B3-9A32-9CBE41D012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BE15C-69E3-4E6C-A88C-0C4F594298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54624-A878-4A1B-A757-B5E35A758D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0A07E-4CB8-49AE-BC15-9EEB200511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64009-28BD-49BC-8E8D-B5F0ACB5FB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5B4BC-5C66-4CE6-91B5-24B11CFBD0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E709B-F12E-412D-8DF5-0E8F859F37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4920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7776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1348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4920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F836C-9551-4CC1-90AD-37AB385CE98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7B91-E53A-47A7-BA18-851E3095EC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677D-4DCC-44F2-B275-609DC47162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BF44-25C5-4D79-9B23-A082818612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AC05-28DF-42F5-81AE-98BAD67BE5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A5FA-45FA-405C-A2E5-908AF7368A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DE61C-9DE2-4F20-A983-6D5829D3FD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77760" y="329760"/>
            <a:ext cx="11049120" cy="115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036D-3293-46D3-A8FB-338009DF3A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EDCF-A597-4CF9-B829-C99338F7D8B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F9D1-23F1-433F-AFA9-8DEF0EA380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4FA5-BBAF-463C-A7CB-201B802332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C044-4C70-4476-8946-191F3C9DA2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D0AD-3369-484D-81FD-1288F0FE58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348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44920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97776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71348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44920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17C3-8F99-4E62-98AD-26C0067FCE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A2762-A016-4DCD-A2EF-92B72FBF6A0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56781-CEE7-486D-B3E1-371102221D8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D4CA6-FCF3-4223-8778-FF38C80D2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39A2F-84B1-4C65-88D9-253843668F4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02412-14A3-43CA-B659-1222DC859FF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8F49A-3D5D-4FCA-9DB3-3D4E0DA7F78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77760" y="329760"/>
            <a:ext cx="11049120" cy="115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9F81A-F3BF-487E-8AFB-343A5491348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7B239-C953-43E8-80BD-00C0E552BE9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3A3DA-10F6-4F10-98BD-0548B688C8E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10EA2-86FD-4F0F-BCFD-567A437A557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53139-803A-4486-A5B8-E4AAF933441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BC459-85C0-4CBD-AFE9-D8B0730A97E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1348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44920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97776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71348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44920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6459D-B6DD-44ED-AB0A-2F06B1D15F2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83BE3-A8BE-4BB1-8F72-DF1D44204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A940B-F3AF-43BE-81AF-3166D5B443D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07D81-F941-4422-BD98-FC4E4BD556A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E83D2-FB5F-4BE9-9B6D-F818E815FEE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F6E60-F70D-4077-B57D-FE1468EA1E2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39875-D0D3-458A-9619-F4522E6DFF8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977760" y="329760"/>
            <a:ext cx="11049120" cy="115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49990-DD68-48AE-9B2C-7D1797B7DE7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7A107-88D3-4643-8202-4191EEBCE89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DD889-9547-4872-B314-16974E78670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1E350-BBE3-4B20-BEE3-9BEEB8BF650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CA7F5-7C7B-4B19-9448-5634AC197DD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E5AD5-7020-4A46-846B-44D66DAF11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77760" y="329760"/>
            <a:ext cx="11049120" cy="115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B9E9B-A1D3-4DE4-BF92-96FFDA5888B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1348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44920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97776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71348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44920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944C9-D6AE-4144-BCF0-B681D5B1ED0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9F36-E0BB-4780-BA42-E499B59BFE0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8346-2449-4A03-983A-471FD35CB75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B081-5264-4471-8732-7B70650A3D7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FCF4-C52F-4690-8805-91634726B97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B80E-AFF8-4159-A51C-4884C2D1101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977760" y="329760"/>
            <a:ext cx="11049120" cy="115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95B6-5152-4111-B424-33784F16B41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C03B-5728-4090-B6DC-59E017DBCA9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E046-3EA4-41F8-A5AF-AD0D6952383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DAD2-11FE-4C20-BB08-7C7A8A07D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62D5F-44DD-43A7-83A8-F51B1F9D5D2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FA35-FF2C-418B-A19E-6548748A409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5D2B-88FD-4034-85F6-2DAF62DF6A9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1348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44920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97776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71348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844920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05BD-D44F-4106-8FEB-FD65F7267D7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45D3F0-848E-4121-843F-C8136B5FEC7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B0A778-AD84-4766-AA51-FC81CF78A34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97622F-31D5-4B67-9884-258BDB65972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C01489-3EE3-477F-944F-7858EAA6057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CE6B51-A75F-4D1B-AA29-E2BC0085570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977760" y="329760"/>
            <a:ext cx="11049120" cy="115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2725A5-36AF-4C47-AC21-428264C3102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73036F-BCF2-401E-9029-C734A1610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75CC-578A-4AF1-B267-E1B35A9B834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2F1902-194F-4169-A571-5FA9C5401C6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115203-CD0B-45CA-B33F-A05886456EF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B10622-CB61-44DD-AEC8-3CD8AE0260C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B57264-2C15-4AF6-B36B-672B52686A4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348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44920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97776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71348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44920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D6A0E5-FCA6-472C-9CCC-309034C01A1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7871AF-A77D-4FA7-90CB-DB9BE5141EB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769A5-A774-457B-A767-68746C17D50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5FCCE0-992E-4E80-99D2-2640212B6D5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706370-56AA-401C-823A-92D7D4359CC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AA315E-9AFB-44A8-BE29-CABEBE20A2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67271-922D-4AF7-8AE8-80C2F25D642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977760" y="329760"/>
            <a:ext cx="11049120" cy="115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D0E6A1-338C-4F49-9AAE-B341E095360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BD64D1-272D-4E4B-B554-2F8DDC613C2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FF713-E8A1-42F4-A40A-FAA3B5BD2A9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E8EAF-C919-4A12-8A17-2DD27EDD246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C8F574-ABB1-4684-A353-F8732666DF9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9E4D46-692A-40C0-9256-01AF257B7B7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1348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44920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97776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71348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844920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2B4571-A961-4393-BD37-F7948C81F5B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16B54-F9F1-4E82-B570-5291CC4E2DA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A4277-1123-498E-846A-B20CB1E4600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B52B5-9C3C-454F-B3B3-73EA5EA5F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20000"/>
                </a:solidFill>
                <a:latin typeface="Big Caslon"/>
              </a:rPr>
              <a:t>Click to edit the title text format</a:t>
            </a: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33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Click to edit the outline text format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1" marL="630360" indent="-285840">
              <a:spcBef>
                <a:spcPts val="1100"/>
              </a:spcBef>
              <a:buClr>
                <a:srgbClr val="3300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Second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2" marL="10303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Third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3" marL="14875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Four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4" marL="19447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Fif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5" marL="19447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Six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6" marL="19447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Seven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0518480" y="8889480"/>
            <a:ext cx="307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330000"/>
                </a:solidFill>
                <a:latin typeface="Big Caslon"/>
                <a:ea typeface="Big Caslo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5D37-3A5D-4C3E-9FBC-5478BF1AA166}" type="slidenum">
              <a:rPr b="0" lang="en-US" sz="1800" spc="-1" strike="noStrike">
                <a:solidFill>
                  <a:srgbClr val="330000"/>
                </a:solidFill>
                <a:latin typeface="Big Caslon"/>
                <a:ea typeface="Big Caslon"/>
              </a:rPr>
              <a:t>&lt;number&gt;</a:t>
            </a:fld>
            <a:endParaRPr b="0" lang="en-US" sz="1800" spc="-1" strike="noStrike">
              <a:solidFill>
                <a:srgbClr val="330000"/>
              </a:solidFill>
              <a:latin typeface="Big Caslo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20000"/>
                </a:solidFill>
                <a:latin typeface="Big Caslon"/>
              </a:rPr>
              <a:t>Click to edit the title text format</a:t>
            </a: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33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Click to edit the outline text format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1" marL="630360" indent="-285840">
              <a:spcBef>
                <a:spcPts val="1100"/>
              </a:spcBef>
              <a:buClr>
                <a:srgbClr val="3300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Second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2" marL="10303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Third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3" marL="14875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Four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4" marL="19447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Fif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5" marL="19447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Six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6" marL="19447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Seven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0518480" y="8889480"/>
            <a:ext cx="307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330000"/>
                </a:solidFill>
                <a:latin typeface="Big Caslon"/>
                <a:ea typeface="Big Caslo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F74B-619F-4EF8-A80A-959BDA20144F}" type="slidenum">
              <a:rPr b="0" lang="en-US" sz="1800" spc="-1" strike="noStrike">
                <a:solidFill>
                  <a:srgbClr val="330000"/>
                </a:solidFill>
                <a:latin typeface="Big Caslon"/>
                <a:ea typeface="Big Caslon"/>
              </a:rPr>
              <a:t>&lt;number&gt;</a:t>
            </a:fld>
            <a:endParaRPr b="0" lang="en-US" sz="1800" spc="-1" strike="noStrike">
              <a:solidFill>
                <a:srgbClr val="330000"/>
              </a:solidFill>
              <a:latin typeface="Big Caslo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20000"/>
                </a:solidFill>
                <a:latin typeface="Big Caslon"/>
              </a:rPr>
              <a:t>Click to edit the title text format</a:t>
            </a: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33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Click to edit the outline text format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1" marL="630360" indent="-285840">
              <a:spcBef>
                <a:spcPts val="1100"/>
              </a:spcBef>
              <a:buClr>
                <a:srgbClr val="3300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Second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2" marL="10303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Third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3" marL="14875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Four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4" marL="19447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Fif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5" marL="19447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Six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6" marL="19447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Seven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10518480" y="8889480"/>
            <a:ext cx="307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330000"/>
                </a:solidFill>
                <a:latin typeface="Big Caslon"/>
                <a:ea typeface="Big Caslo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4002-8505-4C06-922B-747B613F6924}" type="slidenum">
              <a:rPr b="0" lang="en-US" sz="1800" spc="-1" strike="noStrike">
                <a:solidFill>
                  <a:srgbClr val="330000"/>
                </a:solidFill>
                <a:latin typeface="Big Caslon"/>
                <a:ea typeface="Big Caslon"/>
              </a:rPr>
              <a:t>&lt;number&gt;</a:t>
            </a:fld>
            <a:endParaRPr b="0" lang="en-US" sz="1800" spc="-1" strike="noStrike">
              <a:solidFill>
                <a:srgbClr val="330000"/>
              </a:solidFill>
              <a:latin typeface="Big Caslo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20000"/>
                </a:solidFill>
                <a:latin typeface="Big Caslon"/>
              </a:rPr>
              <a:t>Click to edit the title text format</a:t>
            </a: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33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Click to edit the outline text format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1" marL="630360" indent="-285840">
              <a:spcBef>
                <a:spcPts val="1100"/>
              </a:spcBef>
              <a:buClr>
                <a:srgbClr val="3300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Second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2" marL="10303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Third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3" marL="14875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Four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4" marL="19447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Fif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5" marL="19447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Six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6" marL="19447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Seven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10518480" y="8889480"/>
            <a:ext cx="307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330000"/>
                </a:solidFill>
                <a:latin typeface="Big Caslon"/>
                <a:ea typeface="Big Caslo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7C03-D2FB-4909-AC6E-869252628E42}" type="slidenum">
              <a:rPr b="0" lang="en-US" sz="1800" spc="-1" strike="noStrike">
                <a:solidFill>
                  <a:srgbClr val="330000"/>
                </a:solidFill>
                <a:latin typeface="Big Caslon"/>
                <a:ea typeface="Big Caslon"/>
              </a:rPr>
              <a:t>&lt;number&gt;</a:t>
            </a:fld>
            <a:endParaRPr b="0" lang="en-US" sz="1800" spc="-1" strike="noStrike">
              <a:solidFill>
                <a:srgbClr val="330000"/>
              </a:solidFill>
              <a:latin typeface="Big Caslo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20000"/>
                </a:solidFill>
                <a:latin typeface="Big Caslon"/>
              </a:rPr>
              <a:t>Click to edit the title text format</a:t>
            </a: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33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Click to edit the outline text format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1" marL="630360" indent="-285840">
              <a:spcBef>
                <a:spcPts val="1100"/>
              </a:spcBef>
              <a:buClr>
                <a:srgbClr val="3300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Second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2" marL="10303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Third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3" marL="14875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Four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4" marL="19447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Fif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5" marL="19447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Six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6" marL="19447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Seven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10518480" y="8889480"/>
            <a:ext cx="307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330000"/>
                </a:solidFill>
                <a:latin typeface="Big Caslon"/>
                <a:ea typeface="Big Caslo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A0CB-0821-457B-9E38-B0A9E7CCEA12}" type="slidenum">
              <a:rPr b="0" lang="en-US" sz="1800" spc="-1" strike="noStrike">
                <a:solidFill>
                  <a:srgbClr val="330000"/>
                </a:solidFill>
                <a:latin typeface="Big Caslon"/>
                <a:ea typeface="Big Caslon"/>
              </a:rPr>
              <a:t>&lt;number&gt;</a:t>
            </a:fld>
            <a:endParaRPr b="0" lang="en-US" sz="1800" spc="-1" strike="noStrike">
              <a:solidFill>
                <a:srgbClr val="330000"/>
              </a:solidFill>
              <a:latin typeface="Big Caslo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15"/>
          <p:cNvGrpSpPr/>
          <p:nvPr/>
        </p:nvGrpSpPr>
        <p:grpSpPr>
          <a:xfrm>
            <a:off x="0" y="3467160"/>
            <a:ext cx="13004640" cy="5754600"/>
            <a:chOff x="0" y="3467160"/>
            <a:chExt cx="13004640" cy="5754600"/>
          </a:xfrm>
        </p:grpSpPr>
        <p:sp>
          <p:nvSpPr>
            <p:cNvPr id="196" name="Rectangle 1"/>
            <p:cNvSpPr/>
            <p:nvPr/>
          </p:nvSpPr>
          <p:spPr>
            <a:xfrm rot="20160000">
              <a:off x="4782960" y="5864400"/>
              <a:ext cx="6934320" cy="86364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37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197" name="AutoShape 2"/>
            <p:cNvSpPr/>
            <p:nvPr/>
          </p:nvSpPr>
          <p:spPr>
            <a:xfrm>
              <a:off x="0" y="6019920"/>
              <a:ext cx="6070680" cy="2768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7714" y="9741"/>
                  </a:lnTo>
                  <a:lnTo>
                    <a:pt x="15814" y="4659"/>
                  </a:lnTo>
                  <a:lnTo>
                    <a:pt x="16296" y="4765"/>
                  </a:lnTo>
                  <a:lnTo>
                    <a:pt x="21383" y="9318"/>
                  </a:lnTo>
                  <a:lnTo>
                    <a:pt x="21600" y="11435"/>
                  </a:lnTo>
                  <a:lnTo>
                    <a:pt x="18514" y="19059"/>
                  </a:lnTo>
                  <a:lnTo>
                    <a:pt x="12729" y="21600"/>
                  </a:lnTo>
                  <a:lnTo>
                    <a:pt x="10414" y="16518"/>
                  </a:lnTo>
                  <a:lnTo>
                    <a:pt x="6943" y="18212"/>
                  </a:lnTo>
                  <a:lnTo>
                    <a:pt x="0" y="9741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198" name="AutoShape 3"/>
            <p:cNvSpPr/>
            <p:nvPr/>
          </p:nvSpPr>
          <p:spPr>
            <a:xfrm>
              <a:off x="7583400" y="3467160"/>
              <a:ext cx="5421240" cy="278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81" y="53"/>
                  </a:moveTo>
                  <a:lnTo>
                    <a:pt x="20511" y="53"/>
                  </a:lnTo>
                  <a:lnTo>
                    <a:pt x="19864" y="263"/>
                  </a:lnTo>
                  <a:lnTo>
                    <a:pt x="19216" y="473"/>
                  </a:lnTo>
                  <a:lnTo>
                    <a:pt x="19000" y="684"/>
                  </a:lnTo>
                  <a:lnTo>
                    <a:pt x="18784" y="999"/>
                  </a:lnTo>
                  <a:lnTo>
                    <a:pt x="18730" y="1105"/>
                  </a:lnTo>
                  <a:lnTo>
                    <a:pt x="18676" y="1210"/>
                  </a:lnTo>
                  <a:lnTo>
                    <a:pt x="17552" y="1736"/>
                  </a:lnTo>
                  <a:lnTo>
                    <a:pt x="17057" y="1946"/>
                  </a:lnTo>
                  <a:lnTo>
                    <a:pt x="16517" y="2051"/>
                  </a:lnTo>
                  <a:lnTo>
                    <a:pt x="15330" y="2367"/>
                  </a:lnTo>
                  <a:lnTo>
                    <a:pt x="14142" y="2682"/>
                  </a:lnTo>
                  <a:lnTo>
                    <a:pt x="12901" y="2893"/>
                  </a:lnTo>
                  <a:lnTo>
                    <a:pt x="11821" y="3103"/>
                  </a:lnTo>
                  <a:lnTo>
                    <a:pt x="11335" y="3208"/>
                  </a:lnTo>
                  <a:lnTo>
                    <a:pt x="10903" y="3314"/>
                  </a:lnTo>
                  <a:lnTo>
                    <a:pt x="10580" y="3314"/>
                  </a:lnTo>
                  <a:lnTo>
                    <a:pt x="10310" y="3419"/>
                  </a:lnTo>
                  <a:lnTo>
                    <a:pt x="10148" y="3419"/>
                  </a:lnTo>
                  <a:lnTo>
                    <a:pt x="10094" y="3419"/>
                  </a:lnTo>
                  <a:lnTo>
                    <a:pt x="10040" y="3524"/>
                  </a:lnTo>
                  <a:lnTo>
                    <a:pt x="9941" y="3629"/>
                  </a:lnTo>
                  <a:lnTo>
                    <a:pt x="9671" y="4050"/>
                  </a:lnTo>
                  <a:lnTo>
                    <a:pt x="9230" y="4576"/>
                  </a:lnTo>
                  <a:lnTo>
                    <a:pt x="8744" y="5102"/>
                  </a:lnTo>
                  <a:lnTo>
                    <a:pt x="8313" y="5628"/>
                  </a:lnTo>
                  <a:lnTo>
                    <a:pt x="7881" y="6049"/>
                  </a:lnTo>
                  <a:lnTo>
                    <a:pt x="7611" y="6364"/>
                  </a:lnTo>
                  <a:lnTo>
                    <a:pt x="7557" y="6469"/>
                  </a:lnTo>
                  <a:lnTo>
                    <a:pt x="7503" y="6469"/>
                  </a:lnTo>
                  <a:lnTo>
                    <a:pt x="6585" y="7311"/>
                  </a:lnTo>
                  <a:lnTo>
                    <a:pt x="5668" y="8030"/>
                  </a:lnTo>
                  <a:lnTo>
                    <a:pt x="5290" y="8345"/>
                  </a:lnTo>
                  <a:lnTo>
                    <a:pt x="4966" y="8556"/>
                  </a:lnTo>
                  <a:lnTo>
                    <a:pt x="4759" y="8766"/>
                  </a:lnTo>
                  <a:lnTo>
                    <a:pt x="4651" y="8871"/>
                  </a:lnTo>
                  <a:lnTo>
                    <a:pt x="4489" y="9187"/>
                  </a:lnTo>
                  <a:lnTo>
                    <a:pt x="4381" y="9503"/>
                  </a:lnTo>
                  <a:lnTo>
                    <a:pt x="4327" y="9818"/>
                  </a:lnTo>
                  <a:lnTo>
                    <a:pt x="4327" y="10134"/>
                  </a:lnTo>
                  <a:lnTo>
                    <a:pt x="4111" y="10344"/>
                  </a:lnTo>
                  <a:lnTo>
                    <a:pt x="3940" y="10449"/>
                  </a:lnTo>
                  <a:lnTo>
                    <a:pt x="3778" y="10765"/>
                  </a:lnTo>
                  <a:lnTo>
                    <a:pt x="3616" y="11186"/>
                  </a:lnTo>
                  <a:lnTo>
                    <a:pt x="3293" y="12238"/>
                  </a:lnTo>
                  <a:lnTo>
                    <a:pt x="3131" y="12764"/>
                  </a:lnTo>
                  <a:lnTo>
                    <a:pt x="2969" y="13290"/>
                  </a:lnTo>
                  <a:lnTo>
                    <a:pt x="2915" y="13605"/>
                  </a:lnTo>
                  <a:lnTo>
                    <a:pt x="2861" y="13710"/>
                  </a:lnTo>
                  <a:lnTo>
                    <a:pt x="2807" y="13816"/>
                  </a:lnTo>
                  <a:lnTo>
                    <a:pt x="2699" y="13921"/>
                  </a:lnTo>
                  <a:lnTo>
                    <a:pt x="2537" y="14131"/>
                  </a:lnTo>
                  <a:lnTo>
                    <a:pt x="2267" y="14447"/>
                  </a:lnTo>
                  <a:lnTo>
                    <a:pt x="1790" y="14973"/>
                  </a:lnTo>
                  <a:lnTo>
                    <a:pt x="1358" y="15499"/>
                  </a:lnTo>
                  <a:lnTo>
                    <a:pt x="756" y="16235"/>
                  </a:lnTo>
                  <a:lnTo>
                    <a:pt x="270" y="16866"/>
                  </a:lnTo>
                  <a:lnTo>
                    <a:pt x="108" y="17077"/>
                  </a:lnTo>
                  <a:lnTo>
                    <a:pt x="0" y="17392"/>
                  </a:lnTo>
                  <a:lnTo>
                    <a:pt x="0" y="17603"/>
                  </a:lnTo>
                  <a:lnTo>
                    <a:pt x="0" y="17918"/>
                  </a:lnTo>
                  <a:lnTo>
                    <a:pt x="108" y="18234"/>
                  </a:lnTo>
                  <a:lnTo>
                    <a:pt x="378" y="18339"/>
                  </a:lnTo>
                  <a:lnTo>
                    <a:pt x="756" y="18339"/>
                  </a:lnTo>
                  <a:lnTo>
                    <a:pt x="1188" y="18129"/>
                  </a:lnTo>
                  <a:lnTo>
                    <a:pt x="1736" y="17918"/>
                  </a:lnTo>
                  <a:lnTo>
                    <a:pt x="2375" y="17603"/>
                  </a:lnTo>
                  <a:lnTo>
                    <a:pt x="3023" y="17182"/>
                  </a:lnTo>
                  <a:lnTo>
                    <a:pt x="3670" y="16656"/>
                  </a:lnTo>
                  <a:lnTo>
                    <a:pt x="4273" y="16130"/>
                  </a:lnTo>
                  <a:lnTo>
                    <a:pt x="4759" y="15709"/>
                  </a:lnTo>
                  <a:lnTo>
                    <a:pt x="5074" y="15394"/>
                  </a:lnTo>
                  <a:lnTo>
                    <a:pt x="5128" y="15288"/>
                  </a:lnTo>
                  <a:lnTo>
                    <a:pt x="5182" y="15288"/>
                  </a:lnTo>
                  <a:lnTo>
                    <a:pt x="5452" y="15288"/>
                  </a:lnTo>
                  <a:lnTo>
                    <a:pt x="5830" y="15183"/>
                  </a:lnTo>
                  <a:lnTo>
                    <a:pt x="6423" y="14868"/>
                  </a:lnTo>
                  <a:lnTo>
                    <a:pt x="7134" y="14552"/>
                  </a:lnTo>
                  <a:lnTo>
                    <a:pt x="7881" y="14236"/>
                  </a:lnTo>
                  <a:lnTo>
                    <a:pt x="8690" y="13921"/>
                  </a:lnTo>
                  <a:lnTo>
                    <a:pt x="9563" y="13710"/>
                  </a:lnTo>
                  <a:lnTo>
                    <a:pt x="10364" y="13605"/>
                  </a:lnTo>
                  <a:lnTo>
                    <a:pt x="10903" y="13710"/>
                  </a:lnTo>
                  <a:lnTo>
                    <a:pt x="11551" y="14131"/>
                  </a:lnTo>
                  <a:lnTo>
                    <a:pt x="12208" y="14657"/>
                  </a:lnTo>
                  <a:lnTo>
                    <a:pt x="12739" y="15288"/>
                  </a:lnTo>
                  <a:lnTo>
                    <a:pt x="12901" y="15604"/>
                  </a:lnTo>
                  <a:lnTo>
                    <a:pt x="13063" y="15919"/>
                  </a:lnTo>
                  <a:lnTo>
                    <a:pt x="13171" y="16340"/>
                  </a:lnTo>
                  <a:lnTo>
                    <a:pt x="13171" y="16656"/>
                  </a:lnTo>
                  <a:lnTo>
                    <a:pt x="13117" y="16971"/>
                  </a:lnTo>
                  <a:lnTo>
                    <a:pt x="12955" y="17392"/>
                  </a:lnTo>
                  <a:lnTo>
                    <a:pt x="12685" y="17603"/>
                  </a:lnTo>
                  <a:lnTo>
                    <a:pt x="12316" y="17918"/>
                  </a:lnTo>
                  <a:lnTo>
                    <a:pt x="11713" y="18234"/>
                  </a:lnTo>
                  <a:lnTo>
                    <a:pt x="11227" y="18655"/>
                  </a:lnTo>
                  <a:lnTo>
                    <a:pt x="10796" y="18970"/>
                  </a:lnTo>
                  <a:lnTo>
                    <a:pt x="10418" y="19286"/>
                  </a:lnTo>
                  <a:lnTo>
                    <a:pt x="10148" y="19601"/>
                  </a:lnTo>
                  <a:lnTo>
                    <a:pt x="9986" y="19812"/>
                  </a:lnTo>
                  <a:lnTo>
                    <a:pt x="9833" y="20127"/>
                  </a:lnTo>
                  <a:lnTo>
                    <a:pt x="9725" y="20338"/>
                  </a:lnTo>
                  <a:lnTo>
                    <a:pt x="9617" y="20864"/>
                  </a:lnTo>
                  <a:lnTo>
                    <a:pt x="9671" y="21179"/>
                  </a:lnTo>
                  <a:lnTo>
                    <a:pt x="9725" y="21390"/>
                  </a:lnTo>
                  <a:lnTo>
                    <a:pt x="9779" y="21495"/>
                  </a:lnTo>
                  <a:lnTo>
                    <a:pt x="9833" y="21600"/>
                  </a:lnTo>
                  <a:lnTo>
                    <a:pt x="9986" y="21600"/>
                  </a:lnTo>
                  <a:lnTo>
                    <a:pt x="10148" y="21495"/>
                  </a:lnTo>
                  <a:lnTo>
                    <a:pt x="10364" y="21495"/>
                  </a:lnTo>
                  <a:lnTo>
                    <a:pt x="10903" y="21390"/>
                  </a:lnTo>
                  <a:lnTo>
                    <a:pt x="11443" y="21284"/>
                  </a:lnTo>
                  <a:lnTo>
                    <a:pt x="11983" y="21179"/>
                  </a:lnTo>
                  <a:lnTo>
                    <a:pt x="12532" y="20969"/>
                  </a:lnTo>
                  <a:lnTo>
                    <a:pt x="12739" y="20864"/>
                  </a:lnTo>
                  <a:lnTo>
                    <a:pt x="12901" y="20758"/>
                  </a:lnTo>
                  <a:lnTo>
                    <a:pt x="13009" y="20653"/>
                  </a:lnTo>
                  <a:lnTo>
                    <a:pt x="13063" y="20653"/>
                  </a:lnTo>
                  <a:lnTo>
                    <a:pt x="13171" y="20548"/>
                  </a:lnTo>
                  <a:lnTo>
                    <a:pt x="13386" y="20443"/>
                  </a:lnTo>
                  <a:lnTo>
                    <a:pt x="13764" y="20127"/>
                  </a:lnTo>
                  <a:lnTo>
                    <a:pt x="14196" y="19812"/>
                  </a:lnTo>
                  <a:lnTo>
                    <a:pt x="15123" y="19181"/>
                  </a:lnTo>
                  <a:lnTo>
                    <a:pt x="15492" y="18865"/>
                  </a:lnTo>
                  <a:lnTo>
                    <a:pt x="15815" y="18655"/>
                  </a:lnTo>
                  <a:lnTo>
                    <a:pt x="16301" y="18234"/>
                  </a:lnTo>
                  <a:lnTo>
                    <a:pt x="16625" y="17603"/>
                  </a:lnTo>
                  <a:lnTo>
                    <a:pt x="16841" y="16866"/>
                  </a:lnTo>
                  <a:lnTo>
                    <a:pt x="17003" y="16340"/>
                  </a:lnTo>
                  <a:lnTo>
                    <a:pt x="17381" y="15183"/>
                  </a:lnTo>
                  <a:lnTo>
                    <a:pt x="17867" y="14026"/>
                  </a:lnTo>
                  <a:lnTo>
                    <a:pt x="18406" y="12974"/>
                  </a:lnTo>
                  <a:lnTo>
                    <a:pt x="19000" y="12132"/>
                  </a:lnTo>
                  <a:lnTo>
                    <a:pt x="19486" y="11396"/>
                  </a:lnTo>
                  <a:lnTo>
                    <a:pt x="19918" y="10870"/>
                  </a:lnTo>
                  <a:lnTo>
                    <a:pt x="20188" y="10449"/>
                  </a:lnTo>
                  <a:lnTo>
                    <a:pt x="20305" y="10344"/>
                  </a:lnTo>
                  <a:lnTo>
                    <a:pt x="21591" y="9082"/>
                  </a:lnTo>
                  <a:lnTo>
                    <a:pt x="21591" y="999"/>
                  </a:lnTo>
                  <a:lnTo>
                    <a:pt x="21600" y="0"/>
                  </a:lnTo>
                  <a:lnTo>
                    <a:pt x="20781" y="53"/>
                  </a:lnTo>
                  <a:close/>
                  <a:moveTo>
                    <a:pt x="20781" y="53"/>
                  </a:moveTo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199" name="Freeform 4"/>
            <p:cNvSpPr/>
            <p:nvPr/>
          </p:nvSpPr>
          <p:spPr>
            <a:xfrm>
              <a:off x="8559720" y="3467160"/>
              <a:ext cx="4444920" cy="171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591" y="4677"/>
                  </a:moveTo>
                  <a:lnTo>
                    <a:pt x="7639" y="5669"/>
                  </a:lnTo>
                  <a:lnTo>
                    <a:pt x="7606" y="6718"/>
                  </a:lnTo>
                  <a:lnTo>
                    <a:pt x="10141" y="7313"/>
                  </a:lnTo>
                  <a:lnTo>
                    <a:pt x="10899" y="7569"/>
                  </a:lnTo>
                  <a:lnTo>
                    <a:pt x="7474" y="8249"/>
                  </a:lnTo>
                  <a:lnTo>
                    <a:pt x="6948" y="8759"/>
                  </a:lnTo>
                  <a:lnTo>
                    <a:pt x="7079" y="9524"/>
                  </a:lnTo>
                  <a:lnTo>
                    <a:pt x="7376" y="9950"/>
                  </a:lnTo>
                  <a:lnTo>
                    <a:pt x="10800" y="9439"/>
                  </a:lnTo>
                  <a:lnTo>
                    <a:pt x="11854" y="10120"/>
                  </a:lnTo>
                  <a:lnTo>
                    <a:pt x="6849" y="13946"/>
                  </a:lnTo>
                  <a:lnTo>
                    <a:pt x="6761" y="15194"/>
                  </a:lnTo>
                  <a:lnTo>
                    <a:pt x="88" y="20523"/>
                  </a:lnTo>
                  <a:lnTo>
                    <a:pt x="0" y="21430"/>
                  </a:lnTo>
                  <a:lnTo>
                    <a:pt x="296" y="21600"/>
                  </a:lnTo>
                  <a:lnTo>
                    <a:pt x="7288" y="15987"/>
                  </a:lnTo>
                  <a:lnTo>
                    <a:pt x="9395" y="17008"/>
                  </a:lnTo>
                  <a:lnTo>
                    <a:pt x="12710" y="14372"/>
                  </a:lnTo>
                  <a:lnTo>
                    <a:pt x="15739" y="13181"/>
                  </a:lnTo>
                  <a:lnTo>
                    <a:pt x="17254" y="10431"/>
                  </a:lnTo>
                  <a:lnTo>
                    <a:pt x="18790" y="9638"/>
                  </a:lnTo>
                  <a:lnTo>
                    <a:pt x="20371" y="9298"/>
                  </a:lnTo>
                  <a:lnTo>
                    <a:pt x="21600" y="9354"/>
                  </a:lnTo>
                  <a:lnTo>
                    <a:pt x="21600" y="0"/>
                  </a:lnTo>
                  <a:lnTo>
                    <a:pt x="21227" y="85"/>
                  </a:lnTo>
                  <a:lnTo>
                    <a:pt x="20107" y="142"/>
                  </a:lnTo>
                  <a:lnTo>
                    <a:pt x="18461" y="992"/>
                  </a:lnTo>
                  <a:lnTo>
                    <a:pt x="18033" y="2041"/>
                  </a:lnTo>
                  <a:lnTo>
                    <a:pt x="15278" y="3373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8124840" y="5591160"/>
              <a:ext cx="420840" cy="2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080"/>
                  </a:lnTo>
                  <a:lnTo>
                    <a:pt x="21600" y="3240"/>
                  </a:lnTo>
                  <a:lnTo>
                    <a:pt x="21600" y="6480"/>
                  </a:lnTo>
                  <a:lnTo>
                    <a:pt x="20899" y="9720"/>
                  </a:lnTo>
                  <a:lnTo>
                    <a:pt x="18798" y="12960"/>
                  </a:lnTo>
                  <a:lnTo>
                    <a:pt x="15996" y="17280"/>
                  </a:lnTo>
                  <a:lnTo>
                    <a:pt x="11792" y="19440"/>
                  </a:lnTo>
                  <a:lnTo>
                    <a:pt x="5488" y="21600"/>
                  </a:lnTo>
                  <a:lnTo>
                    <a:pt x="3386" y="21600"/>
                  </a:lnTo>
                  <a:lnTo>
                    <a:pt x="1985" y="20520"/>
                  </a:lnTo>
                  <a:lnTo>
                    <a:pt x="0" y="17280"/>
                  </a:lnTo>
                  <a:lnTo>
                    <a:pt x="0" y="14040"/>
                  </a:lnTo>
                  <a:lnTo>
                    <a:pt x="0" y="1296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01" name="AutoShape 6"/>
            <p:cNvSpPr/>
            <p:nvPr/>
          </p:nvSpPr>
          <p:spPr>
            <a:xfrm>
              <a:off x="8531280" y="5402160"/>
              <a:ext cx="417600" cy="2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080"/>
                  </a:lnTo>
                  <a:lnTo>
                    <a:pt x="20899" y="4320"/>
                  </a:lnTo>
                  <a:lnTo>
                    <a:pt x="19498" y="7560"/>
                  </a:lnTo>
                  <a:lnTo>
                    <a:pt x="17397" y="11880"/>
                  </a:lnTo>
                  <a:lnTo>
                    <a:pt x="15295" y="16200"/>
                  </a:lnTo>
                  <a:lnTo>
                    <a:pt x="11909" y="19440"/>
                  </a:lnTo>
                  <a:lnTo>
                    <a:pt x="7706" y="21600"/>
                  </a:lnTo>
                  <a:lnTo>
                    <a:pt x="2102" y="21600"/>
                  </a:lnTo>
                  <a:lnTo>
                    <a:pt x="0" y="1080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02" name="AutoShape 7"/>
            <p:cNvSpPr/>
            <p:nvPr/>
          </p:nvSpPr>
          <p:spPr>
            <a:xfrm>
              <a:off x="8666280" y="4145040"/>
              <a:ext cx="1193760" cy="62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21129"/>
                  </a:lnTo>
                  <a:lnTo>
                    <a:pt x="246" y="19715"/>
                  </a:lnTo>
                  <a:lnTo>
                    <a:pt x="246" y="18772"/>
                  </a:lnTo>
                  <a:lnTo>
                    <a:pt x="493" y="17830"/>
                  </a:lnTo>
                  <a:lnTo>
                    <a:pt x="739" y="17359"/>
                  </a:lnTo>
                  <a:lnTo>
                    <a:pt x="1478" y="16887"/>
                  </a:lnTo>
                  <a:lnTo>
                    <a:pt x="3162" y="15945"/>
                  </a:lnTo>
                  <a:lnTo>
                    <a:pt x="5626" y="14060"/>
                  </a:lnTo>
                  <a:lnTo>
                    <a:pt x="8583" y="11232"/>
                  </a:lnTo>
                  <a:lnTo>
                    <a:pt x="10307" y="9425"/>
                  </a:lnTo>
                  <a:lnTo>
                    <a:pt x="12278" y="7540"/>
                  </a:lnTo>
                  <a:lnTo>
                    <a:pt x="16179" y="3770"/>
                  </a:lnTo>
                  <a:lnTo>
                    <a:pt x="18151" y="2356"/>
                  </a:lnTo>
                  <a:lnTo>
                    <a:pt x="19629" y="943"/>
                  </a:lnTo>
                  <a:lnTo>
                    <a:pt x="20614" y="471"/>
                  </a:lnTo>
                  <a:lnTo>
                    <a:pt x="21354" y="0"/>
                  </a:lnTo>
                  <a:lnTo>
                    <a:pt x="21600" y="0"/>
                  </a:lnTo>
                  <a:lnTo>
                    <a:pt x="21354" y="471"/>
                  </a:lnTo>
                  <a:lnTo>
                    <a:pt x="20861" y="943"/>
                  </a:lnTo>
                  <a:lnTo>
                    <a:pt x="19875" y="1885"/>
                  </a:lnTo>
                  <a:lnTo>
                    <a:pt x="18890" y="3299"/>
                  </a:lnTo>
                  <a:lnTo>
                    <a:pt x="17904" y="4241"/>
                  </a:lnTo>
                  <a:lnTo>
                    <a:pt x="16179" y="6127"/>
                  </a:lnTo>
                  <a:lnTo>
                    <a:pt x="13962" y="8483"/>
                  </a:lnTo>
                  <a:lnTo>
                    <a:pt x="11293" y="11232"/>
                  </a:lnTo>
                  <a:lnTo>
                    <a:pt x="5379" y="17359"/>
                  </a:lnTo>
                  <a:lnTo>
                    <a:pt x="2669" y="19715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03" name="AutoShape 8"/>
            <p:cNvSpPr/>
            <p:nvPr/>
          </p:nvSpPr>
          <p:spPr>
            <a:xfrm>
              <a:off x="8299440" y="4548240"/>
              <a:ext cx="1627200" cy="690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44" y="15247"/>
                  </a:moveTo>
                  <a:lnTo>
                    <a:pt x="903" y="17788"/>
                  </a:lnTo>
                  <a:lnTo>
                    <a:pt x="361" y="19906"/>
                  </a:lnTo>
                  <a:lnTo>
                    <a:pt x="181" y="21176"/>
                  </a:lnTo>
                  <a:lnTo>
                    <a:pt x="0" y="21600"/>
                  </a:lnTo>
                  <a:lnTo>
                    <a:pt x="1444" y="19482"/>
                  </a:lnTo>
                  <a:lnTo>
                    <a:pt x="2527" y="17788"/>
                  </a:lnTo>
                  <a:lnTo>
                    <a:pt x="3249" y="16518"/>
                  </a:lnTo>
                  <a:lnTo>
                    <a:pt x="3610" y="16094"/>
                  </a:lnTo>
                  <a:lnTo>
                    <a:pt x="3791" y="16094"/>
                  </a:lnTo>
                  <a:lnTo>
                    <a:pt x="4332" y="15671"/>
                  </a:lnTo>
                  <a:lnTo>
                    <a:pt x="5054" y="15247"/>
                  </a:lnTo>
                  <a:lnTo>
                    <a:pt x="5957" y="14400"/>
                  </a:lnTo>
                  <a:lnTo>
                    <a:pt x="8273" y="12706"/>
                  </a:lnTo>
                  <a:lnTo>
                    <a:pt x="11161" y="11012"/>
                  </a:lnTo>
                  <a:lnTo>
                    <a:pt x="13869" y="8894"/>
                  </a:lnTo>
                  <a:lnTo>
                    <a:pt x="16365" y="7200"/>
                  </a:lnTo>
                  <a:lnTo>
                    <a:pt x="17268" y="6353"/>
                  </a:lnTo>
                  <a:lnTo>
                    <a:pt x="18170" y="5929"/>
                  </a:lnTo>
                  <a:lnTo>
                    <a:pt x="18712" y="5506"/>
                  </a:lnTo>
                  <a:lnTo>
                    <a:pt x="18892" y="5082"/>
                  </a:lnTo>
                  <a:lnTo>
                    <a:pt x="19073" y="4659"/>
                  </a:lnTo>
                  <a:lnTo>
                    <a:pt x="19614" y="4235"/>
                  </a:lnTo>
                  <a:lnTo>
                    <a:pt x="20878" y="2118"/>
                  </a:lnTo>
                  <a:lnTo>
                    <a:pt x="21419" y="1271"/>
                  </a:lnTo>
                  <a:lnTo>
                    <a:pt x="21600" y="424"/>
                  </a:lnTo>
                  <a:lnTo>
                    <a:pt x="21419" y="0"/>
                  </a:lnTo>
                  <a:lnTo>
                    <a:pt x="20697" y="0"/>
                  </a:lnTo>
                  <a:lnTo>
                    <a:pt x="18892" y="0"/>
                  </a:lnTo>
                  <a:lnTo>
                    <a:pt x="17448" y="0"/>
                  </a:lnTo>
                  <a:lnTo>
                    <a:pt x="16365" y="0"/>
                  </a:lnTo>
                  <a:lnTo>
                    <a:pt x="15463" y="1271"/>
                  </a:lnTo>
                  <a:lnTo>
                    <a:pt x="14591" y="2965"/>
                  </a:lnTo>
                  <a:lnTo>
                    <a:pt x="14049" y="3812"/>
                  </a:lnTo>
                  <a:lnTo>
                    <a:pt x="13508" y="4235"/>
                  </a:lnTo>
                  <a:lnTo>
                    <a:pt x="12786" y="4235"/>
                  </a:lnTo>
                  <a:lnTo>
                    <a:pt x="11703" y="4659"/>
                  </a:lnTo>
                  <a:lnTo>
                    <a:pt x="10439" y="5929"/>
                  </a:lnTo>
                  <a:lnTo>
                    <a:pt x="9356" y="7624"/>
                  </a:lnTo>
                  <a:lnTo>
                    <a:pt x="8634" y="8894"/>
                  </a:lnTo>
                  <a:lnTo>
                    <a:pt x="8273" y="9318"/>
                  </a:lnTo>
                  <a:lnTo>
                    <a:pt x="7731" y="9741"/>
                  </a:lnTo>
                  <a:lnTo>
                    <a:pt x="6648" y="9741"/>
                  </a:lnTo>
                  <a:lnTo>
                    <a:pt x="5596" y="9741"/>
                  </a:lnTo>
                  <a:lnTo>
                    <a:pt x="5415" y="9741"/>
                  </a:lnTo>
                  <a:lnTo>
                    <a:pt x="5235" y="9741"/>
                  </a:lnTo>
                  <a:lnTo>
                    <a:pt x="3430" y="11435"/>
                  </a:lnTo>
                  <a:lnTo>
                    <a:pt x="1444" y="15247"/>
                  </a:lnTo>
                  <a:close/>
                  <a:moveTo>
                    <a:pt x="1444" y="15247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04" name="AutoShape 9"/>
            <p:cNvSpPr/>
            <p:nvPr/>
          </p:nvSpPr>
          <p:spPr>
            <a:xfrm>
              <a:off x="7580160" y="4267440"/>
              <a:ext cx="5423040" cy="198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87" y="883"/>
                  </a:moveTo>
                  <a:lnTo>
                    <a:pt x="20462" y="1177"/>
                  </a:lnTo>
                  <a:lnTo>
                    <a:pt x="20146" y="1324"/>
                  </a:lnTo>
                  <a:lnTo>
                    <a:pt x="19875" y="1324"/>
                  </a:lnTo>
                  <a:lnTo>
                    <a:pt x="19821" y="1324"/>
                  </a:lnTo>
                  <a:lnTo>
                    <a:pt x="19767" y="1324"/>
                  </a:lnTo>
                  <a:lnTo>
                    <a:pt x="19659" y="1471"/>
                  </a:lnTo>
                  <a:lnTo>
                    <a:pt x="19388" y="1618"/>
                  </a:lnTo>
                  <a:lnTo>
                    <a:pt x="19008" y="1912"/>
                  </a:lnTo>
                  <a:lnTo>
                    <a:pt x="18575" y="2182"/>
                  </a:lnTo>
                  <a:lnTo>
                    <a:pt x="18250" y="2476"/>
                  </a:lnTo>
                  <a:lnTo>
                    <a:pt x="18033" y="2623"/>
                  </a:lnTo>
                  <a:lnTo>
                    <a:pt x="17816" y="2770"/>
                  </a:lnTo>
                  <a:lnTo>
                    <a:pt x="17663" y="2918"/>
                  </a:lnTo>
                  <a:lnTo>
                    <a:pt x="17392" y="3212"/>
                  </a:lnTo>
                  <a:lnTo>
                    <a:pt x="17121" y="3359"/>
                  </a:lnTo>
                  <a:lnTo>
                    <a:pt x="16796" y="4094"/>
                  </a:lnTo>
                  <a:lnTo>
                    <a:pt x="16633" y="4683"/>
                  </a:lnTo>
                  <a:lnTo>
                    <a:pt x="16579" y="5418"/>
                  </a:lnTo>
                  <a:lnTo>
                    <a:pt x="16579" y="6007"/>
                  </a:lnTo>
                  <a:lnTo>
                    <a:pt x="16633" y="6595"/>
                  </a:lnTo>
                  <a:lnTo>
                    <a:pt x="16633" y="7184"/>
                  </a:lnTo>
                  <a:lnTo>
                    <a:pt x="16633" y="7478"/>
                  </a:lnTo>
                  <a:lnTo>
                    <a:pt x="16471" y="7919"/>
                  </a:lnTo>
                  <a:lnTo>
                    <a:pt x="16200" y="8066"/>
                  </a:lnTo>
                  <a:lnTo>
                    <a:pt x="15875" y="7772"/>
                  </a:lnTo>
                  <a:lnTo>
                    <a:pt x="15496" y="7331"/>
                  </a:lnTo>
                  <a:lnTo>
                    <a:pt x="14963" y="6742"/>
                  </a:lnTo>
                  <a:lnTo>
                    <a:pt x="14421" y="6448"/>
                  </a:lnTo>
                  <a:lnTo>
                    <a:pt x="13933" y="6301"/>
                  </a:lnTo>
                  <a:lnTo>
                    <a:pt x="13717" y="6301"/>
                  </a:lnTo>
                  <a:lnTo>
                    <a:pt x="13608" y="6301"/>
                  </a:lnTo>
                  <a:lnTo>
                    <a:pt x="13446" y="6448"/>
                  </a:lnTo>
                  <a:lnTo>
                    <a:pt x="13175" y="6742"/>
                  </a:lnTo>
                  <a:lnTo>
                    <a:pt x="12633" y="7625"/>
                  </a:lnTo>
                  <a:lnTo>
                    <a:pt x="12425" y="8066"/>
                  </a:lnTo>
                  <a:lnTo>
                    <a:pt x="12209" y="8361"/>
                  </a:lnTo>
                  <a:lnTo>
                    <a:pt x="12046" y="8655"/>
                  </a:lnTo>
                  <a:lnTo>
                    <a:pt x="11992" y="8802"/>
                  </a:lnTo>
                  <a:lnTo>
                    <a:pt x="11938" y="8802"/>
                  </a:lnTo>
                  <a:lnTo>
                    <a:pt x="11829" y="8802"/>
                  </a:lnTo>
                  <a:lnTo>
                    <a:pt x="11613" y="8949"/>
                  </a:lnTo>
                  <a:lnTo>
                    <a:pt x="11396" y="8949"/>
                  </a:lnTo>
                  <a:lnTo>
                    <a:pt x="10963" y="9096"/>
                  </a:lnTo>
                  <a:lnTo>
                    <a:pt x="10800" y="9096"/>
                  </a:lnTo>
                  <a:lnTo>
                    <a:pt x="10637" y="8949"/>
                  </a:lnTo>
                  <a:lnTo>
                    <a:pt x="10475" y="8949"/>
                  </a:lnTo>
                  <a:lnTo>
                    <a:pt x="10204" y="8949"/>
                  </a:lnTo>
                  <a:lnTo>
                    <a:pt x="9888" y="8949"/>
                  </a:lnTo>
                  <a:lnTo>
                    <a:pt x="9509" y="9096"/>
                  </a:lnTo>
                  <a:lnTo>
                    <a:pt x="9184" y="9243"/>
                  </a:lnTo>
                  <a:lnTo>
                    <a:pt x="8859" y="9243"/>
                  </a:lnTo>
                  <a:lnTo>
                    <a:pt x="8642" y="9390"/>
                  </a:lnTo>
                  <a:lnTo>
                    <a:pt x="8533" y="9537"/>
                  </a:lnTo>
                  <a:lnTo>
                    <a:pt x="8479" y="9684"/>
                  </a:lnTo>
                  <a:lnTo>
                    <a:pt x="8317" y="9832"/>
                  </a:lnTo>
                  <a:lnTo>
                    <a:pt x="7937" y="9979"/>
                  </a:lnTo>
                  <a:lnTo>
                    <a:pt x="7558" y="10273"/>
                  </a:lnTo>
                  <a:lnTo>
                    <a:pt x="7396" y="10273"/>
                  </a:lnTo>
                  <a:lnTo>
                    <a:pt x="7296" y="10273"/>
                  </a:lnTo>
                  <a:lnTo>
                    <a:pt x="7188" y="10273"/>
                  </a:lnTo>
                  <a:lnTo>
                    <a:pt x="7025" y="10273"/>
                  </a:lnTo>
                  <a:lnTo>
                    <a:pt x="6809" y="10273"/>
                  </a:lnTo>
                  <a:lnTo>
                    <a:pt x="6538" y="10420"/>
                  </a:lnTo>
                  <a:lnTo>
                    <a:pt x="5996" y="10714"/>
                  </a:lnTo>
                  <a:lnTo>
                    <a:pt x="5779" y="11008"/>
                  </a:lnTo>
                  <a:lnTo>
                    <a:pt x="5563" y="11303"/>
                  </a:lnTo>
                  <a:lnTo>
                    <a:pt x="5400" y="11597"/>
                  </a:lnTo>
                  <a:lnTo>
                    <a:pt x="5237" y="11597"/>
                  </a:lnTo>
                  <a:lnTo>
                    <a:pt x="4858" y="11597"/>
                  </a:lnTo>
                  <a:lnTo>
                    <a:pt x="4542" y="11450"/>
                  </a:lnTo>
                  <a:lnTo>
                    <a:pt x="4163" y="11597"/>
                  </a:lnTo>
                  <a:lnTo>
                    <a:pt x="4000" y="11744"/>
                  </a:lnTo>
                  <a:lnTo>
                    <a:pt x="3892" y="12038"/>
                  </a:lnTo>
                  <a:lnTo>
                    <a:pt x="3838" y="12479"/>
                  </a:lnTo>
                  <a:lnTo>
                    <a:pt x="3784" y="13068"/>
                  </a:lnTo>
                  <a:lnTo>
                    <a:pt x="3729" y="13215"/>
                  </a:lnTo>
                  <a:lnTo>
                    <a:pt x="3675" y="13362"/>
                  </a:lnTo>
                  <a:lnTo>
                    <a:pt x="3513" y="13509"/>
                  </a:lnTo>
                  <a:lnTo>
                    <a:pt x="3133" y="13951"/>
                  </a:lnTo>
                  <a:lnTo>
                    <a:pt x="2700" y="14392"/>
                  </a:lnTo>
                  <a:lnTo>
                    <a:pt x="2321" y="14539"/>
                  </a:lnTo>
                  <a:lnTo>
                    <a:pt x="2005" y="14686"/>
                  </a:lnTo>
                  <a:lnTo>
                    <a:pt x="1625" y="15127"/>
                  </a:lnTo>
                  <a:lnTo>
                    <a:pt x="1355" y="15716"/>
                  </a:lnTo>
                  <a:lnTo>
                    <a:pt x="1246" y="15863"/>
                  </a:lnTo>
                  <a:lnTo>
                    <a:pt x="1192" y="16010"/>
                  </a:lnTo>
                  <a:lnTo>
                    <a:pt x="1138" y="16157"/>
                  </a:lnTo>
                  <a:lnTo>
                    <a:pt x="975" y="16157"/>
                  </a:lnTo>
                  <a:lnTo>
                    <a:pt x="867" y="16010"/>
                  </a:lnTo>
                  <a:lnTo>
                    <a:pt x="813" y="16010"/>
                  </a:lnTo>
                  <a:lnTo>
                    <a:pt x="0" y="16451"/>
                  </a:lnTo>
                  <a:lnTo>
                    <a:pt x="108" y="16893"/>
                  </a:lnTo>
                  <a:lnTo>
                    <a:pt x="379" y="17040"/>
                  </a:lnTo>
                  <a:lnTo>
                    <a:pt x="759" y="17040"/>
                  </a:lnTo>
                  <a:lnTo>
                    <a:pt x="1192" y="16746"/>
                  </a:lnTo>
                  <a:lnTo>
                    <a:pt x="1734" y="16451"/>
                  </a:lnTo>
                  <a:lnTo>
                    <a:pt x="2375" y="16010"/>
                  </a:lnTo>
                  <a:lnTo>
                    <a:pt x="3025" y="15422"/>
                  </a:lnTo>
                  <a:lnTo>
                    <a:pt x="3675" y="14686"/>
                  </a:lnTo>
                  <a:lnTo>
                    <a:pt x="4271" y="13951"/>
                  </a:lnTo>
                  <a:lnTo>
                    <a:pt x="4759" y="13362"/>
                  </a:lnTo>
                  <a:lnTo>
                    <a:pt x="5075" y="12921"/>
                  </a:lnTo>
                  <a:lnTo>
                    <a:pt x="5129" y="12774"/>
                  </a:lnTo>
                  <a:lnTo>
                    <a:pt x="5183" y="12774"/>
                  </a:lnTo>
                  <a:lnTo>
                    <a:pt x="5454" y="12774"/>
                  </a:lnTo>
                  <a:lnTo>
                    <a:pt x="5833" y="12627"/>
                  </a:lnTo>
                  <a:lnTo>
                    <a:pt x="6429" y="12185"/>
                  </a:lnTo>
                  <a:lnTo>
                    <a:pt x="7134" y="11744"/>
                  </a:lnTo>
                  <a:lnTo>
                    <a:pt x="7883" y="11303"/>
                  </a:lnTo>
                  <a:lnTo>
                    <a:pt x="8696" y="10861"/>
                  </a:lnTo>
                  <a:lnTo>
                    <a:pt x="9563" y="10567"/>
                  </a:lnTo>
                  <a:lnTo>
                    <a:pt x="10367" y="10420"/>
                  </a:lnTo>
                  <a:lnTo>
                    <a:pt x="10637" y="10420"/>
                  </a:lnTo>
                  <a:lnTo>
                    <a:pt x="10963" y="10714"/>
                  </a:lnTo>
                  <a:lnTo>
                    <a:pt x="11667" y="11303"/>
                  </a:lnTo>
                  <a:lnTo>
                    <a:pt x="12100" y="11744"/>
                  </a:lnTo>
                  <a:lnTo>
                    <a:pt x="12480" y="12332"/>
                  </a:lnTo>
                  <a:lnTo>
                    <a:pt x="12796" y="13068"/>
                  </a:lnTo>
                  <a:lnTo>
                    <a:pt x="13012" y="13803"/>
                  </a:lnTo>
                  <a:lnTo>
                    <a:pt x="13067" y="14392"/>
                  </a:lnTo>
                  <a:lnTo>
                    <a:pt x="12958" y="15127"/>
                  </a:lnTo>
                  <a:lnTo>
                    <a:pt x="12850" y="15422"/>
                  </a:lnTo>
                  <a:lnTo>
                    <a:pt x="12687" y="15716"/>
                  </a:lnTo>
                  <a:lnTo>
                    <a:pt x="12425" y="16010"/>
                  </a:lnTo>
                  <a:lnTo>
                    <a:pt x="12155" y="16304"/>
                  </a:lnTo>
                  <a:lnTo>
                    <a:pt x="11559" y="16746"/>
                  </a:lnTo>
                  <a:lnTo>
                    <a:pt x="11071" y="17187"/>
                  </a:lnTo>
                  <a:lnTo>
                    <a:pt x="10637" y="17628"/>
                  </a:lnTo>
                  <a:lnTo>
                    <a:pt x="10312" y="18217"/>
                  </a:lnTo>
                  <a:lnTo>
                    <a:pt x="10041" y="18511"/>
                  </a:lnTo>
                  <a:lnTo>
                    <a:pt x="9834" y="18952"/>
                  </a:lnTo>
                  <a:lnTo>
                    <a:pt x="9725" y="19393"/>
                  </a:lnTo>
                  <a:lnTo>
                    <a:pt x="9617" y="19835"/>
                  </a:lnTo>
                  <a:lnTo>
                    <a:pt x="9563" y="20423"/>
                  </a:lnTo>
                  <a:lnTo>
                    <a:pt x="9617" y="21012"/>
                  </a:lnTo>
                  <a:lnTo>
                    <a:pt x="9725" y="21306"/>
                  </a:lnTo>
                  <a:lnTo>
                    <a:pt x="9780" y="21453"/>
                  </a:lnTo>
                  <a:lnTo>
                    <a:pt x="9834" y="21600"/>
                  </a:lnTo>
                  <a:lnTo>
                    <a:pt x="9987" y="21600"/>
                  </a:lnTo>
                  <a:lnTo>
                    <a:pt x="10150" y="21453"/>
                  </a:lnTo>
                  <a:lnTo>
                    <a:pt x="10367" y="21453"/>
                  </a:lnTo>
                  <a:lnTo>
                    <a:pt x="10908" y="21306"/>
                  </a:lnTo>
                  <a:lnTo>
                    <a:pt x="11450" y="21159"/>
                  </a:lnTo>
                  <a:lnTo>
                    <a:pt x="11992" y="21159"/>
                  </a:lnTo>
                  <a:lnTo>
                    <a:pt x="12534" y="21012"/>
                  </a:lnTo>
                  <a:lnTo>
                    <a:pt x="12741" y="21012"/>
                  </a:lnTo>
                  <a:lnTo>
                    <a:pt x="12904" y="20864"/>
                  </a:lnTo>
                  <a:lnTo>
                    <a:pt x="13012" y="20864"/>
                  </a:lnTo>
                  <a:lnTo>
                    <a:pt x="13067" y="20864"/>
                  </a:lnTo>
                  <a:lnTo>
                    <a:pt x="13175" y="20717"/>
                  </a:lnTo>
                  <a:lnTo>
                    <a:pt x="13392" y="20423"/>
                  </a:lnTo>
                  <a:lnTo>
                    <a:pt x="13771" y="19982"/>
                  </a:lnTo>
                  <a:lnTo>
                    <a:pt x="14204" y="19393"/>
                  </a:lnTo>
                  <a:lnTo>
                    <a:pt x="15125" y="18217"/>
                  </a:lnTo>
                  <a:lnTo>
                    <a:pt x="15496" y="17775"/>
                  </a:lnTo>
                  <a:lnTo>
                    <a:pt x="15821" y="17481"/>
                  </a:lnTo>
                  <a:lnTo>
                    <a:pt x="16308" y="16893"/>
                  </a:lnTo>
                  <a:lnTo>
                    <a:pt x="16633" y="16010"/>
                  </a:lnTo>
                  <a:lnTo>
                    <a:pt x="16850" y="14980"/>
                  </a:lnTo>
                  <a:lnTo>
                    <a:pt x="17013" y="14245"/>
                  </a:lnTo>
                  <a:lnTo>
                    <a:pt x="17392" y="12627"/>
                  </a:lnTo>
                  <a:lnTo>
                    <a:pt x="17871" y="11008"/>
                  </a:lnTo>
                  <a:lnTo>
                    <a:pt x="18412" y="9537"/>
                  </a:lnTo>
                  <a:lnTo>
                    <a:pt x="19008" y="8361"/>
                  </a:lnTo>
                  <a:lnTo>
                    <a:pt x="19496" y="7331"/>
                  </a:lnTo>
                  <a:lnTo>
                    <a:pt x="19929" y="6595"/>
                  </a:lnTo>
                  <a:lnTo>
                    <a:pt x="20200" y="6007"/>
                  </a:lnTo>
                  <a:lnTo>
                    <a:pt x="20309" y="5860"/>
                  </a:lnTo>
                  <a:lnTo>
                    <a:pt x="21600" y="4094"/>
                  </a:lnTo>
                  <a:lnTo>
                    <a:pt x="21600" y="1471"/>
                  </a:lnTo>
                  <a:lnTo>
                    <a:pt x="21600" y="0"/>
                  </a:lnTo>
                  <a:lnTo>
                    <a:pt x="21167" y="441"/>
                  </a:lnTo>
                  <a:lnTo>
                    <a:pt x="20787" y="883"/>
                  </a:lnTo>
                  <a:close/>
                  <a:moveTo>
                    <a:pt x="20787" y="883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05" name="AutoShape 10"/>
            <p:cNvSpPr/>
            <p:nvPr/>
          </p:nvSpPr>
          <p:spPr>
            <a:xfrm>
              <a:off x="8666280" y="4184640"/>
              <a:ext cx="1303200" cy="58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78" y="20591"/>
                  </a:moveTo>
                  <a:lnTo>
                    <a:pt x="707" y="21096"/>
                  </a:lnTo>
                  <a:lnTo>
                    <a:pt x="236" y="21600"/>
                  </a:lnTo>
                  <a:lnTo>
                    <a:pt x="0" y="21600"/>
                  </a:lnTo>
                  <a:lnTo>
                    <a:pt x="11978" y="9497"/>
                  </a:lnTo>
                  <a:lnTo>
                    <a:pt x="20422" y="0"/>
                  </a:lnTo>
                  <a:lnTo>
                    <a:pt x="20657" y="504"/>
                  </a:lnTo>
                  <a:lnTo>
                    <a:pt x="21364" y="1513"/>
                  </a:lnTo>
                  <a:lnTo>
                    <a:pt x="21600" y="2017"/>
                  </a:lnTo>
                  <a:lnTo>
                    <a:pt x="21600" y="3026"/>
                  </a:lnTo>
                  <a:lnTo>
                    <a:pt x="21364" y="3530"/>
                  </a:lnTo>
                  <a:lnTo>
                    <a:pt x="20657" y="4539"/>
                  </a:lnTo>
                  <a:lnTo>
                    <a:pt x="20186" y="5043"/>
                  </a:lnTo>
                  <a:lnTo>
                    <a:pt x="19715" y="5547"/>
                  </a:lnTo>
                  <a:lnTo>
                    <a:pt x="17594" y="7060"/>
                  </a:lnTo>
                  <a:lnTo>
                    <a:pt x="15002" y="9497"/>
                  </a:lnTo>
                  <a:lnTo>
                    <a:pt x="11978" y="12019"/>
                  </a:lnTo>
                  <a:lnTo>
                    <a:pt x="8915" y="14540"/>
                  </a:lnTo>
                  <a:lnTo>
                    <a:pt x="5852" y="17061"/>
                  </a:lnTo>
                  <a:lnTo>
                    <a:pt x="3260" y="19079"/>
                  </a:lnTo>
                  <a:lnTo>
                    <a:pt x="1178" y="20591"/>
                  </a:lnTo>
                  <a:close/>
                  <a:moveTo>
                    <a:pt x="1178" y="20591"/>
                  </a:move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06" name="Freeform 11"/>
            <p:cNvSpPr/>
            <p:nvPr/>
          </p:nvSpPr>
          <p:spPr>
            <a:xfrm>
              <a:off x="8666280" y="3898800"/>
              <a:ext cx="1617480" cy="86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880" y="338"/>
                  </a:moveTo>
                  <a:lnTo>
                    <a:pt x="17739" y="2369"/>
                  </a:lnTo>
                  <a:lnTo>
                    <a:pt x="15536" y="4737"/>
                  </a:lnTo>
                  <a:lnTo>
                    <a:pt x="15355" y="5076"/>
                  </a:lnTo>
                  <a:lnTo>
                    <a:pt x="14631" y="5752"/>
                  </a:lnTo>
                  <a:lnTo>
                    <a:pt x="13726" y="6768"/>
                  </a:lnTo>
                  <a:lnTo>
                    <a:pt x="12821" y="7783"/>
                  </a:lnTo>
                  <a:lnTo>
                    <a:pt x="11192" y="9475"/>
                  </a:lnTo>
                  <a:lnTo>
                    <a:pt x="9231" y="11167"/>
                  </a:lnTo>
                  <a:lnTo>
                    <a:pt x="5611" y="14156"/>
                  </a:lnTo>
                  <a:lnTo>
                    <a:pt x="3952" y="15171"/>
                  </a:lnTo>
                  <a:lnTo>
                    <a:pt x="2685" y="16186"/>
                  </a:lnTo>
                  <a:lnTo>
                    <a:pt x="1599" y="17201"/>
                  </a:lnTo>
                  <a:lnTo>
                    <a:pt x="1086" y="17539"/>
                  </a:lnTo>
                  <a:lnTo>
                    <a:pt x="362" y="18555"/>
                  </a:lnTo>
                  <a:lnTo>
                    <a:pt x="0" y="19908"/>
                  </a:lnTo>
                  <a:lnTo>
                    <a:pt x="0" y="20923"/>
                  </a:lnTo>
                  <a:lnTo>
                    <a:pt x="0" y="21600"/>
                  </a:lnTo>
                  <a:lnTo>
                    <a:pt x="362" y="20923"/>
                  </a:lnTo>
                  <a:lnTo>
                    <a:pt x="905" y="19908"/>
                  </a:lnTo>
                  <a:lnTo>
                    <a:pt x="1599" y="18893"/>
                  </a:lnTo>
                  <a:lnTo>
                    <a:pt x="2323" y="17878"/>
                  </a:lnTo>
                  <a:lnTo>
                    <a:pt x="3047" y="17539"/>
                  </a:lnTo>
                  <a:lnTo>
                    <a:pt x="3952" y="16863"/>
                  </a:lnTo>
                  <a:lnTo>
                    <a:pt x="6154" y="15171"/>
                  </a:lnTo>
                  <a:lnTo>
                    <a:pt x="7240" y="14156"/>
                  </a:lnTo>
                  <a:lnTo>
                    <a:pt x="8145" y="13479"/>
                  </a:lnTo>
                  <a:lnTo>
                    <a:pt x="8869" y="12858"/>
                  </a:lnTo>
                  <a:lnTo>
                    <a:pt x="9412" y="12520"/>
                  </a:lnTo>
                  <a:lnTo>
                    <a:pt x="9955" y="11843"/>
                  </a:lnTo>
                  <a:lnTo>
                    <a:pt x="11011" y="10490"/>
                  </a:lnTo>
                  <a:lnTo>
                    <a:pt x="12640" y="8798"/>
                  </a:lnTo>
                  <a:lnTo>
                    <a:pt x="14269" y="6768"/>
                  </a:lnTo>
                  <a:lnTo>
                    <a:pt x="15898" y="5076"/>
                  </a:lnTo>
                  <a:lnTo>
                    <a:pt x="17377" y="3384"/>
                  </a:lnTo>
                  <a:lnTo>
                    <a:pt x="18463" y="2369"/>
                  </a:lnTo>
                  <a:lnTo>
                    <a:pt x="18975" y="2030"/>
                  </a:lnTo>
                  <a:lnTo>
                    <a:pt x="19518" y="1692"/>
                  </a:lnTo>
                  <a:lnTo>
                    <a:pt x="20423" y="1015"/>
                  </a:lnTo>
                  <a:lnTo>
                    <a:pt x="21147" y="338"/>
                  </a:lnTo>
                  <a:lnTo>
                    <a:pt x="21509" y="0"/>
                  </a:lnTo>
                  <a:lnTo>
                    <a:pt x="19880" y="338"/>
                  </a:lnTo>
                  <a:lnTo>
                    <a:pt x="21600" y="355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07" name="Freeform 12"/>
            <p:cNvSpPr/>
            <p:nvPr/>
          </p:nvSpPr>
          <p:spPr>
            <a:xfrm>
              <a:off x="7794720" y="5126040"/>
              <a:ext cx="718920" cy="50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08" y="21600"/>
                  </a:moveTo>
                  <a:lnTo>
                    <a:pt x="0" y="18720"/>
                  </a:lnTo>
                  <a:lnTo>
                    <a:pt x="21396" y="0"/>
                  </a:lnTo>
                  <a:lnTo>
                    <a:pt x="20581" y="2592"/>
                  </a:lnTo>
                  <a:lnTo>
                    <a:pt x="21600" y="403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08" name="AutoShape 13"/>
            <p:cNvSpPr/>
            <p:nvPr/>
          </p:nvSpPr>
          <p:spPr>
            <a:xfrm>
              <a:off x="0" y="6000840"/>
              <a:ext cx="5857920" cy="2106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166" y="15627"/>
                  </a:moveTo>
                  <a:lnTo>
                    <a:pt x="8740" y="15210"/>
                  </a:lnTo>
                  <a:lnTo>
                    <a:pt x="9514" y="15071"/>
                  </a:lnTo>
                  <a:lnTo>
                    <a:pt x="13160" y="15974"/>
                  </a:lnTo>
                  <a:lnTo>
                    <a:pt x="13509" y="17086"/>
                  </a:lnTo>
                  <a:lnTo>
                    <a:pt x="13909" y="16738"/>
                  </a:lnTo>
                  <a:lnTo>
                    <a:pt x="13784" y="15627"/>
                  </a:lnTo>
                  <a:lnTo>
                    <a:pt x="9789" y="14377"/>
                  </a:lnTo>
                  <a:lnTo>
                    <a:pt x="14958" y="12363"/>
                  </a:lnTo>
                  <a:lnTo>
                    <a:pt x="15432" y="13127"/>
                  </a:lnTo>
                  <a:lnTo>
                    <a:pt x="15657" y="13543"/>
                  </a:lnTo>
                  <a:lnTo>
                    <a:pt x="15557" y="14168"/>
                  </a:lnTo>
                  <a:lnTo>
                    <a:pt x="16606" y="19725"/>
                  </a:lnTo>
                  <a:lnTo>
                    <a:pt x="17505" y="19933"/>
                  </a:lnTo>
                  <a:lnTo>
                    <a:pt x="15723" y="12455"/>
                  </a:lnTo>
                  <a:lnTo>
                    <a:pt x="15674" y="12039"/>
                  </a:lnTo>
                  <a:lnTo>
                    <a:pt x="15582" y="11761"/>
                  </a:lnTo>
                  <a:lnTo>
                    <a:pt x="15332" y="11344"/>
                  </a:lnTo>
                  <a:lnTo>
                    <a:pt x="15033" y="11066"/>
                  </a:lnTo>
                  <a:lnTo>
                    <a:pt x="14733" y="10788"/>
                  </a:lnTo>
                  <a:lnTo>
                    <a:pt x="14583" y="10511"/>
                  </a:lnTo>
                  <a:lnTo>
                    <a:pt x="14483" y="10372"/>
                  </a:lnTo>
                  <a:lnTo>
                    <a:pt x="14533" y="10094"/>
                  </a:lnTo>
                  <a:lnTo>
                    <a:pt x="14633" y="10094"/>
                  </a:lnTo>
                  <a:lnTo>
                    <a:pt x="14833" y="9955"/>
                  </a:lnTo>
                  <a:lnTo>
                    <a:pt x="15232" y="9955"/>
                  </a:lnTo>
                  <a:lnTo>
                    <a:pt x="15432" y="9955"/>
                  </a:lnTo>
                  <a:lnTo>
                    <a:pt x="15624" y="9816"/>
                  </a:lnTo>
                  <a:lnTo>
                    <a:pt x="16023" y="9260"/>
                  </a:lnTo>
                  <a:lnTo>
                    <a:pt x="16273" y="9122"/>
                  </a:lnTo>
                  <a:lnTo>
                    <a:pt x="16473" y="9122"/>
                  </a:lnTo>
                  <a:lnTo>
                    <a:pt x="17080" y="9168"/>
                  </a:lnTo>
                  <a:lnTo>
                    <a:pt x="17030" y="10557"/>
                  </a:lnTo>
                  <a:lnTo>
                    <a:pt x="18753" y="16947"/>
                  </a:lnTo>
                  <a:lnTo>
                    <a:pt x="19428" y="18891"/>
                  </a:lnTo>
                  <a:lnTo>
                    <a:pt x="20102" y="21600"/>
                  </a:lnTo>
                  <a:lnTo>
                    <a:pt x="20227" y="21044"/>
                  </a:lnTo>
                  <a:lnTo>
                    <a:pt x="19952" y="19169"/>
                  </a:lnTo>
                  <a:lnTo>
                    <a:pt x="17430" y="9538"/>
                  </a:lnTo>
                  <a:lnTo>
                    <a:pt x="17380" y="9260"/>
                  </a:lnTo>
                  <a:lnTo>
                    <a:pt x="17280" y="8705"/>
                  </a:lnTo>
                  <a:lnTo>
                    <a:pt x="17030" y="8010"/>
                  </a:lnTo>
                  <a:lnTo>
                    <a:pt x="16772" y="7455"/>
                  </a:lnTo>
                  <a:lnTo>
                    <a:pt x="16622" y="7038"/>
                  </a:lnTo>
                  <a:lnTo>
                    <a:pt x="16473" y="6760"/>
                  </a:lnTo>
                  <a:lnTo>
                    <a:pt x="16373" y="6621"/>
                  </a:lnTo>
                  <a:lnTo>
                    <a:pt x="16423" y="6621"/>
                  </a:lnTo>
                  <a:lnTo>
                    <a:pt x="16523" y="6621"/>
                  </a:lnTo>
                  <a:lnTo>
                    <a:pt x="16722" y="6621"/>
                  </a:lnTo>
                  <a:lnTo>
                    <a:pt x="16980" y="6899"/>
                  </a:lnTo>
                  <a:lnTo>
                    <a:pt x="17330" y="7455"/>
                  </a:lnTo>
                  <a:lnTo>
                    <a:pt x="17680" y="8057"/>
                  </a:lnTo>
                  <a:lnTo>
                    <a:pt x="18304" y="8890"/>
                  </a:lnTo>
                  <a:lnTo>
                    <a:pt x="19353" y="9862"/>
                  </a:lnTo>
                  <a:lnTo>
                    <a:pt x="19927" y="10372"/>
                  </a:lnTo>
                  <a:lnTo>
                    <a:pt x="21001" y="12085"/>
                  </a:lnTo>
                  <a:lnTo>
                    <a:pt x="21600" y="11946"/>
                  </a:lnTo>
                  <a:lnTo>
                    <a:pt x="20326" y="10511"/>
                  </a:lnTo>
                  <a:lnTo>
                    <a:pt x="19877" y="9816"/>
                  </a:lnTo>
                  <a:lnTo>
                    <a:pt x="19369" y="8983"/>
                  </a:lnTo>
                  <a:lnTo>
                    <a:pt x="18470" y="7871"/>
                  </a:lnTo>
                  <a:lnTo>
                    <a:pt x="17530" y="6760"/>
                  </a:lnTo>
                  <a:lnTo>
                    <a:pt x="17080" y="6482"/>
                  </a:lnTo>
                  <a:lnTo>
                    <a:pt x="16672" y="6205"/>
                  </a:lnTo>
                  <a:lnTo>
                    <a:pt x="16273" y="6066"/>
                  </a:lnTo>
                  <a:lnTo>
                    <a:pt x="15973" y="6205"/>
                  </a:lnTo>
                  <a:lnTo>
                    <a:pt x="15624" y="6343"/>
                  </a:lnTo>
                  <a:lnTo>
                    <a:pt x="15083" y="6343"/>
                  </a:lnTo>
                  <a:lnTo>
                    <a:pt x="14583" y="6343"/>
                  </a:lnTo>
                  <a:lnTo>
                    <a:pt x="14175" y="6621"/>
                  </a:lnTo>
                  <a:lnTo>
                    <a:pt x="13826" y="6760"/>
                  </a:lnTo>
                  <a:lnTo>
                    <a:pt x="13576" y="7038"/>
                  </a:lnTo>
                  <a:lnTo>
                    <a:pt x="13376" y="7316"/>
                  </a:lnTo>
                  <a:lnTo>
                    <a:pt x="13276" y="7455"/>
                  </a:lnTo>
                  <a:lnTo>
                    <a:pt x="13226" y="7455"/>
                  </a:lnTo>
                  <a:lnTo>
                    <a:pt x="12486" y="7732"/>
                  </a:lnTo>
                  <a:lnTo>
                    <a:pt x="11728" y="8288"/>
                  </a:lnTo>
                  <a:lnTo>
                    <a:pt x="10288" y="9677"/>
                  </a:lnTo>
                  <a:lnTo>
                    <a:pt x="9589" y="10233"/>
                  </a:lnTo>
                  <a:lnTo>
                    <a:pt x="8831" y="10650"/>
                  </a:lnTo>
                  <a:lnTo>
                    <a:pt x="8041" y="10650"/>
                  </a:lnTo>
                  <a:lnTo>
                    <a:pt x="7641" y="10511"/>
                  </a:lnTo>
                  <a:lnTo>
                    <a:pt x="7242" y="10233"/>
                  </a:lnTo>
                  <a:lnTo>
                    <a:pt x="7142" y="10094"/>
                  </a:lnTo>
                  <a:lnTo>
                    <a:pt x="6892" y="9955"/>
                  </a:lnTo>
                  <a:lnTo>
                    <a:pt x="6584" y="9538"/>
                  </a:lnTo>
                  <a:lnTo>
                    <a:pt x="6185" y="8983"/>
                  </a:lnTo>
                  <a:lnTo>
                    <a:pt x="5743" y="8427"/>
                  </a:lnTo>
                  <a:lnTo>
                    <a:pt x="5294" y="7732"/>
                  </a:lnTo>
                  <a:lnTo>
                    <a:pt x="4287" y="6482"/>
                  </a:lnTo>
                  <a:lnTo>
                    <a:pt x="3887" y="5927"/>
                  </a:lnTo>
                  <a:lnTo>
                    <a:pt x="3687" y="5649"/>
                  </a:lnTo>
                  <a:lnTo>
                    <a:pt x="0" y="0"/>
                  </a:lnTo>
                  <a:lnTo>
                    <a:pt x="1024" y="2778"/>
                  </a:lnTo>
                  <a:lnTo>
                    <a:pt x="4869" y="9029"/>
                  </a:lnTo>
                  <a:lnTo>
                    <a:pt x="5893" y="10696"/>
                  </a:lnTo>
                  <a:lnTo>
                    <a:pt x="7067" y="12571"/>
                  </a:lnTo>
                  <a:lnTo>
                    <a:pt x="7342" y="13057"/>
                  </a:lnTo>
                  <a:lnTo>
                    <a:pt x="7466" y="14377"/>
                  </a:lnTo>
                  <a:lnTo>
                    <a:pt x="8166" y="15627"/>
                  </a:lnTo>
                  <a:close/>
                  <a:moveTo>
                    <a:pt x="8166" y="15627"/>
                  </a:move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09" name="AutoShape 14"/>
            <p:cNvSpPr/>
            <p:nvPr/>
          </p:nvSpPr>
          <p:spPr>
            <a:xfrm>
              <a:off x="0" y="6759720"/>
              <a:ext cx="6146640" cy="246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5920"/>
                  </a:moveTo>
                  <a:lnTo>
                    <a:pt x="21537" y="4752"/>
                  </a:lnTo>
                  <a:lnTo>
                    <a:pt x="21069" y="3861"/>
                  </a:lnTo>
                  <a:lnTo>
                    <a:pt x="18800" y="1425"/>
                  </a:lnTo>
                  <a:lnTo>
                    <a:pt x="18268" y="1069"/>
                  </a:lnTo>
                  <a:lnTo>
                    <a:pt x="20505" y="3682"/>
                  </a:lnTo>
                  <a:lnTo>
                    <a:pt x="20553" y="3801"/>
                  </a:lnTo>
                  <a:lnTo>
                    <a:pt x="20601" y="3920"/>
                  </a:lnTo>
                  <a:lnTo>
                    <a:pt x="20791" y="4514"/>
                  </a:lnTo>
                  <a:lnTo>
                    <a:pt x="20934" y="5108"/>
                  </a:lnTo>
                  <a:lnTo>
                    <a:pt x="20989" y="5346"/>
                  </a:lnTo>
                  <a:lnTo>
                    <a:pt x="20934" y="5464"/>
                  </a:lnTo>
                  <a:lnTo>
                    <a:pt x="20648" y="5583"/>
                  </a:lnTo>
                  <a:lnTo>
                    <a:pt x="20267" y="5583"/>
                  </a:lnTo>
                  <a:lnTo>
                    <a:pt x="19887" y="5464"/>
                  </a:lnTo>
                  <a:lnTo>
                    <a:pt x="19458" y="5227"/>
                  </a:lnTo>
                  <a:lnTo>
                    <a:pt x="18990" y="4870"/>
                  </a:lnTo>
                  <a:lnTo>
                    <a:pt x="18562" y="4395"/>
                  </a:lnTo>
                  <a:lnTo>
                    <a:pt x="18411" y="4276"/>
                  </a:lnTo>
                  <a:lnTo>
                    <a:pt x="18221" y="4039"/>
                  </a:lnTo>
                  <a:lnTo>
                    <a:pt x="17221" y="2495"/>
                  </a:lnTo>
                  <a:lnTo>
                    <a:pt x="17174" y="2376"/>
                  </a:lnTo>
                  <a:lnTo>
                    <a:pt x="17086" y="2019"/>
                  </a:lnTo>
                  <a:lnTo>
                    <a:pt x="16753" y="1307"/>
                  </a:lnTo>
                  <a:lnTo>
                    <a:pt x="16373" y="475"/>
                  </a:lnTo>
                  <a:lnTo>
                    <a:pt x="16230" y="119"/>
                  </a:lnTo>
                  <a:lnTo>
                    <a:pt x="16135" y="0"/>
                  </a:lnTo>
                  <a:lnTo>
                    <a:pt x="16563" y="1425"/>
                  </a:lnTo>
                  <a:lnTo>
                    <a:pt x="16706" y="2138"/>
                  </a:lnTo>
                  <a:lnTo>
                    <a:pt x="16706" y="2257"/>
                  </a:lnTo>
                  <a:lnTo>
                    <a:pt x="16753" y="2257"/>
                  </a:lnTo>
                  <a:lnTo>
                    <a:pt x="19085" y="10216"/>
                  </a:lnTo>
                  <a:lnTo>
                    <a:pt x="19133" y="10572"/>
                  </a:lnTo>
                  <a:lnTo>
                    <a:pt x="19133" y="10929"/>
                  </a:lnTo>
                  <a:lnTo>
                    <a:pt x="18990" y="11404"/>
                  </a:lnTo>
                  <a:lnTo>
                    <a:pt x="18752" y="11641"/>
                  </a:lnTo>
                  <a:lnTo>
                    <a:pt x="18411" y="11641"/>
                  </a:lnTo>
                  <a:lnTo>
                    <a:pt x="18078" y="11166"/>
                  </a:lnTo>
                  <a:lnTo>
                    <a:pt x="17745" y="10572"/>
                  </a:lnTo>
                  <a:lnTo>
                    <a:pt x="17459" y="9978"/>
                  </a:lnTo>
                  <a:lnTo>
                    <a:pt x="17412" y="9860"/>
                  </a:lnTo>
                  <a:lnTo>
                    <a:pt x="17364" y="9741"/>
                  </a:lnTo>
                  <a:lnTo>
                    <a:pt x="17221" y="9147"/>
                  </a:lnTo>
                  <a:lnTo>
                    <a:pt x="16991" y="8315"/>
                  </a:lnTo>
                  <a:lnTo>
                    <a:pt x="16658" y="7484"/>
                  </a:lnTo>
                  <a:lnTo>
                    <a:pt x="16325" y="6533"/>
                  </a:lnTo>
                  <a:lnTo>
                    <a:pt x="16182" y="6296"/>
                  </a:lnTo>
                  <a:lnTo>
                    <a:pt x="16087" y="5940"/>
                  </a:lnTo>
                  <a:lnTo>
                    <a:pt x="15936" y="5227"/>
                  </a:lnTo>
                  <a:lnTo>
                    <a:pt x="15793" y="4633"/>
                  </a:lnTo>
                  <a:lnTo>
                    <a:pt x="15746" y="4158"/>
                  </a:lnTo>
                  <a:lnTo>
                    <a:pt x="15651" y="3801"/>
                  </a:lnTo>
                  <a:lnTo>
                    <a:pt x="15603" y="3564"/>
                  </a:lnTo>
                  <a:lnTo>
                    <a:pt x="15460" y="3445"/>
                  </a:lnTo>
                  <a:lnTo>
                    <a:pt x="15127" y="3089"/>
                  </a:lnTo>
                  <a:lnTo>
                    <a:pt x="14754" y="2732"/>
                  </a:lnTo>
                  <a:lnTo>
                    <a:pt x="14564" y="2613"/>
                  </a:lnTo>
                  <a:lnTo>
                    <a:pt x="14469" y="2613"/>
                  </a:lnTo>
                  <a:lnTo>
                    <a:pt x="14326" y="2613"/>
                  </a:lnTo>
                  <a:lnTo>
                    <a:pt x="14278" y="2732"/>
                  </a:lnTo>
                  <a:lnTo>
                    <a:pt x="14231" y="2851"/>
                  </a:lnTo>
                  <a:lnTo>
                    <a:pt x="14612" y="3089"/>
                  </a:lnTo>
                  <a:lnTo>
                    <a:pt x="14850" y="3564"/>
                  </a:lnTo>
                  <a:lnTo>
                    <a:pt x="14984" y="4039"/>
                  </a:lnTo>
                  <a:lnTo>
                    <a:pt x="15032" y="4395"/>
                  </a:lnTo>
                  <a:lnTo>
                    <a:pt x="14984" y="4752"/>
                  </a:lnTo>
                  <a:lnTo>
                    <a:pt x="15080" y="5346"/>
                  </a:lnTo>
                  <a:lnTo>
                    <a:pt x="15222" y="6296"/>
                  </a:lnTo>
                  <a:lnTo>
                    <a:pt x="15413" y="7246"/>
                  </a:lnTo>
                  <a:lnTo>
                    <a:pt x="15793" y="9503"/>
                  </a:lnTo>
                  <a:lnTo>
                    <a:pt x="16031" y="10572"/>
                  </a:lnTo>
                  <a:lnTo>
                    <a:pt x="16182" y="11523"/>
                  </a:lnTo>
                  <a:lnTo>
                    <a:pt x="16373" y="12473"/>
                  </a:lnTo>
                  <a:lnTo>
                    <a:pt x="16468" y="13186"/>
                  </a:lnTo>
                  <a:lnTo>
                    <a:pt x="16515" y="13522"/>
                  </a:lnTo>
                  <a:lnTo>
                    <a:pt x="16420" y="13760"/>
                  </a:lnTo>
                  <a:lnTo>
                    <a:pt x="16277" y="13760"/>
                  </a:lnTo>
                  <a:lnTo>
                    <a:pt x="16031" y="13760"/>
                  </a:lnTo>
                  <a:lnTo>
                    <a:pt x="15841" y="13760"/>
                  </a:lnTo>
                  <a:lnTo>
                    <a:pt x="15651" y="13641"/>
                  </a:lnTo>
                  <a:lnTo>
                    <a:pt x="15508" y="13522"/>
                  </a:lnTo>
                  <a:lnTo>
                    <a:pt x="15460" y="13522"/>
                  </a:lnTo>
                  <a:lnTo>
                    <a:pt x="15460" y="13403"/>
                  </a:lnTo>
                  <a:lnTo>
                    <a:pt x="15413" y="13304"/>
                  </a:lnTo>
                  <a:lnTo>
                    <a:pt x="15175" y="12592"/>
                  </a:lnTo>
                  <a:lnTo>
                    <a:pt x="14326" y="6415"/>
                  </a:lnTo>
                  <a:lnTo>
                    <a:pt x="14088" y="6533"/>
                  </a:lnTo>
                  <a:lnTo>
                    <a:pt x="13850" y="6533"/>
                  </a:lnTo>
                  <a:lnTo>
                    <a:pt x="13509" y="6177"/>
                  </a:lnTo>
                  <a:lnTo>
                    <a:pt x="13271" y="5702"/>
                  </a:lnTo>
                  <a:lnTo>
                    <a:pt x="13223" y="5464"/>
                  </a:lnTo>
                  <a:lnTo>
                    <a:pt x="13128" y="5346"/>
                  </a:lnTo>
                  <a:lnTo>
                    <a:pt x="12985" y="5464"/>
                  </a:lnTo>
                  <a:lnTo>
                    <a:pt x="12938" y="5702"/>
                  </a:lnTo>
                  <a:lnTo>
                    <a:pt x="12890" y="6058"/>
                  </a:lnTo>
                  <a:lnTo>
                    <a:pt x="12890" y="6177"/>
                  </a:lnTo>
                  <a:lnTo>
                    <a:pt x="13033" y="6296"/>
                  </a:lnTo>
                  <a:lnTo>
                    <a:pt x="13128" y="6652"/>
                  </a:lnTo>
                  <a:lnTo>
                    <a:pt x="13223" y="7246"/>
                  </a:lnTo>
                  <a:lnTo>
                    <a:pt x="13271" y="7959"/>
                  </a:lnTo>
                  <a:lnTo>
                    <a:pt x="13271" y="8078"/>
                  </a:lnTo>
                  <a:lnTo>
                    <a:pt x="13271" y="8197"/>
                  </a:lnTo>
                  <a:lnTo>
                    <a:pt x="13612" y="15067"/>
                  </a:lnTo>
                  <a:lnTo>
                    <a:pt x="13612" y="15304"/>
                  </a:lnTo>
                  <a:lnTo>
                    <a:pt x="13612" y="15423"/>
                  </a:lnTo>
                  <a:lnTo>
                    <a:pt x="13557" y="15304"/>
                  </a:lnTo>
                  <a:lnTo>
                    <a:pt x="13509" y="14948"/>
                  </a:lnTo>
                  <a:lnTo>
                    <a:pt x="13461" y="14829"/>
                  </a:lnTo>
                  <a:lnTo>
                    <a:pt x="13414" y="14591"/>
                  </a:lnTo>
                  <a:lnTo>
                    <a:pt x="13319" y="14116"/>
                  </a:lnTo>
                  <a:lnTo>
                    <a:pt x="13176" y="13304"/>
                  </a:lnTo>
                  <a:lnTo>
                    <a:pt x="13033" y="12473"/>
                  </a:lnTo>
                  <a:lnTo>
                    <a:pt x="12795" y="11523"/>
                  </a:lnTo>
                  <a:lnTo>
                    <a:pt x="12605" y="10691"/>
                  </a:lnTo>
                  <a:lnTo>
                    <a:pt x="12375" y="10097"/>
                  </a:lnTo>
                  <a:lnTo>
                    <a:pt x="12184" y="9741"/>
                  </a:lnTo>
                  <a:lnTo>
                    <a:pt x="11851" y="9503"/>
                  </a:lnTo>
                  <a:lnTo>
                    <a:pt x="11470" y="9503"/>
                  </a:lnTo>
                  <a:lnTo>
                    <a:pt x="11082" y="9622"/>
                  </a:lnTo>
                  <a:lnTo>
                    <a:pt x="10701" y="9860"/>
                  </a:lnTo>
                  <a:lnTo>
                    <a:pt x="9900" y="10454"/>
                  </a:lnTo>
                  <a:lnTo>
                    <a:pt x="9186" y="11285"/>
                  </a:lnTo>
                  <a:lnTo>
                    <a:pt x="8757" y="11879"/>
                  </a:lnTo>
                  <a:lnTo>
                    <a:pt x="8226" y="12354"/>
                  </a:lnTo>
                  <a:lnTo>
                    <a:pt x="7901" y="12473"/>
                  </a:lnTo>
                  <a:lnTo>
                    <a:pt x="7520" y="12473"/>
                  </a:lnTo>
                  <a:lnTo>
                    <a:pt x="7139" y="12235"/>
                  </a:lnTo>
                  <a:lnTo>
                    <a:pt x="6663" y="11641"/>
                  </a:lnTo>
                  <a:lnTo>
                    <a:pt x="5664" y="10572"/>
                  </a:lnTo>
                  <a:lnTo>
                    <a:pt x="4617" y="9384"/>
                  </a:lnTo>
                  <a:lnTo>
                    <a:pt x="3514" y="8078"/>
                  </a:lnTo>
                  <a:lnTo>
                    <a:pt x="2523" y="6890"/>
                  </a:lnTo>
                  <a:lnTo>
                    <a:pt x="1571" y="5702"/>
                  </a:lnTo>
                  <a:lnTo>
                    <a:pt x="1182" y="5227"/>
                  </a:lnTo>
                  <a:lnTo>
                    <a:pt x="809" y="4752"/>
                  </a:lnTo>
                  <a:lnTo>
                    <a:pt x="0" y="3702"/>
                  </a:lnTo>
                  <a:lnTo>
                    <a:pt x="0" y="9107"/>
                  </a:lnTo>
                  <a:lnTo>
                    <a:pt x="286" y="9384"/>
                  </a:lnTo>
                  <a:lnTo>
                    <a:pt x="1182" y="10216"/>
                  </a:lnTo>
                  <a:lnTo>
                    <a:pt x="1713" y="10691"/>
                  </a:lnTo>
                  <a:lnTo>
                    <a:pt x="2285" y="11285"/>
                  </a:lnTo>
                  <a:lnTo>
                    <a:pt x="2760" y="11760"/>
                  </a:lnTo>
                  <a:lnTo>
                    <a:pt x="3141" y="12235"/>
                  </a:lnTo>
                  <a:lnTo>
                    <a:pt x="3427" y="12592"/>
                  </a:lnTo>
                  <a:lnTo>
                    <a:pt x="3657" y="12948"/>
                  </a:lnTo>
                  <a:lnTo>
                    <a:pt x="3998" y="13304"/>
                  </a:lnTo>
                  <a:lnTo>
                    <a:pt x="4664" y="13997"/>
                  </a:lnTo>
                  <a:lnTo>
                    <a:pt x="5426" y="14710"/>
                  </a:lnTo>
                  <a:lnTo>
                    <a:pt x="5751" y="14948"/>
                  </a:lnTo>
                  <a:lnTo>
                    <a:pt x="6037" y="15185"/>
                  </a:lnTo>
                  <a:lnTo>
                    <a:pt x="6568" y="15423"/>
                  </a:lnTo>
                  <a:lnTo>
                    <a:pt x="7092" y="15542"/>
                  </a:lnTo>
                  <a:lnTo>
                    <a:pt x="7663" y="15660"/>
                  </a:lnTo>
                  <a:lnTo>
                    <a:pt x="8178" y="15660"/>
                  </a:lnTo>
                  <a:lnTo>
                    <a:pt x="8662" y="15542"/>
                  </a:lnTo>
                  <a:lnTo>
                    <a:pt x="9091" y="15542"/>
                  </a:lnTo>
                  <a:lnTo>
                    <a:pt x="9329" y="15423"/>
                  </a:lnTo>
                  <a:lnTo>
                    <a:pt x="9424" y="15423"/>
                  </a:lnTo>
                  <a:lnTo>
                    <a:pt x="9804" y="15542"/>
                  </a:lnTo>
                  <a:lnTo>
                    <a:pt x="10138" y="15660"/>
                  </a:lnTo>
                  <a:lnTo>
                    <a:pt x="10368" y="15898"/>
                  </a:lnTo>
                  <a:lnTo>
                    <a:pt x="10606" y="16017"/>
                  </a:lnTo>
                  <a:lnTo>
                    <a:pt x="10939" y="16373"/>
                  </a:lnTo>
                  <a:lnTo>
                    <a:pt x="11137" y="16730"/>
                  </a:lnTo>
                  <a:lnTo>
                    <a:pt x="11232" y="17086"/>
                  </a:lnTo>
                  <a:lnTo>
                    <a:pt x="11232" y="17324"/>
                  </a:lnTo>
                  <a:lnTo>
                    <a:pt x="11232" y="17442"/>
                  </a:lnTo>
                  <a:lnTo>
                    <a:pt x="11232" y="17561"/>
                  </a:lnTo>
                  <a:lnTo>
                    <a:pt x="11185" y="17561"/>
                  </a:lnTo>
                  <a:lnTo>
                    <a:pt x="11082" y="17680"/>
                  </a:lnTo>
                  <a:lnTo>
                    <a:pt x="10939" y="17918"/>
                  </a:lnTo>
                  <a:lnTo>
                    <a:pt x="10796" y="18274"/>
                  </a:lnTo>
                  <a:lnTo>
                    <a:pt x="10748" y="18630"/>
                  </a:lnTo>
                  <a:lnTo>
                    <a:pt x="10796" y="19224"/>
                  </a:lnTo>
                  <a:lnTo>
                    <a:pt x="10844" y="19581"/>
                  </a:lnTo>
                  <a:lnTo>
                    <a:pt x="10986" y="19937"/>
                  </a:lnTo>
                  <a:lnTo>
                    <a:pt x="11137" y="20293"/>
                  </a:lnTo>
                  <a:lnTo>
                    <a:pt x="11375" y="20768"/>
                  </a:lnTo>
                  <a:lnTo>
                    <a:pt x="11613" y="21125"/>
                  </a:lnTo>
                  <a:lnTo>
                    <a:pt x="11851" y="21481"/>
                  </a:lnTo>
                  <a:lnTo>
                    <a:pt x="12327" y="21600"/>
                  </a:lnTo>
                  <a:lnTo>
                    <a:pt x="12747" y="21481"/>
                  </a:lnTo>
                  <a:lnTo>
                    <a:pt x="13176" y="21125"/>
                  </a:lnTo>
                  <a:lnTo>
                    <a:pt x="13461" y="20650"/>
                  </a:lnTo>
                  <a:lnTo>
                    <a:pt x="13755" y="20175"/>
                  </a:lnTo>
                  <a:lnTo>
                    <a:pt x="13898" y="19699"/>
                  </a:lnTo>
                  <a:lnTo>
                    <a:pt x="13945" y="19581"/>
                  </a:lnTo>
                  <a:lnTo>
                    <a:pt x="14374" y="19581"/>
                  </a:lnTo>
                  <a:lnTo>
                    <a:pt x="14754" y="19462"/>
                  </a:lnTo>
                  <a:lnTo>
                    <a:pt x="15127" y="19105"/>
                  </a:lnTo>
                  <a:lnTo>
                    <a:pt x="15413" y="18630"/>
                  </a:lnTo>
                  <a:lnTo>
                    <a:pt x="15651" y="18155"/>
                  </a:lnTo>
                  <a:lnTo>
                    <a:pt x="15889" y="17799"/>
                  </a:lnTo>
                  <a:lnTo>
                    <a:pt x="15984" y="17442"/>
                  </a:lnTo>
                  <a:lnTo>
                    <a:pt x="16031" y="17324"/>
                  </a:lnTo>
                  <a:lnTo>
                    <a:pt x="17459" y="17799"/>
                  </a:lnTo>
                  <a:lnTo>
                    <a:pt x="17792" y="17918"/>
                  </a:lnTo>
                  <a:lnTo>
                    <a:pt x="18030" y="17799"/>
                  </a:lnTo>
                  <a:lnTo>
                    <a:pt x="18459" y="17561"/>
                  </a:lnTo>
                  <a:lnTo>
                    <a:pt x="18752" y="17086"/>
                  </a:lnTo>
                  <a:lnTo>
                    <a:pt x="18943" y="16373"/>
                  </a:lnTo>
                  <a:lnTo>
                    <a:pt x="19038" y="15779"/>
                  </a:lnTo>
                  <a:lnTo>
                    <a:pt x="19038" y="15185"/>
                  </a:lnTo>
                  <a:lnTo>
                    <a:pt x="19038" y="14710"/>
                  </a:lnTo>
                  <a:lnTo>
                    <a:pt x="19038" y="14591"/>
                  </a:lnTo>
                  <a:lnTo>
                    <a:pt x="19181" y="14591"/>
                  </a:lnTo>
                  <a:lnTo>
                    <a:pt x="19323" y="14473"/>
                  </a:lnTo>
                  <a:lnTo>
                    <a:pt x="19601" y="13879"/>
                  </a:lnTo>
                  <a:lnTo>
                    <a:pt x="19934" y="13067"/>
                  </a:lnTo>
                  <a:lnTo>
                    <a:pt x="20267" y="11998"/>
                  </a:lnTo>
                  <a:lnTo>
                    <a:pt x="20553" y="10929"/>
                  </a:lnTo>
                  <a:lnTo>
                    <a:pt x="20791" y="9978"/>
                  </a:lnTo>
                  <a:lnTo>
                    <a:pt x="20934" y="9266"/>
                  </a:lnTo>
                  <a:lnTo>
                    <a:pt x="20989" y="9147"/>
                  </a:lnTo>
                  <a:lnTo>
                    <a:pt x="20989" y="9028"/>
                  </a:lnTo>
                  <a:lnTo>
                    <a:pt x="21362" y="7405"/>
                  </a:lnTo>
                  <a:lnTo>
                    <a:pt x="21600" y="5920"/>
                  </a:lnTo>
                  <a:close/>
                  <a:moveTo>
                    <a:pt x="21600" y="5920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b9efee"/>
                </a:solidFill>
                <a:latin typeface="Lucida Grande"/>
              </a:rPr>
              <a:t>Click to edit the title text format</a:t>
            </a:r>
            <a:endParaRPr b="1" lang="en-US" sz="6200" spc="-1" strike="noStrike">
              <a:solidFill>
                <a:srgbClr val="b9efee"/>
              </a:solidFill>
              <a:latin typeface="Lucida Gran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ldNum" idx="6"/>
          </p:nvPr>
        </p:nvSpPr>
        <p:spPr>
          <a:xfrm>
            <a:off x="10648800" y="9207360"/>
            <a:ext cx="37152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89B3-95F6-491E-9998-E2B863973B36}" type="slidenum">
              <a:rPr b="0" lang="en-US" sz="16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1" marL="630360" indent="-285840">
              <a:spcBef>
                <a:spcPts val="11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2" marL="1030320" indent="-228600">
              <a:spcBef>
                <a:spcPts val="1100"/>
              </a:spcBef>
              <a:buClr>
                <a:srgbClr val="b9efe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3" marL="1487520" indent="-228600">
              <a:spcBef>
                <a:spcPts val="11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4" marL="1944720" indent="-228600">
              <a:spcBef>
                <a:spcPts val="1100"/>
              </a:spcBef>
              <a:buClr>
                <a:srgbClr val="ccff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5" marL="1944720" indent="-228600">
              <a:spcBef>
                <a:spcPts val="11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6" marL="1944720" indent="-228600">
              <a:spcBef>
                <a:spcPts val="11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15"/>
          <p:cNvGrpSpPr/>
          <p:nvPr/>
        </p:nvGrpSpPr>
        <p:grpSpPr>
          <a:xfrm>
            <a:off x="0" y="3467160"/>
            <a:ext cx="13004640" cy="5754600"/>
            <a:chOff x="0" y="3467160"/>
            <a:chExt cx="13004640" cy="5754600"/>
          </a:xfrm>
        </p:grpSpPr>
        <p:sp>
          <p:nvSpPr>
            <p:cNvPr id="250" name="Rectangle 1"/>
            <p:cNvSpPr/>
            <p:nvPr/>
          </p:nvSpPr>
          <p:spPr>
            <a:xfrm rot="20160000">
              <a:off x="4782960" y="5864400"/>
              <a:ext cx="6934320" cy="86364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37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51" name="AutoShape 2"/>
            <p:cNvSpPr/>
            <p:nvPr/>
          </p:nvSpPr>
          <p:spPr>
            <a:xfrm>
              <a:off x="0" y="6019920"/>
              <a:ext cx="6070680" cy="2768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7714" y="9741"/>
                  </a:lnTo>
                  <a:lnTo>
                    <a:pt x="15814" y="4659"/>
                  </a:lnTo>
                  <a:lnTo>
                    <a:pt x="16296" y="4765"/>
                  </a:lnTo>
                  <a:lnTo>
                    <a:pt x="21383" y="9318"/>
                  </a:lnTo>
                  <a:lnTo>
                    <a:pt x="21600" y="11435"/>
                  </a:lnTo>
                  <a:lnTo>
                    <a:pt x="18514" y="19059"/>
                  </a:lnTo>
                  <a:lnTo>
                    <a:pt x="12729" y="21600"/>
                  </a:lnTo>
                  <a:lnTo>
                    <a:pt x="10414" y="16518"/>
                  </a:lnTo>
                  <a:lnTo>
                    <a:pt x="6943" y="18212"/>
                  </a:lnTo>
                  <a:lnTo>
                    <a:pt x="0" y="9741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52" name="AutoShape 3"/>
            <p:cNvSpPr/>
            <p:nvPr/>
          </p:nvSpPr>
          <p:spPr>
            <a:xfrm>
              <a:off x="7583400" y="3467160"/>
              <a:ext cx="5421240" cy="278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81" y="53"/>
                  </a:moveTo>
                  <a:lnTo>
                    <a:pt x="20511" y="53"/>
                  </a:lnTo>
                  <a:lnTo>
                    <a:pt x="19864" y="263"/>
                  </a:lnTo>
                  <a:lnTo>
                    <a:pt x="19216" y="473"/>
                  </a:lnTo>
                  <a:lnTo>
                    <a:pt x="19000" y="684"/>
                  </a:lnTo>
                  <a:lnTo>
                    <a:pt x="18784" y="999"/>
                  </a:lnTo>
                  <a:lnTo>
                    <a:pt x="18730" y="1105"/>
                  </a:lnTo>
                  <a:lnTo>
                    <a:pt x="18676" y="1210"/>
                  </a:lnTo>
                  <a:lnTo>
                    <a:pt x="17552" y="1736"/>
                  </a:lnTo>
                  <a:lnTo>
                    <a:pt x="17057" y="1946"/>
                  </a:lnTo>
                  <a:lnTo>
                    <a:pt x="16517" y="2051"/>
                  </a:lnTo>
                  <a:lnTo>
                    <a:pt x="15330" y="2367"/>
                  </a:lnTo>
                  <a:lnTo>
                    <a:pt x="14142" y="2682"/>
                  </a:lnTo>
                  <a:lnTo>
                    <a:pt x="12901" y="2893"/>
                  </a:lnTo>
                  <a:lnTo>
                    <a:pt x="11821" y="3103"/>
                  </a:lnTo>
                  <a:lnTo>
                    <a:pt x="11335" y="3208"/>
                  </a:lnTo>
                  <a:lnTo>
                    <a:pt x="10903" y="3314"/>
                  </a:lnTo>
                  <a:lnTo>
                    <a:pt x="10580" y="3314"/>
                  </a:lnTo>
                  <a:lnTo>
                    <a:pt x="10310" y="3419"/>
                  </a:lnTo>
                  <a:lnTo>
                    <a:pt x="10148" y="3419"/>
                  </a:lnTo>
                  <a:lnTo>
                    <a:pt x="10094" y="3419"/>
                  </a:lnTo>
                  <a:lnTo>
                    <a:pt x="10040" y="3524"/>
                  </a:lnTo>
                  <a:lnTo>
                    <a:pt x="9941" y="3629"/>
                  </a:lnTo>
                  <a:lnTo>
                    <a:pt x="9671" y="4050"/>
                  </a:lnTo>
                  <a:lnTo>
                    <a:pt x="9230" y="4576"/>
                  </a:lnTo>
                  <a:lnTo>
                    <a:pt x="8744" y="5102"/>
                  </a:lnTo>
                  <a:lnTo>
                    <a:pt x="8313" y="5628"/>
                  </a:lnTo>
                  <a:lnTo>
                    <a:pt x="7881" y="6049"/>
                  </a:lnTo>
                  <a:lnTo>
                    <a:pt x="7611" y="6364"/>
                  </a:lnTo>
                  <a:lnTo>
                    <a:pt x="7557" y="6469"/>
                  </a:lnTo>
                  <a:lnTo>
                    <a:pt x="7503" y="6469"/>
                  </a:lnTo>
                  <a:lnTo>
                    <a:pt x="6585" y="7311"/>
                  </a:lnTo>
                  <a:lnTo>
                    <a:pt x="5668" y="8030"/>
                  </a:lnTo>
                  <a:lnTo>
                    <a:pt x="5290" y="8345"/>
                  </a:lnTo>
                  <a:lnTo>
                    <a:pt x="4966" y="8556"/>
                  </a:lnTo>
                  <a:lnTo>
                    <a:pt x="4759" y="8766"/>
                  </a:lnTo>
                  <a:lnTo>
                    <a:pt x="4651" y="8871"/>
                  </a:lnTo>
                  <a:lnTo>
                    <a:pt x="4489" y="9187"/>
                  </a:lnTo>
                  <a:lnTo>
                    <a:pt x="4381" y="9503"/>
                  </a:lnTo>
                  <a:lnTo>
                    <a:pt x="4327" y="9818"/>
                  </a:lnTo>
                  <a:lnTo>
                    <a:pt x="4327" y="10134"/>
                  </a:lnTo>
                  <a:lnTo>
                    <a:pt x="4111" y="10344"/>
                  </a:lnTo>
                  <a:lnTo>
                    <a:pt x="3940" y="10449"/>
                  </a:lnTo>
                  <a:lnTo>
                    <a:pt x="3778" y="10765"/>
                  </a:lnTo>
                  <a:lnTo>
                    <a:pt x="3616" y="11186"/>
                  </a:lnTo>
                  <a:lnTo>
                    <a:pt x="3293" y="12238"/>
                  </a:lnTo>
                  <a:lnTo>
                    <a:pt x="3131" y="12764"/>
                  </a:lnTo>
                  <a:lnTo>
                    <a:pt x="2969" y="13290"/>
                  </a:lnTo>
                  <a:lnTo>
                    <a:pt x="2915" y="13605"/>
                  </a:lnTo>
                  <a:lnTo>
                    <a:pt x="2861" y="13710"/>
                  </a:lnTo>
                  <a:lnTo>
                    <a:pt x="2807" y="13816"/>
                  </a:lnTo>
                  <a:lnTo>
                    <a:pt x="2699" y="13921"/>
                  </a:lnTo>
                  <a:lnTo>
                    <a:pt x="2537" y="14131"/>
                  </a:lnTo>
                  <a:lnTo>
                    <a:pt x="2267" y="14447"/>
                  </a:lnTo>
                  <a:lnTo>
                    <a:pt x="1790" y="14973"/>
                  </a:lnTo>
                  <a:lnTo>
                    <a:pt x="1358" y="15499"/>
                  </a:lnTo>
                  <a:lnTo>
                    <a:pt x="756" y="16235"/>
                  </a:lnTo>
                  <a:lnTo>
                    <a:pt x="270" y="16866"/>
                  </a:lnTo>
                  <a:lnTo>
                    <a:pt x="108" y="17077"/>
                  </a:lnTo>
                  <a:lnTo>
                    <a:pt x="0" y="17392"/>
                  </a:lnTo>
                  <a:lnTo>
                    <a:pt x="0" y="17603"/>
                  </a:lnTo>
                  <a:lnTo>
                    <a:pt x="0" y="17918"/>
                  </a:lnTo>
                  <a:lnTo>
                    <a:pt x="108" y="18234"/>
                  </a:lnTo>
                  <a:lnTo>
                    <a:pt x="378" y="18339"/>
                  </a:lnTo>
                  <a:lnTo>
                    <a:pt x="756" y="18339"/>
                  </a:lnTo>
                  <a:lnTo>
                    <a:pt x="1188" y="18129"/>
                  </a:lnTo>
                  <a:lnTo>
                    <a:pt x="1736" y="17918"/>
                  </a:lnTo>
                  <a:lnTo>
                    <a:pt x="2375" y="17603"/>
                  </a:lnTo>
                  <a:lnTo>
                    <a:pt x="3023" y="17182"/>
                  </a:lnTo>
                  <a:lnTo>
                    <a:pt x="3670" y="16656"/>
                  </a:lnTo>
                  <a:lnTo>
                    <a:pt x="4273" y="16130"/>
                  </a:lnTo>
                  <a:lnTo>
                    <a:pt x="4759" y="15709"/>
                  </a:lnTo>
                  <a:lnTo>
                    <a:pt x="5074" y="15394"/>
                  </a:lnTo>
                  <a:lnTo>
                    <a:pt x="5128" y="15288"/>
                  </a:lnTo>
                  <a:lnTo>
                    <a:pt x="5182" y="15288"/>
                  </a:lnTo>
                  <a:lnTo>
                    <a:pt x="5452" y="15288"/>
                  </a:lnTo>
                  <a:lnTo>
                    <a:pt x="5830" y="15183"/>
                  </a:lnTo>
                  <a:lnTo>
                    <a:pt x="6423" y="14868"/>
                  </a:lnTo>
                  <a:lnTo>
                    <a:pt x="7134" y="14552"/>
                  </a:lnTo>
                  <a:lnTo>
                    <a:pt x="7881" y="14236"/>
                  </a:lnTo>
                  <a:lnTo>
                    <a:pt x="8690" y="13921"/>
                  </a:lnTo>
                  <a:lnTo>
                    <a:pt x="9563" y="13710"/>
                  </a:lnTo>
                  <a:lnTo>
                    <a:pt x="10364" y="13605"/>
                  </a:lnTo>
                  <a:lnTo>
                    <a:pt x="10903" y="13710"/>
                  </a:lnTo>
                  <a:lnTo>
                    <a:pt x="11551" y="14131"/>
                  </a:lnTo>
                  <a:lnTo>
                    <a:pt x="12208" y="14657"/>
                  </a:lnTo>
                  <a:lnTo>
                    <a:pt x="12739" y="15288"/>
                  </a:lnTo>
                  <a:lnTo>
                    <a:pt x="12901" y="15604"/>
                  </a:lnTo>
                  <a:lnTo>
                    <a:pt x="13063" y="15919"/>
                  </a:lnTo>
                  <a:lnTo>
                    <a:pt x="13171" y="16340"/>
                  </a:lnTo>
                  <a:lnTo>
                    <a:pt x="13171" y="16656"/>
                  </a:lnTo>
                  <a:lnTo>
                    <a:pt x="13117" y="16971"/>
                  </a:lnTo>
                  <a:lnTo>
                    <a:pt x="12955" y="17392"/>
                  </a:lnTo>
                  <a:lnTo>
                    <a:pt x="12685" y="17603"/>
                  </a:lnTo>
                  <a:lnTo>
                    <a:pt x="12316" y="17918"/>
                  </a:lnTo>
                  <a:lnTo>
                    <a:pt x="11713" y="18234"/>
                  </a:lnTo>
                  <a:lnTo>
                    <a:pt x="11227" y="18655"/>
                  </a:lnTo>
                  <a:lnTo>
                    <a:pt x="10796" y="18970"/>
                  </a:lnTo>
                  <a:lnTo>
                    <a:pt x="10418" y="19286"/>
                  </a:lnTo>
                  <a:lnTo>
                    <a:pt x="10148" y="19601"/>
                  </a:lnTo>
                  <a:lnTo>
                    <a:pt x="9986" y="19812"/>
                  </a:lnTo>
                  <a:lnTo>
                    <a:pt x="9833" y="20127"/>
                  </a:lnTo>
                  <a:lnTo>
                    <a:pt x="9725" y="20338"/>
                  </a:lnTo>
                  <a:lnTo>
                    <a:pt x="9617" y="20864"/>
                  </a:lnTo>
                  <a:lnTo>
                    <a:pt x="9671" y="21179"/>
                  </a:lnTo>
                  <a:lnTo>
                    <a:pt x="9725" y="21390"/>
                  </a:lnTo>
                  <a:lnTo>
                    <a:pt x="9779" y="21495"/>
                  </a:lnTo>
                  <a:lnTo>
                    <a:pt x="9833" y="21600"/>
                  </a:lnTo>
                  <a:lnTo>
                    <a:pt x="9986" y="21600"/>
                  </a:lnTo>
                  <a:lnTo>
                    <a:pt x="10148" y="21495"/>
                  </a:lnTo>
                  <a:lnTo>
                    <a:pt x="10364" y="21495"/>
                  </a:lnTo>
                  <a:lnTo>
                    <a:pt x="10903" y="21390"/>
                  </a:lnTo>
                  <a:lnTo>
                    <a:pt x="11443" y="21284"/>
                  </a:lnTo>
                  <a:lnTo>
                    <a:pt x="11983" y="21179"/>
                  </a:lnTo>
                  <a:lnTo>
                    <a:pt x="12532" y="20969"/>
                  </a:lnTo>
                  <a:lnTo>
                    <a:pt x="12739" y="20864"/>
                  </a:lnTo>
                  <a:lnTo>
                    <a:pt x="12901" y="20758"/>
                  </a:lnTo>
                  <a:lnTo>
                    <a:pt x="13009" y="20653"/>
                  </a:lnTo>
                  <a:lnTo>
                    <a:pt x="13063" y="20653"/>
                  </a:lnTo>
                  <a:lnTo>
                    <a:pt x="13171" y="20548"/>
                  </a:lnTo>
                  <a:lnTo>
                    <a:pt x="13386" y="20443"/>
                  </a:lnTo>
                  <a:lnTo>
                    <a:pt x="13764" y="20127"/>
                  </a:lnTo>
                  <a:lnTo>
                    <a:pt x="14196" y="19812"/>
                  </a:lnTo>
                  <a:lnTo>
                    <a:pt x="15123" y="19181"/>
                  </a:lnTo>
                  <a:lnTo>
                    <a:pt x="15492" y="18865"/>
                  </a:lnTo>
                  <a:lnTo>
                    <a:pt x="15815" y="18655"/>
                  </a:lnTo>
                  <a:lnTo>
                    <a:pt x="16301" y="18234"/>
                  </a:lnTo>
                  <a:lnTo>
                    <a:pt x="16625" y="17603"/>
                  </a:lnTo>
                  <a:lnTo>
                    <a:pt x="16841" y="16866"/>
                  </a:lnTo>
                  <a:lnTo>
                    <a:pt x="17003" y="16340"/>
                  </a:lnTo>
                  <a:lnTo>
                    <a:pt x="17381" y="15183"/>
                  </a:lnTo>
                  <a:lnTo>
                    <a:pt x="17867" y="14026"/>
                  </a:lnTo>
                  <a:lnTo>
                    <a:pt x="18406" y="12974"/>
                  </a:lnTo>
                  <a:lnTo>
                    <a:pt x="19000" y="12132"/>
                  </a:lnTo>
                  <a:lnTo>
                    <a:pt x="19486" y="11396"/>
                  </a:lnTo>
                  <a:lnTo>
                    <a:pt x="19918" y="10870"/>
                  </a:lnTo>
                  <a:lnTo>
                    <a:pt x="20188" y="10449"/>
                  </a:lnTo>
                  <a:lnTo>
                    <a:pt x="20305" y="10344"/>
                  </a:lnTo>
                  <a:lnTo>
                    <a:pt x="21591" y="9082"/>
                  </a:lnTo>
                  <a:lnTo>
                    <a:pt x="21591" y="999"/>
                  </a:lnTo>
                  <a:lnTo>
                    <a:pt x="21600" y="0"/>
                  </a:lnTo>
                  <a:lnTo>
                    <a:pt x="20781" y="53"/>
                  </a:lnTo>
                  <a:close/>
                  <a:moveTo>
                    <a:pt x="20781" y="53"/>
                  </a:moveTo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53" name="Freeform 4"/>
            <p:cNvSpPr/>
            <p:nvPr/>
          </p:nvSpPr>
          <p:spPr>
            <a:xfrm>
              <a:off x="8559720" y="3467160"/>
              <a:ext cx="4444920" cy="171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591" y="4677"/>
                  </a:moveTo>
                  <a:lnTo>
                    <a:pt x="7639" y="5669"/>
                  </a:lnTo>
                  <a:lnTo>
                    <a:pt x="7606" y="6718"/>
                  </a:lnTo>
                  <a:lnTo>
                    <a:pt x="10141" y="7313"/>
                  </a:lnTo>
                  <a:lnTo>
                    <a:pt x="10899" y="7569"/>
                  </a:lnTo>
                  <a:lnTo>
                    <a:pt x="7474" y="8249"/>
                  </a:lnTo>
                  <a:lnTo>
                    <a:pt x="6948" y="8759"/>
                  </a:lnTo>
                  <a:lnTo>
                    <a:pt x="7079" y="9524"/>
                  </a:lnTo>
                  <a:lnTo>
                    <a:pt x="7376" y="9950"/>
                  </a:lnTo>
                  <a:lnTo>
                    <a:pt x="10800" y="9439"/>
                  </a:lnTo>
                  <a:lnTo>
                    <a:pt x="11854" y="10120"/>
                  </a:lnTo>
                  <a:lnTo>
                    <a:pt x="6849" y="13946"/>
                  </a:lnTo>
                  <a:lnTo>
                    <a:pt x="6761" y="15194"/>
                  </a:lnTo>
                  <a:lnTo>
                    <a:pt x="88" y="20523"/>
                  </a:lnTo>
                  <a:lnTo>
                    <a:pt x="0" y="21430"/>
                  </a:lnTo>
                  <a:lnTo>
                    <a:pt x="296" y="21600"/>
                  </a:lnTo>
                  <a:lnTo>
                    <a:pt x="7288" y="15987"/>
                  </a:lnTo>
                  <a:lnTo>
                    <a:pt x="9395" y="17008"/>
                  </a:lnTo>
                  <a:lnTo>
                    <a:pt x="12710" y="14372"/>
                  </a:lnTo>
                  <a:lnTo>
                    <a:pt x="15739" y="13181"/>
                  </a:lnTo>
                  <a:lnTo>
                    <a:pt x="17254" y="10431"/>
                  </a:lnTo>
                  <a:lnTo>
                    <a:pt x="18790" y="9638"/>
                  </a:lnTo>
                  <a:lnTo>
                    <a:pt x="20371" y="9298"/>
                  </a:lnTo>
                  <a:lnTo>
                    <a:pt x="21600" y="9354"/>
                  </a:lnTo>
                  <a:lnTo>
                    <a:pt x="21600" y="0"/>
                  </a:lnTo>
                  <a:lnTo>
                    <a:pt x="21227" y="85"/>
                  </a:lnTo>
                  <a:lnTo>
                    <a:pt x="20107" y="142"/>
                  </a:lnTo>
                  <a:lnTo>
                    <a:pt x="18461" y="992"/>
                  </a:lnTo>
                  <a:lnTo>
                    <a:pt x="18033" y="2041"/>
                  </a:lnTo>
                  <a:lnTo>
                    <a:pt x="15278" y="3373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54" name="AutoShape 5"/>
            <p:cNvSpPr/>
            <p:nvPr/>
          </p:nvSpPr>
          <p:spPr>
            <a:xfrm>
              <a:off x="8124840" y="5591160"/>
              <a:ext cx="420840" cy="2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080"/>
                  </a:lnTo>
                  <a:lnTo>
                    <a:pt x="21600" y="3240"/>
                  </a:lnTo>
                  <a:lnTo>
                    <a:pt x="21600" y="6480"/>
                  </a:lnTo>
                  <a:lnTo>
                    <a:pt x="20899" y="9720"/>
                  </a:lnTo>
                  <a:lnTo>
                    <a:pt x="18798" y="12960"/>
                  </a:lnTo>
                  <a:lnTo>
                    <a:pt x="15996" y="17280"/>
                  </a:lnTo>
                  <a:lnTo>
                    <a:pt x="11792" y="19440"/>
                  </a:lnTo>
                  <a:lnTo>
                    <a:pt x="5488" y="21600"/>
                  </a:lnTo>
                  <a:lnTo>
                    <a:pt x="3386" y="21600"/>
                  </a:lnTo>
                  <a:lnTo>
                    <a:pt x="1985" y="20520"/>
                  </a:lnTo>
                  <a:lnTo>
                    <a:pt x="0" y="17280"/>
                  </a:lnTo>
                  <a:lnTo>
                    <a:pt x="0" y="14040"/>
                  </a:lnTo>
                  <a:lnTo>
                    <a:pt x="0" y="1296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55" name="AutoShape 6"/>
            <p:cNvSpPr/>
            <p:nvPr/>
          </p:nvSpPr>
          <p:spPr>
            <a:xfrm>
              <a:off x="8531280" y="5402160"/>
              <a:ext cx="417600" cy="2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080"/>
                  </a:lnTo>
                  <a:lnTo>
                    <a:pt x="20899" y="4320"/>
                  </a:lnTo>
                  <a:lnTo>
                    <a:pt x="19498" y="7560"/>
                  </a:lnTo>
                  <a:lnTo>
                    <a:pt x="17397" y="11880"/>
                  </a:lnTo>
                  <a:lnTo>
                    <a:pt x="15295" y="16200"/>
                  </a:lnTo>
                  <a:lnTo>
                    <a:pt x="11909" y="19440"/>
                  </a:lnTo>
                  <a:lnTo>
                    <a:pt x="7706" y="21600"/>
                  </a:lnTo>
                  <a:lnTo>
                    <a:pt x="2102" y="21600"/>
                  </a:lnTo>
                  <a:lnTo>
                    <a:pt x="0" y="1080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56" name="AutoShape 7"/>
            <p:cNvSpPr/>
            <p:nvPr/>
          </p:nvSpPr>
          <p:spPr>
            <a:xfrm>
              <a:off x="8666280" y="4145040"/>
              <a:ext cx="1193760" cy="62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21129"/>
                  </a:lnTo>
                  <a:lnTo>
                    <a:pt x="246" y="19715"/>
                  </a:lnTo>
                  <a:lnTo>
                    <a:pt x="246" y="18772"/>
                  </a:lnTo>
                  <a:lnTo>
                    <a:pt x="493" y="17830"/>
                  </a:lnTo>
                  <a:lnTo>
                    <a:pt x="739" y="17359"/>
                  </a:lnTo>
                  <a:lnTo>
                    <a:pt x="1478" y="16887"/>
                  </a:lnTo>
                  <a:lnTo>
                    <a:pt x="3162" y="15945"/>
                  </a:lnTo>
                  <a:lnTo>
                    <a:pt x="5626" y="14060"/>
                  </a:lnTo>
                  <a:lnTo>
                    <a:pt x="8583" y="11232"/>
                  </a:lnTo>
                  <a:lnTo>
                    <a:pt x="10307" y="9425"/>
                  </a:lnTo>
                  <a:lnTo>
                    <a:pt x="12278" y="7540"/>
                  </a:lnTo>
                  <a:lnTo>
                    <a:pt x="16179" y="3770"/>
                  </a:lnTo>
                  <a:lnTo>
                    <a:pt x="18151" y="2356"/>
                  </a:lnTo>
                  <a:lnTo>
                    <a:pt x="19629" y="943"/>
                  </a:lnTo>
                  <a:lnTo>
                    <a:pt x="20614" y="471"/>
                  </a:lnTo>
                  <a:lnTo>
                    <a:pt x="21354" y="0"/>
                  </a:lnTo>
                  <a:lnTo>
                    <a:pt x="21600" y="0"/>
                  </a:lnTo>
                  <a:lnTo>
                    <a:pt x="21354" y="471"/>
                  </a:lnTo>
                  <a:lnTo>
                    <a:pt x="20861" y="943"/>
                  </a:lnTo>
                  <a:lnTo>
                    <a:pt x="19875" y="1885"/>
                  </a:lnTo>
                  <a:lnTo>
                    <a:pt x="18890" y="3299"/>
                  </a:lnTo>
                  <a:lnTo>
                    <a:pt x="17904" y="4241"/>
                  </a:lnTo>
                  <a:lnTo>
                    <a:pt x="16179" y="6127"/>
                  </a:lnTo>
                  <a:lnTo>
                    <a:pt x="13962" y="8483"/>
                  </a:lnTo>
                  <a:lnTo>
                    <a:pt x="11293" y="11232"/>
                  </a:lnTo>
                  <a:lnTo>
                    <a:pt x="5379" y="17359"/>
                  </a:lnTo>
                  <a:lnTo>
                    <a:pt x="2669" y="19715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57" name="AutoShape 8"/>
            <p:cNvSpPr/>
            <p:nvPr/>
          </p:nvSpPr>
          <p:spPr>
            <a:xfrm>
              <a:off x="8299440" y="4548240"/>
              <a:ext cx="1627200" cy="690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44" y="15247"/>
                  </a:moveTo>
                  <a:lnTo>
                    <a:pt x="903" y="17788"/>
                  </a:lnTo>
                  <a:lnTo>
                    <a:pt x="361" y="19906"/>
                  </a:lnTo>
                  <a:lnTo>
                    <a:pt x="181" y="21176"/>
                  </a:lnTo>
                  <a:lnTo>
                    <a:pt x="0" y="21600"/>
                  </a:lnTo>
                  <a:lnTo>
                    <a:pt x="1444" y="19482"/>
                  </a:lnTo>
                  <a:lnTo>
                    <a:pt x="2527" y="17788"/>
                  </a:lnTo>
                  <a:lnTo>
                    <a:pt x="3249" y="16518"/>
                  </a:lnTo>
                  <a:lnTo>
                    <a:pt x="3610" y="16094"/>
                  </a:lnTo>
                  <a:lnTo>
                    <a:pt x="3791" y="16094"/>
                  </a:lnTo>
                  <a:lnTo>
                    <a:pt x="4332" y="15671"/>
                  </a:lnTo>
                  <a:lnTo>
                    <a:pt x="5054" y="15247"/>
                  </a:lnTo>
                  <a:lnTo>
                    <a:pt x="5957" y="14400"/>
                  </a:lnTo>
                  <a:lnTo>
                    <a:pt x="8273" y="12706"/>
                  </a:lnTo>
                  <a:lnTo>
                    <a:pt x="11161" y="11012"/>
                  </a:lnTo>
                  <a:lnTo>
                    <a:pt x="13869" y="8894"/>
                  </a:lnTo>
                  <a:lnTo>
                    <a:pt x="16365" y="7200"/>
                  </a:lnTo>
                  <a:lnTo>
                    <a:pt x="17268" y="6353"/>
                  </a:lnTo>
                  <a:lnTo>
                    <a:pt x="18170" y="5929"/>
                  </a:lnTo>
                  <a:lnTo>
                    <a:pt x="18712" y="5506"/>
                  </a:lnTo>
                  <a:lnTo>
                    <a:pt x="18892" y="5082"/>
                  </a:lnTo>
                  <a:lnTo>
                    <a:pt x="19073" y="4659"/>
                  </a:lnTo>
                  <a:lnTo>
                    <a:pt x="19614" y="4235"/>
                  </a:lnTo>
                  <a:lnTo>
                    <a:pt x="20878" y="2118"/>
                  </a:lnTo>
                  <a:lnTo>
                    <a:pt x="21419" y="1271"/>
                  </a:lnTo>
                  <a:lnTo>
                    <a:pt x="21600" y="424"/>
                  </a:lnTo>
                  <a:lnTo>
                    <a:pt x="21419" y="0"/>
                  </a:lnTo>
                  <a:lnTo>
                    <a:pt x="20697" y="0"/>
                  </a:lnTo>
                  <a:lnTo>
                    <a:pt x="18892" y="0"/>
                  </a:lnTo>
                  <a:lnTo>
                    <a:pt x="17448" y="0"/>
                  </a:lnTo>
                  <a:lnTo>
                    <a:pt x="16365" y="0"/>
                  </a:lnTo>
                  <a:lnTo>
                    <a:pt x="15463" y="1271"/>
                  </a:lnTo>
                  <a:lnTo>
                    <a:pt x="14591" y="2965"/>
                  </a:lnTo>
                  <a:lnTo>
                    <a:pt x="14049" y="3812"/>
                  </a:lnTo>
                  <a:lnTo>
                    <a:pt x="13508" y="4235"/>
                  </a:lnTo>
                  <a:lnTo>
                    <a:pt x="12786" y="4235"/>
                  </a:lnTo>
                  <a:lnTo>
                    <a:pt x="11703" y="4659"/>
                  </a:lnTo>
                  <a:lnTo>
                    <a:pt x="10439" y="5929"/>
                  </a:lnTo>
                  <a:lnTo>
                    <a:pt x="9356" y="7624"/>
                  </a:lnTo>
                  <a:lnTo>
                    <a:pt x="8634" y="8894"/>
                  </a:lnTo>
                  <a:lnTo>
                    <a:pt x="8273" y="9318"/>
                  </a:lnTo>
                  <a:lnTo>
                    <a:pt x="7731" y="9741"/>
                  </a:lnTo>
                  <a:lnTo>
                    <a:pt x="6648" y="9741"/>
                  </a:lnTo>
                  <a:lnTo>
                    <a:pt x="5596" y="9741"/>
                  </a:lnTo>
                  <a:lnTo>
                    <a:pt x="5415" y="9741"/>
                  </a:lnTo>
                  <a:lnTo>
                    <a:pt x="5235" y="9741"/>
                  </a:lnTo>
                  <a:lnTo>
                    <a:pt x="3430" y="11435"/>
                  </a:lnTo>
                  <a:lnTo>
                    <a:pt x="1444" y="15247"/>
                  </a:lnTo>
                  <a:close/>
                  <a:moveTo>
                    <a:pt x="1444" y="15247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58" name="AutoShape 9"/>
            <p:cNvSpPr/>
            <p:nvPr/>
          </p:nvSpPr>
          <p:spPr>
            <a:xfrm>
              <a:off x="7580160" y="4267440"/>
              <a:ext cx="5423040" cy="198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87" y="883"/>
                  </a:moveTo>
                  <a:lnTo>
                    <a:pt x="20462" y="1177"/>
                  </a:lnTo>
                  <a:lnTo>
                    <a:pt x="20146" y="1324"/>
                  </a:lnTo>
                  <a:lnTo>
                    <a:pt x="19875" y="1324"/>
                  </a:lnTo>
                  <a:lnTo>
                    <a:pt x="19821" y="1324"/>
                  </a:lnTo>
                  <a:lnTo>
                    <a:pt x="19767" y="1324"/>
                  </a:lnTo>
                  <a:lnTo>
                    <a:pt x="19659" y="1471"/>
                  </a:lnTo>
                  <a:lnTo>
                    <a:pt x="19388" y="1618"/>
                  </a:lnTo>
                  <a:lnTo>
                    <a:pt x="19008" y="1912"/>
                  </a:lnTo>
                  <a:lnTo>
                    <a:pt x="18575" y="2182"/>
                  </a:lnTo>
                  <a:lnTo>
                    <a:pt x="18250" y="2476"/>
                  </a:lnTo>
                  <a:lnTo>
                    <a:pt x="18033" y="2623"/>
                  </a:lnTo>
                  <a:lnTo>
                    <a:pt x="17816" y="2770"/>
                  </a:lnTo>
                  <a:lnTo>
                    <a:pt x="17663" y="2918"/>
                  </a:lnTo>
                  <a:lnTo>
                    <a:pt x="17392" y="3212"/>
                  </a:lnTo>
                  <a:lnTo>
                    <a:pt x="17121" y="3359"/>
                  </a:lnTo>
                  <a:lnTo>
                    <a:pt x="16796" y="4094"/>
                  </a:lnTo>
                  <a:lnTo>
                    <a:pt x="16633" y="4683"/>
                  </a:lnTo>
                  <a:lnTo>
                    <a:pt x="16579" y="5418"/>
                  </a:lnTo>
                  <a:lnTo>
                    <a:pt x="16579" y="6007"/>
                  </a:lnTo>
                  <a:lnTo>
                    <a:pt x="16633" y="6595"/>
                  </a:lnTo>
                  <a:lnTo>
                    <a:pt x="16633" y="7184"/>
                  </a:lnTo>
                  <a:lnTo>
                    <a:pt x="16633" y="7478"/>
                  </a:lnTo>
                  <a:lnTo>
                    <a:pt x="16471" y="7919"/>
                  </a:lnTo>
                  <a:lnTo>
                    <a:pt x="16200" y="8066"/>
                  </a:lnTo>
                  <a:lnTo>
                    <a:pt x="15875" y="7772"/>
                  </a:lnTo>
                  <a:lnTo>
                    <a:pt x="15496" y="7331"/>
                  </a:lnTo>
                  <a:lnTo>
                    <a:pt x="14963" y="6742"/>
                  </a:lnTo>
                  <a:lnTo>
                    <a:pt x="14421" y="6448"/>
                  </a:lnTo>
                  <a:lnTo>
                    <a:pt x="13933" y="6301"/>
                  </a:lnTo>
                  <a:lnTo>
                    <a:pt x="13717" y="6301"/>
                  </a:lnTo>
                  <a:lnTo>
                    <a:pt x="13608" y="6301"/>
                  </a:lnTo>
                  <a:lnTo>
                    <a:pt x="13446" y="6448"/>
                  </a:lnTo>
                  <a:lnTo>
                    <a:pt x="13175" y="6742"/>
                  </a:lnTo>
                  <a:lnTo>
                    <a:pt x="12633" y="7625"/>
                  </a:lnTo>
                  <a:lnTo>
                    <a:pt x="12425" y="8066"/>
                  </a:lnTo>
                  <a:lnTo>
                    <a:pt x="12209" y="8361"/>
                  </a:lnTo>
                  <a:lnTo>
                    <a:pt x="12046" y="8655"/>
                  </a:lnTo>
                  <a:lnTo>
                    <a:pt x="11992" y="8802"/>
                  </a:lnTo>
                  <a:lnTo>
                    <a:pt x="11938" y="8802"/>
                  </a:lnTo>
                  <a:lnTo>
                    <a:pt x="11829" y="8802"/>
                  </a:lnTo>
                  <a:lnTo>
                    <a:pt x="11613" y="8949"/>
                  </a:lnTo>
                  <a:lnTo>
                    <a:pt x="11396" y="8949"/>
                  </a:lnTo>
                  <a:lnTo>
                    <a:pt x="10963" y="9096"/>
                  </a:lnTo>
                  <a:lnTo>
                    <a:pt x="10800" y="9096"/>
                  </a:lnTo>
                  <a:lnTo>
                    <a:pt x="10637" y="8949"/>
                  </a:lnTo>
                  <a:lnTo>
                    <a:pt x="10475" y="8949"/>
                  </a:lnTo>
                  <a:lnTo>
                    <a:pt x="10204" y="8949"/>
                  </a:lnTo>
                  <a:lnTo>
                    <a:pt x="9888" y="8949"/>
                  </a:lnTo>
                  <a:lnTo>
                    <a:pt x="9509" y="9096"/>
                  </a:lnTo>
                  <a:lnTo>
                    <a:pt x="9184" y="9243"/>
                  </a:lnTo>
                  <a:lnTo>
                    <a:pt x="8859" y="9243"/>
                  </a:lnTo>
                  <a:lnTo>
                    <a:pt x="8642" y="9390"/>
                  </a:lnTo>
                  <a:lnTo>
                    <a:pt x="8533" y="9537"/>
                  </a:lnTo>
                  <a:lnTo>
                    <a:pt x="8479" y="9684"/>
                  </a:lnTo>
                  <a:lnTo>
                    <a:pt x="8317" y="9832"/>
                  </a:lnTo>
                  <a:lnTo>
                    <a:pt x="7937" y="9979"/>
                  </a:lnTo>
                  <a:lnTo>
                    <a:pt x="7558" y="10273"/>
                  </a:lnTo>
                  <a:lnTo>
                    <a:pt x="7396" y="10273"/>
                  </a:lnTo>
                  <a:lnTo>
                    <a:pt x="7296" y="10273"/>
                  </a:lnTo>
                  <a:lnTo>
                    <a:pt x="7188" y="10273"/>
                  </a:lnTo>
                  <a:lnTo>
                    <a:pt x="7025" y="10273"/>
                  </a:lnTo>
                  <a:lnTo>
                    <a:pt x="6809" y="10273"/>
                  </a:lnTo>
                  <a:lnTo>
                    <a:pt x="6538" y="10420"/>
                  </a:lnTo>
                  <a:lnTo>
                    <a:pt x="5996" y="10714"/>
                  </a:lnTo>
                  <a:lnTo>
                    <a:pt x="5779" y="11008"/>
                  </a:lnTo>
                  <a:lnTo>
                    <a:pt x="5563" y="11303"/>
                  </a:lnTo>
                  <a:lnTo>
                    <a:pt x="5400" y="11597"/>
                  </a:lnTo>
                  <a:lnTo>
                    <a:pt x="5237" y="11597"/>
                  </a:lnTo>
                  <a:lnTo>
                    <a:pt x="4858" y="11597"/>
                  </a:lnTo>
                  <a:lnTo>
                    <a:pt x="4542" y="11450"/>
                  </a:lnTo>
                  <a:lnTo>
                    <a:pt x="4163" y="11597"/>
                  </a:lnTo>
                  <a:lnTo>
                    <a:pt x="4000" y="11744"/>
                  </a:lnTo>
                  <a:lnTo>
                    <a:pt x="3892" y="12038"/>
                  </a:lnTo>
                  <a:lnTo>
                    <a:pt x="3838" y="12479"/>
                  </a:lnTo>
                  <a:lnTo>
                    <a:pt x="3784" y="13068"/>
                  </a:lnTo>
                  <a:lnTo>
                    <a:pt x="3729" y="13215"/>
                  </a:lnTo>
                  <a:lnTo>
                    <a:pt x="3675" y="13362"/>
                  </a:lnTo>
                  <a:lnTo>
                    <a:pt x="3513" y="13509"/>
                  </a:lnTo>
                  <a:lnTo>
                    <a:pt x="3133" y="13951"/>
                  </a:lnTo>
                  <a:lnTo>
                    <a:pt x="2700" y="14392"/>
                  </a:lnTo>
                  <a:lnTo>
                    <a:pt x="2321" y="14539"/>
                  </a:lnTo>
                  <a:lnTo>
                    <a:pt x="2005" y="14686"/>
                  </a:lnTo>
                  <a:lnTo>
                    <a:pt x="1625" y="15127"/>
                  </a:lnTo>
                  <a:lnTo>
                    <a:pt x="1355" y="15716"/>
                  </a:lnTo>
                  <a:lnTo>
                    <a:pt x="1246" y="15863"/>
                  </a:lnTo>
                  <a:lnTo>
                    <a:pt x="1192" y="16010"/>
                  </a:lnTo>
                  <a:lnTo>
                    <a:pt x="1138" y="16157"/>
                  </a:lnTo>
                  <a:lnTo>
                    <a:pt x="975" y="16157"/>
                  </a:lnTo>
                  <a:lnTo>
                    <a:pt x="867" y="16010"/>
                  </a:lnTo>
                  <a:lnTo>
                    <a:pt x="813" y="16010"/>
                  </a:lnTo>
                  <a:lnTo>
                    <a:pt x="0" y="16451"/>
                  </a:lnTo>
                  <a:lnTo>
                    <a:pt x="108" y="16893"/>
                  </a:lnTo>
                  <a:lnTo>
                    <a:pt x="379" y="17040"/>
                  </a:lnTo>
                  <a:lnTo>
                    <a:pt x="759" y="17040"/>
                  </a:lnTo>
                  <a:lnTo>
                    <a:pt x="1192" y="16746"/>
                  </a:lnTo>
                  <a:lnTo>
                    <a:pt x="1734" y="16451"/>
                  </a:lnTo>
                  <a:lnTo>
                    <a:pt x="2375" y="16010"/>
                  </a:lnTo>
                  <a:lnTo>
                    <a:pt x="3025" y="15422"/>
                  </a:lnTo>
                  <a:lnTo>
                    <a:pt x="3675" y="14686"/>
                  </a:lnTo>
                  <a:lnTo>
                    <a:pt x="4271" y="13951"/>
                  </a:lnTo>
                  <a:lnTo>
                    <a:pt x="4759" y="13362"/>
                  </a:lnTo>
                  <a:lnTo>
                    <a:pt x="5075" y="12921"/>
                  </a:lnTo>
                  <a:lnTo>
                    <a:pt x="5129" y="12774"/>
                  </a:lnTo>
                  <a:lnTo>
                    <a:pt x="5183" y="12774"/>
                  </a:lnTo>
                  <a:lnTo>
                    <a:pt x="5454" y="12774"/>
                  </a:lnTo>
                  <a:lnTo>
                    <a:pt x="5833" y="12627"/>
                  </a:lnTo>
                  <a:lnTo>
                    <a:pt x="6429" y="12185"/>
                  </a:lnTo>
                  <a:lnTo>
                    <a:pt x="7134" y="11744"/>
                  </a:lnTo>
                  <a:lnTo>
                    <a:pt x="7883" y="11303"/>
                  </a:lnTo>
                  <a:lnTo>
                    <a:pt x="8696" y="10861"/>
                  </a:lnTo>
                  <a:lnTo>
                    <a:pt x="9563" y="10567"/>
                  </a:lnTo>
                  <a:lnTo>
                    <a:pt x="10367" y="10420"/>
                  </a:lnTo>
                  <a:lnTo>
                    <a:pt x="10637" y="10420"/>
                  </a:lnTo>
                  <a:lnTo>
                    <a:pt x="10963" y="10714"/>
                  </a:lnTo>
                  <a:lnTo>
                    <a:pt x="11667" y="11303"/>
                  </a:lnTo>
                  <a:lnTo>
                    <a:pt x="12100" y="11744"/>
                  </a:lnTo>
                  <a:lnTo>
                    <a:pt x="12480" y="12332"/>
                  </a:lnTo>
                  <a:lnTo>
                    <a:pt x="12796" y="13068"/>
                  </a:lnTo>
                  <a:lnTo>
                    <a:pt x="13012" y="13803"/>
                  </a:lnTo>
                  <a:lnTo>
                    <a:pt x="13067" y="14392"/>
                  </a:lnTo>
                  <a:lnTo>
                    <a:pt x="12958" y="15127"/>
                  </a:lnTo>
                  <a:lnTo>
                    <a:pt x="12850" y="15422"/>
                  </a:lnTo>
                  <a:lnTo>
                    <a:pt x="12687" y="15716"/>
                  </a:lnTo>
                  <a:lnTo>
                    <a:pt x="12425" y="16010"/>
                  </a:lnTo>
                  <a:lnTo>
                    <a:pt x="12155" y="16304"/>
                  </a:lnTo>
                  <a:lnTo>
                    <a:pt x="11559" y="16746"/>
                  </a:lnTo>
                  <a:lnTo>
                    <a:pt x="11071" y="17187"/>
                  </a:lnTo>
                  <a:lnTo>
                    <a:pt x="10637" y="17628"/>
                  </a:lnTo>
                  <a:lnTo>
                    <a:pt x="10312" y="18217"/>
                  </a:lnTo>
                  <a:lnTo>
                    <a:pt x="10041" y="18511"/>
                  </a:lnTo>
                  <a:lnTo>
                    <a:pt x="9834" y="18952"/>
                  </a:lnTo>
                  <a:lnTo>
                    <a:pt x="9725" y="19393"/>
                  </a:lnTo>
                  <a:lnTo>
                    <a:pt x="9617" y="19835"/>
                  </a:lnTo>
                  <a:lnTo>
                    <a:pt x="9563" y="20423"/>
                  </a:lnTo>
                  <a:lnTo>
                    <a:pt x="9617" y="21012"/>
                  </a:lnTo>
                  <a:lnTo>
                    <a:pt x="9725" y="21306"/>
                  </a:lnTo>
                  <a:lnTo>
                    <a:pt x="9780" y="21453"/>
                  </a:lnTo>
                  <a:lnTo>
                    <a:pt x="9834" y="21600"/>
                  </a:lnTo>
                  <a:lnTo>
                    <a:pt x="9987" y="21600"/>
                  </a:lnTo>
                  <a:lnTo>
                    <a:pt x="10150" y="21453"/>
                  </a:lnTo>
                  <a:lnTo>
                    <a:pt x="10367" y="21453"/>
                  </a:lnTo>
                  <a:lnTo>
                    <a:pt x="10908" y="21306"/>
                  </a:lnTo>
                  <a:lnTo>
                    <a:pt x="11450" y="21159"/>
                  </a:lnTo>
                  <a:lnTo>
                    <a:pt x="11992" y="21159"/>
                  </a:lnTo>
                  <a:lnTo>
                    <a:pt x="12534" y="21012"/>
                  </a:lnTo>
                  <a:lnTo>
                    <a:pt x="12741" y="21012"/>
                  </a:lnTo>
                  <a:lnTo>
                    <a:pt x="12904" y="20864"/>
                  </a:lnTo>
                  <a:lnTo>
                    <a:pt x="13012" y="20864"/>
                  </a:lnTo>
                  <a:lnTo>
                    <a:pt x="13067" y="20864"/>
                  </a:lnTo>
                  <a:lnTo>
                    <a:pt x="13175" y="20717"/>
                  </a:lnTo>
                  <a:lnTo>
                    <a:pt x="13392" y="20423"/>
                  </a:lnTo>
                  <a:lnTo>
                    <a:pt x="13771" y="19982"/>
                  </a:lnTo>
                  <a:lnTo>
                    <a:pt x="14204" y="19393"/>
                  </a:lnTo>
                  <a:lnTo>
                    <a:pt x="15125" y="18217"/>
                  </a:lnTo>
                  <a:lnTo>
                    <a:pt x="15496" y="17775"/>
                  </a:lnTo>
                  <a:lnTo>
                    <a:pt x="15821" y="17481"/>
                  </a:lnTo>
                  <a:lnTo>
                    <a:pt x="16308" y="16893"/>
                  </a:lnTo>
                  <a:lnTo>
                    <a:pt x="16633" y="16010"/>
                  </a:lnTo>
                  <a:lnTo>
                    <a:pt x="16850" y="14980"/>
                  </a:lnTo>
                  <a:lnTo>
                    <a:pt x="17013" y="14245"/>
                  </a:lnTo>
                  <a:lnTo>
                    <a:pt x="17392" y="12627"/>
                  </a:lnTo>
                  <a:lnTo>
                    <a:pt x="17871" y="11008"/>
                  </a:lnTo>
                  <a:lnTo>
                    <a:pt x="18412" y="9537"/>
                  </a:lnTo>
                  <a:lnTo>
                    <a:pt x="19008" y="8361"/>
                  </a:lnTo>
                  <a:lnTo>
                    <a:pt x="19496" y="7331"/>
                  </a:lnTo>
                  <a:lnTo>
                    <a:pt x="19929" y="6595"/>
                  </a:lnTo>
                  <a:lnTo>
                    <a:pt x="20200" y="6007"/>
                  </a:lnTo>
                  <a:lnTo>
                    <a:pt x="20309" y="5860"/>
                  </a:lnTo>
                  <a:lnTo>
                    <a:pt x="21600" y="4094"/>
                  </a:lnTo>
                  <a:lnTo>
                    <a:pt x="21600" y="1471"/>
                  </a:lnTo>
                  <a:lnTo>
                    <a:pt x="21600" y="0"/>
                  </a:lnTo>
                  <a:lnTo>
                    <a:pt x="21167" y="441"/>
                  </a:lnTo>
                  <a:lnTo>
                    <a:pt x="20787" y="883"/>
                  </a:lnTo>
                  <a:close/>
                  <a:moveTo>
                    <a:pt x="20787" y="883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59" name="AutoShape 10"/>
            <p:cNvSpPr/>
            <p:nvPr/>
          </p:nvSpPr>
          <p:spPr>
            <a:xfrm>
              <a:off x="8666280" y="4184640"/>
              <a:ext cx="1303200" cy="58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78" y="20591"/>
                  </a:moveTo>
                  <a:lnTo>
                    <a:pt x="707" y="21096"/>
                  </a:lnTo>
                  <a:lnTo>
                    <a:pt x="236" y="21600"/>
                  </a:lnTo>
                  <a:lnTo>
                    <a:pt x="0" y="21600"/>
                  </a:lnTo>
                  <a:lnTo>
                    <a:pt x="11978" y="9497"/>
                  </a:lnTo>
                  <a:lnTo>
                    <a:pt x="20422" y="0"/>
                  </a:lnTo>
                  <a:lnTo>
                    <a:pt x="20657" y="504"/>
                  </a:lnTo>
                  <a:lnTo>
                    <a:pt x="21364" y="1513"/>
                  </a:lnTo>
                  <a:lnTo>
                    <a:pt x="21600" y="2017"/>
                  </a:lnTo>
                  <a:lnTo>
                    <a:pt x="21600" y="3026"/>
                  </a:lnTo>
                  <a:lnTo>
                    <a:pt x="21364" y="3530"/>
                  </a:lnTo>
                  <a:lnTo>
                    <a:pt x="20657" y="4539"/>
                  </a:lnTo>
                  <a:lnTo>
                    <a:pt x="20186" y="5043"/>
                  </a:lnTo>
                  <a:lnTo>
                    <a:pt x="19715" y="5547"/>
                  </a:lnTo>
                  <a:lnTo>
                    <a:pt x="17594" y="7060"/>
                  </a:lnTo>
                  <a:lnTo>
                    <a:pt x="15002" y="9497"/>
                  </a:lnTo>
                  <a:lnTo>
                    <a:pt x="11978" y="12019"/>
                  </a:lnTo>
                  <a:lnTo>
                    <a:pt x="8915" y="14540"/>
                  </a:lnTo>
                  <a:lnTo>
                    <a:pt x="5852" y="17061"/>
                  </a:lnTo>
                  <a:lnTo>
                    <a:pt x="3260" y="19079"/>
                  </a:lnTo>
                  <a:lnTo>
                    <a:pt x="1178" y="20591"/>
                  </a:lnTo>
                  <a:close/>
                  <a:moveTo>
                    <a:pt x="1178" y="20591"/>
                  </a:move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60" name="Freeform 11"/>
            <p:cNvSpPr/>
            <p:nvPr/>
          </p:nvSpPr>
          <p:spPr>
            <a:xfrm>
              <a:off x="8666280" y="3898800"/>
              <a:ext cx="1617480" cy="86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880" y="338"/>
                  </a:moveTo>
                  <a:lnTo>
                    <a:pt x="17739" y="2369"/>
                  </a:lnTo>
                  <a:lnTo>
                    <a:pt x="15536" y="4737"/>
                  </a:lnTo>
                  <a:lnTo>
                    <a:pt x="15355" y="5076"/>
                  </a:lnTo>
                  <a:lnTo>
                    <a:pt x="14631" y="5752"/>
                  </a:lnTo>
                  <a:lnTo>
                    <a:pt x="13726" y="6768"/>
                  </a:lnTo>
                  <a:lnTo>
                    <a:pt x="12821" y="7783"/>
                  </a:lnTo>
                  <a:lnTo>
                    <a:pt x="11192" y="9475"/>
                  </a:lnTo>
                  <a:lnTo>
                    <a:pt x="9231" y="11167"/>
                  </a:lnTo>
                  <a:lnTo>
                    <a:pt x="5611" y="14156"/>
                  </a:lnTo>
                  <a:lnTo>
                    <a:pt x="3952" y="15171"/>
                  </a:lnTo>
                  <a:lnTo>
                    <a:pt x="2685" y="16186"/>
                  </a:lnTo>
                  <a:lnTo>
                    <a:pt x="1599" y="17201"/>
                  </a:lnTo>
                  <a:lnTo>
                    <a:pt x="1086" y="17539"/>
                  </a:lnTo>
                  <a:lnTo>
                    <a:pt x="362" y="18555"/>
                  </a:lnTo>
                  <a:lnTo>
                    <a:pt x="0" y="19908"/>
                  </a:lnTo>
                  <a:lnTo>
                    <a:pt x="0" y="20923"/>
                  </a:lnTo>
                  <a:lnTo>
                    <a:pt x="0" y="21600"/>
                  </a:lnTo>
                  <a:lnTo>
                    <a:pt x="362" y="20923"/>
                  </a:lnTo>
                  <a:lnTo>
                    <a:pt x="905" y="19908"/>
                  </a:lnTo>
                  <a:lnTo>
                    <a:pt x="1599" y="18893"/>
                  </a:lnTo>
                  <a:lnTo>
                    <a:pt x="2323" y="17878"/>
                  </a:lnTo>
                  <a:lnTo>
                    <a:pt x="3047" y="17539"/>
                  </a:lnTo>
                  <a:lnTo>
                    <a:pt x="3952" y="16863"/>
                  </a:lnTo>
                  <a:lnTo>
                    <a:pt x="6154" y="15171"/>
                  </a:lnTo>
                  <a:lnTo>
                    <a:pt x="7240" y="14156"/>
                  </a:lnTo>
                  <a:lnTo>
                    <a:pt x="8145" y="13479"/>
                  </a:lnTo>
                  <a:lnTo>
                    <a:pt x="8869" y="12858"/>
                  </a:lnTo>
                  <a:lnTo>
                    <a:pt x="9412" y="12520"/>
                  </a:lnTo>
                  <a:lnTo>
                    <a:pt x="9955" y="11843"/>
                  </a:lnTo>
                  <a:lnTo>
                    <a:pt x="11011" y="10490"/>
                  </a:lnTo>
                  <a:lnTo>
                    <a:pt x="12640" y="8798"/>
                  </a:lnTo>
                  <a:lnTo>
                    <a:pt x="14269" y="6768"/>
                  </a:lnTo>
                  <a:lnTo>
                    <a:pt x="15898" y="5076"/>
                  </a:lnTo>
                  <a:lnTo>
                    <a:pt x="17377" y="3384"/>
                  </a:lnTo>
                  <a:lnTo>
                    <a:pt x="18463" y="2369"/>
                  </a:lnTo>
                  <a:lnTo>
                    <a:pt x="18975" y="2030"/>
                  </a:lnTo>
                  <a:lnTo>
                    <a:pt x="19518" y="1692"/>
                  </a:lnTo>
                  <a:lnTo>
                    <a:pt x="20423" y="1015"/>
                  </a:lnTo>
                  <a:lnTo>
                    <a:pt x="21147" y="338"/>
                  </a:lnTo>
                  <a:lnTo>
                    <a:pt x="21509" y="0"/>
                  </a:lnTo>
                  <a:lnTo>
                    <a:pt x="19880" y="338"/>
                  </a:lnTo>
                  <a:lnTo>
                    <a:pt x="21600" y="355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61" name="Freeform 12"/>
            <p:cNvSpPr/>
            <p:nvPr/>
          </p:nvSpPr>
          <p:spPr>
            <a:xfrm>
              <a:off x="7794720" y="5126040"/>
              <a:ext cx="718920" cy="50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08" y="21600"/>
                  </a:moveTo>
                  <a:lnTo>
                    <a:pt x="0" y="18720"/>
                  </a:lnTo>
                  <a:lnTo>
                    <a:pt x="21396" y="0"/>
                  </a:lnTo>
                  <a:lnTo>
                    <a:pt x="20581" y="2592"/>
                  </a:lnTo>
                  <a:lnTo>
                    <a:pt x="21600" y="403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62" name="AutoShape 13"/>
            <p:cNvSpPr/>
            <p:nvPr/>
          </p:nvSpPr>
          <p:spPr>
            <a:xfrm>
              <a:off x="0" y="6000840"/>
              <a:ext cx="5857920" cy="2106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166" y="15627"/>
                  </a:moveTo>
                  <a:lnTo>
                    <a:pt x="8740" y="15210"/>
                  </a:lnTo>
                  <a:lnTo>
                    <a:pt x="9514" y="15071"/>
                  </a:lnTo>
                  <a:lnTo>
                    <a:pt x="13160" y="15974"/>
                  </a:lnTo>
                  <a:lnTo>
                    <a:pt x="13509" y="17086"/>
                  </a:lnTo>
                  <a:lnTo>
                    <a:pt x="13909" y="16738"/>
                  </a:lnTo>
                  <a:lnTo>
                    <a:pt x="13784" y="15627"/>
                  </a:lnTo>
                  <a:lnTo>
                    <a:pt x="9789" y="14377"/>
                  </a:lnTo>
                  <a:lnTo>
                    <a:pt x="14958" y="12363"/>
                  </a:lnTo>
                  <a:lnTo>
                    <a:pt x="15432" y="13127"/>
                  </a:lnTo>
                  <a:lnTo>
                    <a:pt x="15657" y="13543"/>
                  </a:lnTo>
                  <a:lnTo>
                    <a:pt x="15557" y="14168"/>
                  </a:lnTo>
                  <a:lnTo>
                    <a:pt x="16606" y="19725"/>
                  </a:lnTo>
                  <a:lnTo>
                    <a:pt x="17505" y="19933"/>
                  </a:lnTo>
                  <a:lnTo>
                    <a:pt x="15723" y="12455"/>
                  </a:lnTo>
                  <a:lnTo>
                    <a:pt x="15674" y="12039"/>
                  </a:lnTo>
                  <a:lnTo>
                    <a:pt x="15582" y="11761"/>
                  </a:lnTo>
                  <a:lnTo>
                    <a:pt x="15332" y="11344"/>
                  </a:lnTo>
                  <a:lnTo>
                    <a:pt x="15033" y="11066"/>
                  </a:lnTo>
                  <a:lnTo>
                    <a:pt x="14733" y="10788"/>
                  </a:lnTo>
                  <a:lnTo>
                    <a:pt x="14583" y="10511"/>
                  </a:lnTo>
                  <a:lnTo>
                    <a:pt x="14483" y="10372"/>
                  </a:lnTo>
                  <a:lnTo>
                    <a:pt x="14533" y="10094"/>
                  </a:lnTo>
                  <a:lnTo>
                    <a:pt x="14633" y="10094"/>
                  </a:lnTo>
                  <a:lnTo>
                    <a:pt x="14833" y="9955"/>
                  </a:lnTo>
                  <a:lnTo>
                    <a:pt x="15232" y="9955"/>
                  </a:lnTo>
                  <a:lnTo>
                    <a:pt x="15432" y="9955"/>
                  </a:lnTo>
                  <a:lnTo>
                    <a:pt x="15624" y="9816"/>
                  </a:lnTo>
                  <a:lnTo>
                    <a:pt x="16023" y="9260"/>
                  </a:lnTo>
                  <a:lnTo>
                    <a:pt x="16273" y="9122"/>
                  </a:lnTo>
                  <a:lnTo>
                    <a:pt x="16473" y="9122"/>
                  </a:lnTo>
                  <a:lnTo>
                    <a:pt x="17080" y="9168"/>
                  </a:lnTo>
                  <a:lnTo>
                    <a:pt x="17030" y="10557"/>
                  </a:lnTo>
                  <a:lnTo>
                    <a:pt x="18753" y="16947"/>
                  </a:lnTo>
                  <a:lnTo>
                    <a:pt x="19428" y="18891"/>
                  </a:lnTo>
                  <a:lnTo>
                    <a:pt x="20102" y="21600"/>
                  </a:lnTo>
                  <a:lnTo>
                    <a:pt x="20227" y="21044"/>
                  </a:lnTo>
                  <a:lnTo>
                    <a:pt x="19952" y="19169"/>
                  </a:lnTo>
                  <a:lnTo>
                    <a:pt x="17430" y="9538"/>
                  </a:lnTo>
                  <a:lnTo>
                    <a:pt x="17380" y="9260"/>
                  </a:lnTo>
                  <a:lnTo>
                    <a:pt x="17280" y="8705"/>
                  </a:lnTo>
                  <a:lnTo>
                    <a:pt x="17030" y="8010"/>
                  </a:lnTo>
                  <a:lnTo>
                    <a:pt x="16772" y="7455"/>
                  </a:lnTo>
                  <a:lnTo>
                    <a:pt x="16622" y="7038"/>
                  </a:lnTo>
                  <a:lnTo>
                    <a:pt x="16473" y="6760"/>
                  </a:lnTo>
                  <a:lnTo>
                    <a:pt x="16373" y="6621"/>
                  </a:lnTo>
                  <a:lnTo>
                    <a:pt x="16423" y="6621"/>
                  </a:lnTo>
                  <a:lnTo>
                    <a:pt x="16523" y="6621"/>
                  </a:lnTo>
                  <a:lnTo>
                    <a:pt x="16722" y="6621"/>
                  </a:lnTo>
                  <a:lnTo>
                    <a:pt x="16980" y="6899"/>
                  </a:lnTo>
                  <a:lnTo>
                    <a:pt x="17330" y="7455"/>
                  </a:lnTo>
                  <a:lnTo>
                    <a:pt x="17680" y="8057"/>
                  </a:lnTo>
                  <a:lnTo>
                    <a:pt x="18304" y="8890"/>
                  </a:lnTo>
                  <a:lnTo>
                    <a:pt x="19353" y="9862"/>
                  </a:lnTo>
                  <a:lnTo>
                    <a:pt x="19927" y="10372"/>
                  </a:lnTo>
                  <a:lnTo>
                    <a:pt x="21001" y="12085"/>
                  </a:lnTo>
                  <a:lnTo>
                    <a:pt x="21600" y="11946"/>
                  </a:lnTo>
                  <a:lnTo>
                    <a:pt x="20326" y="10511"/>
                  </a:lnTo>
                  <a:lnTo>
                    <a:pt x="19877" y="9816"/>
                  </a:lnTo>
                  <a:lnTo>
                    <a:pt x="19369" y="8983"/>
                  </a:lnTo>
                  <a:lnTo>
                    <a:pt x="18470" y="7871"/>
                  </a:lnTo>
                  <a:lnTo>
                    <a:pt x="17530" y="6760"/>
                  </a:lnTo>
                  <a:lnTo>
                    <a:pt x="17080" y="6482"/>
                  </a:lnTo>
                  <a:lnTo>
                    <a:pt x="16672" y="6205"/>
                  </a:lnTo>
                  <a:lnTo>
                    <a:pt x="16273" y="6066"/>
                  </a:lnTo>
                  <a:lnTo>
                    <a:pt x="15973" y="6205"/>
                  </a:lnTo>
                  <a:lnTo>
                    <a:pt x="15624" y="6343"/>
                  </a:lnTo>
                  <a:lnTo>
                    <a:pt x="15083" y="6343"/>
                  </a:lnTo>
                  <a:lnTo>
                    <a:pt x="14583" y="6343"/>
                  </a:lnTo>
                  <a:lnTo>
                    <a:pt x="14175" y="6621"/>
                  </a:lnTo>
                  <a:lnTo>
                    <a:pt x="13826" y="6760"/>
                  </a:lnTo>
                  <a:lnTo>
                    <a:pt x="13576" y="7038"/>
                  </a:lnTo>
                  <a:lnTo>
                    <a:pt x="13376" y="7316"/>
                  </a:lnTo>
                  <a:lnTo>
                    <a:pt x="13276" y="7455"/>
                  </a:lnTo>
                  <a:lnTo>
                    <a:pt x="13226" y="7455"/>
                  </a:lnTo>
                  <a:lnTo>
                    <a:pt x="12486" y="7732"/>
                  </a:lnTo>
                  <a:lnTo>
                    <a:pt x="11728" y="8288"/>
                  </a:lnTo>
                  <a:lnTo>
                    <a:pt x="10288" y="9677"/>
                  </a:lnTo>
                  <a:lnTo>
                    <a:pt x="9589" y="10233"/>
                  </a:lnTo>
                  <a:lnTo>
                    <a:pt x="8831" y="10650"/>
                  </a:lnTo>
                  <a:lnTo>
                    <a:pt x="8041" y="10650"/>
                  </a:lnTo>
                  <a:lnTo>
                    <a:pt x="7641" y="10511"/>
                  </a:lnTo>
                  <a:lnTo>
                    <a:pt x="7242" y="10233"/>
                  </a:lnTo>
                  <a:lnTo>
                    <a:pt x="7142" y="10094"/>
                  </a:lnTo>
                  <a:lnTo>
                    <a:pt x="6892" y="9955"/>
                  </a:lnTo>
                  <a:lnTo>
                    <a:pt x="6584" y="9538"/>
                  </a:lnTo>
                  <a:lnTo>
                    <a:pt x="6185" y="8983"/>
                  </a:lnTo>
                  <a:lnTo>
                    <a:pt x="5743" y="8427"/>
                  </a:lnTo>
                  <a:lnTo>
                    <a:pt x="5294" y="7732"/>
                  </a:lnTo>
                  <a:lnTo>
                    <a:pt x="4287" y="6482"/>
                  </a:lnTo>
                  <a:lnTo>
                    <a:pt x="3887" y="5927"/>
                  </a:lnTo>
                  <a:lnTo>
                    <a:pt x="3687" y="5649"/>
                  </a:lnTo>
                  <a:lnTo>
                    <a:pt x="0" y="0"/>
                  </a:lnTo>
                  <a:lnTo>
                    <a:pt x="1024" y="2778"/>
                  </a:lnTo>
                  <a:lnTo>
                    <a:pt x="4869" y="9029"/>
                  </a:lnTo>
                  <a:lnTo>
                    <a:pt x="5893" y="10696"/>
                  </a:lnTo>
                  <a:lnTo>
                    <a:pt x="7067" y="12571"/>
                  </a:lnTo>
                  <a:lnTo>
                    <a:pt x="7342" y="13057"/>
                  </a:lnTo>
                  <a:lnTo>
                    <a:pt x="7466" y="14377"/>
                  </a:lnTo>
                  <a:lnTo>
                    <a:pt x="8166" y="15627"/>
                  </a:lnTo>
                  <a:close/>
                  <a:moveTo>
                    <a:pt x="8166" y="15627"/>
                  </a:move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63" name="AutoShape 14"/>
            <p:cNvSpPr/>
            <p:nvPr/>
          </p:nvSpPr>
          <p:spPr>
            <a:xfrm>
              <a:off x="0" y="6759720"/>
              <a:ext cx="6146640" cy="246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5920"/>
                  </a:moveTo>
                  <a:lnTo>
                    <a:pt x="21537" y="4752"/>
                  </a:lnTo>
                  <a:lnTo>
                    <a:pt x="21069" y="3861"/>
                  </a:lnTo>
                  <a:lnTo>
                    <a:pt x="18800" y="1425"/>
                  </a:lnTo>
                  <a:lnTo>
                    <a:pt x="18268" y="1069"/>
                  </a:lnTo>
                  <a:lnTo>
                    <a:pt x="20505" y="3682"/>
                  </a:lnTo>
                  <a:lnTo>
                    <a:pt x="20553" y="3801"/>
                  </a:lnTo>
                  <a:lnTo>
                    <a:pt x="20601" y="3920"/>
                  </a:lnTo>
                  <a:lnTo>
                    <a:pt x="20791" y="4514"/>
                  </a:lnTo>
                  <a:lnTo>
                    <a:pt x="20934" y="5108"/>
                  </a:lnTo>
                  <a:lnTo>
                    <a:pt x="20989" y="5346"/>
                  </a:lnTo>
                  <a:lnTo>
                    <a:pt x="20934" y="5464"/>
                  </a:lnTo>
                  <a:lnTo>
                    <a:pt x="20648" y="5583"/>
                  </a:lnTo>
                  <a:lnTo>
                    <a:pt x="20267" y="5583"/>
                  </a:lnTo>
                  <a:lnTo>
                    <a:pt x="19887" y="5464"/>
                  </a:lnTo>
                  <a:lnTo>
                    <a:pt x="19458" y="5227"/>
                  </a:lnTo>
                  <a:lnTo>
                    <a:pt x="18990" y="4870"/>
                  </a:lnTo>
                  <a:lnTo>
                    <a:pt x="18562" y="4395"/>
                  </a:lnTo>
                  <a:lnTo>
                    <a:pt x="18411" y="4276"/>
                  </a:lnTo>
                  <a:lnTo>
                    <a:pt x="18221" y="4039"/>
                  </a:lnTo>
                  <a:lnTo>
                    <a:pt x="17221" y="2495"/>
                  </a:lnTo>
                  <a:lnTo>
                    <a:pt x="17174" y="2376"/>
                  </a:lnTo>
                  <a:lnTo>
                    <a:pt x="17086" y="2019"/>
                  </a:lnTo>
                  <a:lnTo>
                    <a:pt x="16753" y="1307"/>
                  </a:lnTo>
                  <a:lnTo>
                    <a:pt x="16373" y="475"/>
                  </a:lnTo>
                  <a:lnTo>
                    <a:pt x="16230" y="119"/>
                  </a:lnTo>
                  <a:lnTo>
                    <a:pt x="16135" y="0"/>
                  </a:lnTo>
                  <a:lnTo>
                    <a:pt x="16563" y="1425"/>
                  </a:lnTo>
                  <a:lnTo>
                    <a:pt x="16706" y="2138"/>
                  </a:lnTo>
                  <a:lnTo>
                    <a:pt x="16706" y="2257"/>
                  </a:lnTo>
                  <a:lnTo>
                    <a:pt x="16753" y="2257"/>
                  </a:lnTo>
                  <a:lnTo>
                    <a:pt x="19085" y="10216"/>
                  </a:lnTo>
                  <a:lnTo>
                    <a:pt x="19133" y="10572"/>
                  </a:lnTo>
                  <a:lnTo>
                    <a:pt x="19133" y="10929"/>
                  </a:lnTo>
                  <a:lnTo>
                    <a:pt x="18990" y="11404"/>
                  </a:lnTo>
                  <a:lnTo>
                    <a:pt x="18752" y="11641"/>
                  </a:lnTo>
                  <a:lnTo>
                    <a:pt x="18411" y="11641"/>
                  </a:lnTo>
                  <a:lnTo>
                    <a:pt x="18078" y="11166"/>
                  </a:lnTo>
                  <a:lnTo>
                    <a:pt x="17745" y="10572"/>
                  </a:lnTo>
                  <a:lnTo>
                    <a:pt x="17459" y="9978"/>
                  </a:lnTo>
                  <a:lnTo>
                    <a:pt x="17412" y="9860"/>
                  </a:lnTo>
                  <a:lnTo>
                    <a:pt x="17364" y="9741"/>
                  </a:lnTo>
                  <a:lnTo>
                    <a:pt x="17221" y="9147"/>
                  </a:lnTo>
                  <a:lnTo>
                    <a:pt x="16991" y="8315"/>
                  </a:lnTo>
                  <a:lnTo>
                    <a:pt x="16658" y="7484"/>
                  </a:lnTo>
                  <a:lnTo>
                    <a:pt x="16325" y="6533"/>
                  </a:lnTo>
                  <a:lnTo>
                    <a:pt x="16182" y="6296"/>
                  </a:lnTo>
                  <a:lnTo>
                    <a:pt x="16087" y="5940"/>
                  </a:lnTo>
                  <a:lnTo>
                    <a:pt x="15936" y="5227"/>
                  </a:lnTo>
                  <a:lnTo>
                    <a:pt x="15793" y="4633"/>
                  </a:lnTo>
                  <a:lnTo>
                    <a:pt x="15746" y="4158"/>
                  </a:lnTo>
                  <a:lnTo>
                    <a:pt x="15651" y="3801"/>
                  </a:lnTo>
                  <a:lnTo>
                    <a:pt x="15603" y="3564"/>
                  </a:lnTo>
                  <a:lnTo>
                    <a:pt x="15460" y="3445"/>
                  </a:lnTo>
                  <a:lnTo>
                    <a:pt x="15127" y="3089"/>
                  </a:lnTo>
                  <a:lnTo>
                    <a:pt x="14754" y="2732"/>
                  </a:lnTo>
                  <a:lnTo>
                    <a:pt x="14564" y="2613"/>
                  </a:lnTo>
                  <a:lnTo>
                    <a:pt x="14469" y="2613"/>
                  </a:lnTo>
                  <a:lnTo>
                    <a:pt x="14326" y="2613"/>
                  </a:lnTo>
                  <a:lnTo>
                    <a:pt x="14278" y="2732"/>
                  </a:lnTo>
                  <a:lnTo>
                    <a:pt x="14231" y="2851"/>
                  </a:lnTo>
                  <a:lnTo>
                    <a:pt x="14612" y="3089"/>
                  </a:lnTo>
                  <a:lnTo>
                    <a:pt x="14850" y="3564"/>
                  </a:lnTo>
                  <a:lnTo>
                    <a:pt x="14984" y="4039"/>
                  </a:lnTo>
                  <a:lnTo>
                    <a:pt x="15032" y="4395"/>
                  </a:lnTo>
                  <a:lnTo>
                    <a:pt x="14984" y="4752"/>
                  </a:lnTo>
                  <a:lnTo>
                    <a:pt x="15080" y="5346"/>
                  </a:lnTo>
                  <a:lnTo>
                    <a:pt x="15222" y="6296"/>
                  </a:lnTo>
                  <a:lnTo>
                    <a:pt x="15413" y="7246"/>
                  </a:lnTo>
                  <a:lnTo>
                    <a:pt x="15793" y="9503"/>
                  </a:lnTo>
                  <a:lnTo>
                    <a:pt x="16031" y="10572"/>
                  </a:lnTo>
                  <a:lnTo>
                    <a:pt x="16182" y="11523"/>
                  </a:lnTo>
                  <a:lnTo>
                    <a:pt x="16373" y="12473"/>
                  </a:lnTo>
                  <a:lnTo>
                    <a:pt x="16468" y="13186"/>
                  </a:lnTo>
                  <a:lnTo>
                    <a:pt x="16515" y="13522"/>
                  </a:lnTo>
                  <a:lnTo>
                    <a:pt x="16420" y="13760"/>
                  </a:lnTo>
                  <a:lnTo>
                    <a:pt x="16277" y="13760"/>
                  </a:lnTo>
                  <a:lnTo>
                    <a:pt x="16031" y="13760"/>
                  </a:lnTo>
                  <a:lnTo>
                    <a:pt x="15841" y="13760"/>
                  </a:lnTo>
                  <a:lnTo>
                    <a:pt x="15651" y="13641"/>
                  </a:lnTo>
                  <a:lnTo>
                    <a:pt x="15508" y="13522"/>
                  </a:lnTo>
                  <a:lnTo>
                    <a:pt x="15460" y="13522"/>
                  </a:lnTo>
                  <a:lnTo>
                    <a:pt x="15460" y="13403"/>
                  </a:lnTo>
                  <a:lnTo>
                    <a:pt x="15413" y="13304"/>
                  </a:lnTo>
                  <a:lnTo>
                    <a:pt x="15175" y="12592"/>
                  </a:lnTo>
                  <a:lnTo>
                    <a:pt x="14326" y="6415"/>
                  </a:lnTo>
                  <a:lnTo>
                    <a:pt x="14088" y="6533"/>
                  </a:lnTo>
                  <a:lnTo>
                    <a:pt x="13850" y="6533"/>
                  </a:lnTo>
                  <a:lnTo>
                    <a:pt x="13509" y="6177"/>
                  </a:lnTo>
                  <a:lnTo>
                    <a:pt x="13271" y="5702"/>
                  </a:lnTo>
                  <a:lnTo>
                    <a:pt x="13223" y="5464"/>
                  </a:lnTo>
                  <a:lnTo>
                    <a:pt x="13128" y="5346"/>
                  </a:lnTo>
                  <a:lnTo>
                    <a:pt x="12985" y="5464"/>
                  </a:lnTo>
                  <a:lnTo>
                    <a:pt x="12938" y="5702"/>
                  </a:lnTo>
                  <a:lnTo>
                    <a:pt x="12890" y="6058"/>
                  </a:lnTo>
                  <a:lnTo>
                    <a:pt x="12890" y="6177"/>
                  </a:lnTo>
                  <a:lnTo>
                    <a:pt x="13033" y="6296"/>
                  </a:lnTo>
                  <a:lnTo>
                    <a:pt x="13128" y="6652"/>
                  </a:lnTo>
                  <a:lnTo>
                    <a:pt x="13223" y="7246"/>
                  </a:lnTo>
                  <a:lnTo>
                    <a:pt x="13271" y="7959"/>
                  </a:lnTo>
                  <a:lnTo>
                    <a:pt x="13271" y="8078"/>
                  </a:lnTo>
                  <a:lnTo>
                    <a:pt x="13271" y="8197"/>
                  </a:lnTo>
                  <a:lnTo>
                    <a:pt x="13612" y="15067"/>
                  </a:lnTo>
                  <a:lnTo>
                    <a:pt x="13612" y="15304"/>
                  </a:lnTo>
                  <a:lnTo>
                    <a:pt x="13612" y="15423"/>
                  </a:lnTo>
                  <a:lnTo>
                    <a:pt x="13557" y="15304"/>
                  </a:lnTo>
                  <a:lnTo>
                    <a:pt x="13509" y="14948"/>
                  </a:lnTo>
                  <a:lnTo>
                    <a:pt x="13461" y="14829"/>
                  </a:lnTo>
                  <a:lnTo>
                    <a:pt x="13414" y="14591"/>
                  </a:lnTo>
                  <a:lnTo>
                    <a:pt x="13319" y="14116"/>
                  </a:lnTo>
                  <a:lnTo>
                    <a:pt x="13176" y="13304"/>
                  </a:lnTo>
                  <a:lnTo>
                    <a:pt x="13033" y="12473"/>
                  </a:lnTo>
                  <a:lnTo>
                    <a:pt x="12795" y="11523"/>
                  </a:lnTo>
                  <a:lnTo>
                    <a:pt x="12605" y="10691"/>
                  </a:lnTo>
                  <a:lnTo>
                    <a:pt x="12375" y="10097"/>
                  </a:lnTo>
                  <a:lnTo>
                    <a:pt x="12184" y="9741"/>
                  </a:lnTo>
                  <a:lnTo>
                    <a:pt x="11851" y="9503"/>
                  </a:lnTo>
                  <a:lnTo>
                    <a:pt x="11470" y="9503"/>
                  </a:lnTo>
                  <a:lnTo>
                    <a:pt x="11082" y="9622"/>
                  </a:lnTo>
                  <a:lnTo>
                    <a:pt x="10701" y="9860"/>
                  </a:lnTo>
                  <a:lnTo>
                    <a:pt x="9900" y="10454"/>
                  </a:lnTo>
                  <a:lnTo>
                    <a:pt x="9186" y="11285"/>
                  </a:lnTo>
                  <a:lnTo>
                    <a:pt x="8757" y="11879"/>
                  </a:lnTo>
                  <a:lnTo>
                    <a:pt x="8226" y="12354"/>
                  </a:lnTo>
                  <a:lnTo>
                    <a:pt x="7901" y="12473"/>
                  </a:lnTo>
                  <a:lnTo>
                    <a:pt x="7520" y="12473"/>
                  </a:lnTo>
                  <a:lnTo>
                    <a:pt x="7139" y="12235"/>
                  </a:lnTo>
                  <a:lnTo>
                    <a:pt x="6663" y="11641"/>
                  </a:lnTo>
                  <a:lnTo>
                    <a:pt x="5664" y="10572"/>
                  </a:lnTo>
                  <a:lnTo>
                    <a:pt x="4617" y="9384"/>
                  </a:lnTo>
                  <a:lnTo>
                    <a:pt x="3514" y="8078"/>
                  </a:lnTo>
                  <a:lnTo>
                    <a:pt x="2523" y="6890"/>
                  </a:lnTo>
                  <a:lnTo>
                    <a:pt x="1571" y="5702"/>
                  </a:lnTo>
                  <a:lnTo>
                    <a:pt x="1182" y="5227"/>
                  </a:lnTo>
                  <a:lnTo>
                    <a:pt x="809" y="4752"/>
                  </a:lnTo>
                  <a:lnTo>
                    <a:pt x="0" y="3702"/>
                  </a:lnTo>
                  <a:lnTo>
                    <a:pt x="0" y="9107"/>
                  </a:lnTo>
                  <a:lnTo>
                    <a:pt x="286" y="9384"/>
                  </a:lnTo>
                  <a:lnTo>
                    <a:pt x="1182" y="10216"/>
                  </a:lnTo>
                  <a:lnTo>
                    <a:pt x="1713" y="10691"/>
                  </a:lnTo>
                  <a:lnTo>
                    <a:pt x="2285" y="11285"/>
                  </a:lnTo>
                  <a:lnTo>
                    <a:pt x="2760" y="11760"/>
                  </a:lnTo>
                  <a:lnTo>
                    <a:pt x="3141" y="12235"/>
                  </a:lnTo>
                  <a:lnTo>
                    <a:pt x="3427" y="12592"/>
                  </a:lnTo>
                  <a:lnTo>
                    <a:pt x="3657" y="12948"/>
                  </a:lnTo>
                  <a:lnTo>
                    <a:pt x="3998" y="13304"/>
                  </a:lnTo>
                  <a:lnTo>
                    <a:pt x="4664" y="13997"/>
                  </a:lnTo>
                  <a:lnTo>
                    <a:pt x="5426" y="14710"/>
                  </a:lnTo>
                  <a:lnTo>
                    <a:pt x="5751" y="14948"/>
                  </a:lnTo>
                  <a:lnTo>
                    <a:pt x="6037" y="15185"/>
                  </a:lnTo>
                  <a:lnTo>
                    <a:pt x="6568" y="15423"/>
                  </a:lnTo>
                  <a:lnTo>
                    <a:pt x="7092" y="15542"/>
                  </a:lnTo>
                  <a:lnTo>
                    <a:pt x="7663" y="15660"/>
                  </a:lnTo>
                  <a:lnTo>
                    <a:pt x="8178" y="15660"/>
                  </a:lnTo>
                  <a:lnTo>
                    <a:pt x="8662" y="15542"/>
                  </a:lnTo>
                  <a:lnTo>
                    <a:pt x="9091" y="15542"/>
                  </a:lnTo>
                  <a:lnTo>
                    <a:pt x="9329" y="15423"/>
                  </a:lnTo>
                  <a:lnTo>
                    <a:pt x="9424" y="15423"/>
                  </a:lnTo>
                  <a:lnTo>
                    <a:pt x="9804" y="15542"/>
                  </a:lnTo>
                  <a:lnTo>
                    <a:pt x="10138" y="15660"/>
                  </a:lnTo>
                  <a:lnTo>
                    <a:pt x="10368" y="15898"/>
                  </a:lnTo>
                  <a:lnTo>
                    <a:pt x="10606" y="16017"/>
                  </a:lnTo>
                  <a:lnTo>
                    <a:pt x="10939" y="16373"/>
                  </a:lnTo>
                  <a:lnTo>
                    <a:pt x="11137" y="16730"/>
                  </a:lnTo>
                  <a:lnTo>
                    <a:pt x="11232" y="17086"/>
                  </a:lnTo>
                  <a:lnTo>
                    <a:pt x="11232" y="17324"/>
                  </a:lnTo>
                  <a:lnTo>
                    <a:pt x="11232" y="17442"/>
                  </a:lnTo>
                  <a:lnTo>
                    <a:pt x="11232" y="17561"/>
                  </a:lnTo>
                  <a:lnTo>
                    <a:pt x="11185" y="17561"/>
                  </a:lnTo>
                  <a:lnTo>
                    <a:pt x="11082" y="17680"/>
                  </a:lnTo>
                  <a:lnTo>
                    <a:pt x="10939" y="17918"/>
                  </a:lnTo>
                  <a:lnTo>
                    <a:pt x="10796" y="18274"/>
                  </a:lnTo>
                  <a:lnTo>
                    <a:pt x="10748" y="18630"/>
                  </a:lnTo>
                  <a:lnTo>
                    <a:pt x="10796" y="19224"/>
                  </a:lnTo>
                  <a:lnTo>
                    <a:pt x="10844" y="19581"/>
                  </a:lnTo>
                  <a:lnTo>
                    <a:pt x="10986" y="19937"/>
                  </a:lnTo>
                  <a:lnTo>
                    <a:pt x="11137" y="20293"/>
                  </a:lnTo>
                  <a:lnTo>
                    <a:pt x="11375" y="20768"/>
                  </a:lnTo>
                  <a:lnTo>
                    <a:pt x="11613" y="21125"/>
                  </a:lnTo>
                  <a:lnTo>
                    <a:pt x="11851" y="21481"/>
                  </a:lnTo>
                  <a:lnTo>
                    <a:pt x="12327" y="21600"/>
                  </a:lnTo>
                  <a:lnTo>
                    <a:pt x="12747" y="21481"/>
                  </a:lnTo>
                  <a:lnTo>
                    <a:pt x="13176" y="21125"/>
                  </a:lnTo>
                  <a:lnTo>
                    <a:pt x="13461" y="20650"/>
                  </a:lnTo>
                  <a:lnTo>
                    <a:pt x="13755" y="20175"/>
                  </a:lnTo>
                  <a:lnTo>
                    <a:pt x="13898" y="19699"/>
                  </a:lnTo>
                  <a:lnTo>
                    <a:pt x="13945" y="19581"/>
                  </a:lnTo>
                  <a:lnTo>
                    <a:pt x="14374" y="19581"/>
                  </a:lnTo>
                  <a:lnTo>
                    <a:pt x="14754" y="19462"/>
                  </a:lnTo>
                  <a:lnTo>
                    <a:pt x="15127" y="19105"/>
                  </a:lnTo>
                  <a:lnTo>
                    <a:pt x="15413" y="18630"/>
                  </a:lnTo>
                  <a:lnTo>
                    <a:pt x="15651" y="18155"/>
                  </a:lnTo>
                  <a:lnTo>
                    <a:pt x="15889" y="17799"/>
                  </a:lnTo>
                  <a:lnTo>
                    <a:pt x="15984" y="17442"/>
                  </a:lnTo>
                  <a:lnTo>
                    <a:pt x="16031" y="17324"/>
                  </a:lnTo>
                  <a:lnTo>
                    <a:pt x="17459" y="17799"/>
                  </a:lnTo>
                  <a:lnTo>
                    <a:pt x="17792" y="17918"/>
                  </a:lnTo>
                  <a:lnTo>
                    <a:pt x="18030" y="17799"/>
                  </a:lnTo>
                  <a:lnTo>
                    <a:pt x="18459" y="17561"/>
                  </a:lnTo>
                  <a:lnTo>
                    <a:pt x="18752" y="17086"/>
                  </a:lnTo>
                  <a:lnTo>
                    <a:pt x="18943" y="16373"/>
                  </a:lnTo>
                  <a:lnTo>
                    <a:pt x="19038" y="15779"/>
                  </a:lnTo>
                  <a:lnTo>
                    <a:pt x="19038" y="15185"/>
                  </a:lnTo>
                  <a:lnTo>
                    <a:pt x="19038" y="14710"/>
                  </a:lnTo>
                  <a:lnTo>
                    <a:pt x="19038" y="14591"/>
                  </a:lnTo>
                  <a:lnTo>
                    <a:pt x="19181" y="14591"/>
                  </a:lnTo>
                  <a:lnTo>
                    <a:pt x="19323" y="14473"/>
                  </a:lnTo>
                  <a:lnTo>
                    <a:pt x="19601" y="13879"/>
                  </a:lnTo>
                  <a:lnTo>
                    <a:pt x="19934" y="13067"/>
                  </a:lnTo>
                  <a:lnTo>
                    <a:pt x="20267" y="11998"/>
                  </a:lnTo>
                  <a:lnTo>
                    <a:pt x="20553" y="10929"/>
                  </a:lnTo>
                  <a:lnTo>
                    <a:pt x="20791" y="9978"/>
                  </a:lnTo>
                  <a:lnTo>
                    <a:pt x="20934" y="9266"/>
                  </a:lnTo>
                  <a:lnTo>
                    <a:pt x="20989" y="9147"/>
                  </a:lnTo>
                  <a:lnTo>
                    <a:pt x="20989" y="9028"/>
                  </a:lnTo>
                  <a:lnTo>
                    <a:pt x="21362" y="7405"/>
                  </a:lnTo>
                  <a:lnTo>
                    <a:pt x="21600" y="5920"/>
                  </a:lnTo>
                  <a:close/>
                  <a:moveTo>
                    <a:pt x="21600" y="5920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b9efee"/>
                </a:solidFill>
                <a:latin typeface="Lucida Grande"/>
              </a:rPr>
              <a:t>Click to edit the title text format</a:t>
            </a:r>
            <a:endParaRPr b="1" lang="en-US" sz="6200" spc="-1" strike="noStrike">
              <a:solidFill>
                <a:srgbClr val="b9efee"/>
              </a:solidFill>
              <a:latin typeface="Lucida Gran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Num" idx="7"/>
          </p:nvPr>
        </p:nvSpPr>
        <p:spPr>
          <a:xfrm>
            <a:off x="10648800" y="9207360"/>
            <a:ext cx="37152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04AA-1DB3-4EDD-9585-C1B093936B58}" type="slidenum">
              <a:rPr b="0" lang="en-US" sz="16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1" marL="630360" indent="-285840">
              <a:spcBef>
                <a:spcPts val="11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2" marL="1030320" indent="-228600">
              <a:spcBef>
                <a:spcPts val="1100"/>
              </a:spcBef>
              <a:buClr>
                <a:srgbClr val="b9efe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3" marL="1487520" indent="-228600">
              <a:spcBef>
                <a:spcPts val="11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4" marL="1944720" indent="-228600">
              <a:spcBef>
                <a:spcPts val="1100"/>
              </a:spcBef>
              <a:buClr>
                <a:srgbClr val="ccff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5" marL="1944720" indent="-228600">
              <a:spcBef>
                <a:spcPts val="11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6" marL="1944720" indent="-228600">
              <a:spcBef>
                <a:spcPts val="11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15"/>
          <p:cNvGrpSpPr/>
          <p:nvPr/>
        </p:nvGrpSpPr>
        <p:grpSpPr>
          <a:xfrm>
            <a:off x="0" y="3467160"/>
            <a:ext cx="13004640" cy="5754600"/>
            <a:chOff x="0" y="3467160"/>
            <a:chExt cx="13004640" cy="5754600"/>
          </a:xfrm>
        </p:grpSpPr>
        <p:sp>
          <p:nvSpPr>
            <p:cNvPr id="304" name="Rectangle 1"/>
            <p:cNvSpPr/>
            <p:nvPr/>
          </p:nvSpPr>
          <p:spPr>
            <a:xfrm rot="20160000">
              <a:off x="4782960" y="5864400"/>
              <a:ext cx="6934320" cy="86364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37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05" name="AutoShape 2"/>
            <p:cNvSpPr/>
            <p:nvPr/>
          </p:nvSpPr>
          <p:spPr>
            <a:xfrm>
              <a:off x="0" y="6019920"/>
              <a:ext cx="6070680" cy="2768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7714" y="9741"/>
                  </a:lnTo>
                  <a:lnTo>
                    <a:pt x="15814" y="4659"/>
                  </a:lnTo>
                  <a:lnTo>
                    <a:pt x="16296" y="4765"/>
                  </a:lnTo>
                  <a:lnTo>
                    <a:pt x="21383" y="9318"/>
                  </a:lnTo>
                  <a:lnTo>
                    <a:pt x="21600" y="11435"/>
                  </a:lnTo>
                  <a:lnTo>
                    <a:pt x="18514" y="19059"/>
                  </a:lnTo>
                  <a:lnTo>
                    <a:pt x="12729" y="21600"/>
                  </a:lnTo>
                  <a:lnTo>
                    <a:pt x="10414" y="16518"/>
                  </a:lnTo>
                  <a:lnTo>
                    <a:pt x="6943" y="18212"/>
                  </a:lnTo>
                  <a:lnTo>
                    <a:pt x="0" y="9741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06" name="AutoShape 3"/>
            <p:cNvSpPr/>
            <p:nvPr/>
          </p:nvSpPr>
          <p:spPr>
            <a:xfrm>
              <a:off x="7583400" y="3467160"/>
              <a:ext cx="5421240" cy="278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81" y="53"/>
                  </a:moveTo>
                  <a:lnTo>
                    <a:pt x="20511" y="53"/>
                  </a:lnTo>
                  <a:lnTo>
                    <a:pt x="19864" y="263"/>
                  </a:lnTo>
                  <a:lnTo>
                    <a:pt x="19216" y="473"/>
                  </a:lnTo>
                  <a:lnTo>
                    <a:pt x="19000" y="684"/>
                  </a:lnTo>
                  <a:lnTo>
                    <a:pt x="18784" y="999"/>
                  </a:lnTo>
                  <a:lnTo>
                    <a:pt x="18730" y="1105"/>
                  </a:lnTo>
                  <a:lnTo>
                    <a:pt x="18676" y="1210"/>
                  </a:lnTo>
                  <a:lnTo>
                    <a:pt x="17552" y="1736"/>
                  </a:lnTo>
                  <a:lnTo>
                    <a:pt x="17057" y="1946"/>
                  </a:lnTo>
                  <a:lnTo>
                    <a:pt x="16517" y="2051"/>
                  </a:lnTo>
                  <a:lnTo>
                    <a:pt x="15330" y="2367"/>
                  </a:lnTo>
                  <a:lnTo>
                    <a:pt x="14142" y="2682"/>
                  </a:lnTo>
                  <a:lnTo>
                    <a:pt x="12901" y="2893"/>
                  </a:lnTo>
                  <a:lnTo>
                    <a:pt x="11821" y="3103"/>
                  </a:lnTo>
                  <a:lnTo>
                    <a:pt x="11335" y="3208"/>
                  </a:lnTo>
                  <a:lnTo>
                    <a:pt x="10903" y="3314"/>
                  </a:lnTo>
                  <a:lnTo>
                    <a:pt x="10580" y="3314"/>
                  </a:lnTo>
                  <a:lnTo>
                    <a:pt x="10310" y="3419"/>
                  </a:lnTo>
                  <a:lnTo>
                    <a:pt x="10148" y="3419"/>
                  </a:lnTo>
                  <a:lnTo>
                    <a:pt x="10094" y="3419"/>
                  </a:lnTo>
                  <a:lnTo>
                    <a:pt x="10040" y="3524"/>
                  </a:lnTo>
                  <a:lnTo>
                    <a:pt x="9941" y="3629"/>
                  </a:lnTo>
                  <a:lnTo>
                    <a:pt x="9671" y="4050"/>
                  </a:lnTo>
                  <a:lnTo>
                    <a:pt x="9230" y="4576"/>
                  </a:lnTo>
                  <a:lnTo>
                    <a:pt x="8744" y="5102"/>
                  </a:lnTo>
                  <a:lnTo>
                    <a:pt x="8313" y="5628"/>
                  </a:lnTo>
                  <a:lnTo>
                    <a:pt x="7881" y="6049"/>
                  </a:lnTo>
                  <a:lnTo>
                    <a:pt x="7611" y="6364"/>
                  </a:lnTo>
                  <a:lnTo>
                    <a:pt x="7557" y="6469"/>
                  </a:lnTo>
                  <a:lnTo>
                    <a:pt x="7503" y="6469"/>
                  </a:lnTo>
                  <a:lnTo>
                    <a:pt x="6585" y="7311"/>
                  </a:lnTo>
                  <a:lnTo>
                    <a:pt x="5668" y="8030"/>
                  </a:lnTo>
                  <a:lnTo>
                    <a:pt x="5290" y="8345"/>
                  </a:lnTo>
                  <a:lnTo>
                    <a:pt x="4966" y="8556"/>
                  </a:lnTo>
                  <a:lnTo>
                    <a:pt x="4759" y="8766"/>
                  </a:lnTo>
                  <a:lnTo>
                    <a:pt x="4651" y="8871"/>
                  </a:lnTo>
                  <a:lnTo>
                    <a:pt x="4489" y="9187"/>
                  </a:lnTo>
                  <a:lnTo>
                    <a:pt x="4381" y="9503"/>
                  </a:lnTo>
                  <a:lnTo>
                    <a:pt x="4327" y="9818"/>
                  </a:lnTo>
                  <a:lnTo>
                    <a:pt x="4327" y="10134"/>
                  </a:lnTo>
                  <a:lnTo>
                    <a:pt x="4111" y="10344"/>
                  </a:lnTo>
                  <a:lnTo>
                    <a:pt x="3940" y="10449"/>
                  </a:lnTo>
                  <a:lnTo>
                    <a:pt x="3778" y="10765"/>
                  </a:lnTo>
                  <a:lnTo>
                    <a:pt x="3616" y="11186"/>
                  </a:lnTo>
                  <a:lnTo>
                    <a:pt x="3293" y="12238"/>
                  </a:lnTo>
                  <a:lnTo>
                    <a:pt x="3131" y="12764"/>
                  </a:lnTo>
                  <a:lnTo>
                    <a:pt x="2969" y="13290"/>
                  </a:lnTo>
                  <a:lnTo>
                    <a:pt x="2915" y="13605"/>
                  </a:lnTo>
                  <a:lnTo>
                    <a:pt x="2861" y="13710"/>
                  </a:lnTo>
                  <a:lnTo>
                    <a:pt x="2807" y="13816"/>
                  </a:lnTo>
                  <a:lnTo>
                    <a:pt x="2699" y="13921"/>
                  </a:lnTo>
                  <a:lnTo>
                    <a:pt x="2537" y="14131"/>
                  </a:lnTo>
                  <a:lnTo>
                    <a:pt x="2267" y="14447"/>
                  </a:lnTo>
                  <a:lnTo>
                    <a:pt x="1790" y="14973"/>
                  </a:lnTo>
                  <a:lnTo>
                    <a:pt x="1358" y="15499"/>
                  </a:lnTo>
                  <a:lnTo>
                    <a:pt x="756" y="16235"/>
                  </a:lnTo>
                  <a:lnTo>
                    <a:pt x="270" y="16866"/>
                  </a:lnTo>
                  <a:lnTo>
                    <a:pt x="108" y="17077"/>
                  </a:lnTo>
                  <a:lnTo>
                    <a:pt x="0" y="17392"/>
                  </a:lnTo>
                  <a:lnTo>
                    <a:pt x="0" y="17603"/>
                  </a:lnTo>
                  <a:lnTo>
                    <a:pt x="0" y="17918"/>
                  </a:lnTo>
                  <a:lnTo>
                    <a:pt x="108" y="18234"/>
                  </a:lnTo>
                  <a:lnTo>
                    <a:pt x="378" y="18339"/>
                  </a:lnTo>
                  <a:lnTo>
                    <a:pt x="756" y="18339"/>
                  </a:lnTo>
                  <a:lnTo>
                    <a:pt x="1188" y="18129"/>
                  </a:lnTo>
                  <a:lnTo>
                    <a:pt x="1736" y="17918"/>
                  </a:lnTo>
                  <a:lnTo>
                    <a:pt x="2375" y="17603"/>
                  </a:lnTo>
                  <a:lnTo>
                    <a:pt x="3023" y="17182"/>
                  </a:lnTo>
                  <a:lnTo>
                    <a:pt x="3670" y="16656"/>
                  </a:lnTo>
                  <a:lnTo>
                    <a:pt x="4273" y="16130"/>
                  </a:lnTo>
                  <a:lnTo>
                    <a:pt x="4759" y="15709"/>
                  </a:lnTo>
                  <a:lnTo>
                    <a:pt x="5074" y="15394"/>
                  </a:lnTo>
                  <a:lnTo>
                    <a:pt x="5128" y="15288"/>
                  </a:lnTo>
                  <a:lnTo>
                    <a:pt x="5182" y="15288"/>
                  </a:lnTo>
                  <a:lnTo>
                    <a:pt x="5452" y="15288"/>
                  </a:lnTo>
                  <a:lnTo>
                    <a:pt x="5830" y="15183"/>
                  </a:lnTo>
                  <a:lnTo>
                    <a:pt x="6423" y="14868"/>
                  </a:lnTo>
                  <a:lnTo>
                    <a:pt x="7134" y="14552"/>
                  </a:lnTo>
                  <a:lnTo>
                    <a:pt x="7881" y="14236"/>
                  </a:lnTo>
                  <a:lnTo>
                    <a:pt x="8690" y="13921"/>
                  </a:lnTo>
                  <a:lnTo>
                    <a:pt x="9563" y="13710"/>
                  </a:lnTo>
                  <a:lnTo>
                    <a:pt x="10364" y="13605"/>
                  </a:lnTo>
                  <a:lnTo>
                    <a:pt x="10903" y="13710"/>
                  </a:lnTo>
                  <a:lnTo>
                    <a:pt x="11551" y="14131"/>
                  </a:lnTo>
                  <a:lnTo>
                    <a:pt x="12208" y="14657"/>
                  </a:lnTo>
                  <a:lnTo>
                    <a:pt x="12739" y="15288"/>
                  </a:lnTo>
                  <a:lnTo>
                    <a:pt x="12901" y="15604"/>
                  </a:lnTo>
                  <a:lnTo>
                    <a:pt x="13063" y="15919"/>
                  </a:lnTo>
                  <a:lnTo>
                    <a:pt x="13171" y="16340"/>
                  </a:lnTo>
                  <a:lnTo>
                    <a:pt x="13171" y="16656"/>
                  </a:lnTo>
                  <a:lnTo>
                    <a:pt x="13117" y="16971"/>
                  </a:lnTo>
                  <a:lnTo>
                    <a:pt x="12955" y="17392"/>
                  </a:lnTo>
                  <a:lnTo>
                    <a:pt x="12685" y="17603"/>
                  </a:lnTo>
                  <a:lnTo>
                    <a:pt x="12316" y="17918"/>
                  </a:lnTo>
                  <a:lnTo>
                    <a:pt x="11713" y="18234"/>
                  </a:lnTo>
                  <a:lnTo>
                    <a:pt x="11227" y="18655"/>
                  </a:lnTo>
                  <a:lnTo>
                    <a:pt x="10796" y="18970"/>
                  </a:lnTo>
                  <a:lnTo>
                    <a:pt x="10418" y="19286"/>
                  </a:lnTo>
                  <a:lnTo>
                    <a:pt x="10148" y="19601"/>
                  </a:lnTo>
                  <a:lnTo>
                    <a:pt x="9986" y="19812"/>
                  </a:lnTo>
                  <a:lnTo>
                    <a:pt x="9833" y="20127"/>
                  </a:lnTo>
                  <a:lnTo>
                    <a:pt x="9725" y="20338"/>
                  </a:lnTo>
                  <a:lnTo>
                    <a:pt x="9617" y="20864"/>
                  </a:lnTo>
                  <a:lnTo>
                    <a:pt x="9671" y="21179"/>
                  </a:lnTo>
                  <a:lnTo>
                    <a:pt x="9725" y="21390"/>
                  </a:lnTo>
                  <a:lnTo>
                    <a:pt x="9779" y="21495"/>
                  </a:lnTo>
                  <a:lnTo>
                    <a:pt x="9833" y="21600"/>
                  </a:lnTo>
                  <a:lnTo>
                    <a:pt x="9986" y="21600"/>
                  </a:lnTo>
                  <a:lnTo>
                    <a:pt x="10148" y="21495"/>
                  </a:lnTo>
                  <a:lnTo>
                    <a:pt x="10364" y="21495"/>
                  </a:lnTo>
                  <a:lnTo>
                    <a:pt x="10903" y="21390"/>
                  </a:lnTo>
                  <a:lnTo>
                    <a:pt x="11443" y="21284"/>
                  </a:lnTo>
                  <a:lnTo>
                    <a:pt x="11983" y="21179"/>
                  </a:lnTo>
                  <a:lnTo>
                    <a:pt x="12532" y="20969"/>
                  </a:lnTo>
                  <a:lnTo>
                    <a:pt x="12739" y="20864"/>
                  </a:lnTo>
                  <a:lnTo>
                    <a:pt x="12901" y="20758"/>
                  </a:lnTo>
                  <a:lnTo>
                    <a:pt x="13009" y="20653"/>
                  </a:lnTo>
                  <a:lnTo>
                    <a:pt x="13063" y="20653"/>
                  </a:lnTo>
                  <a:lnTo>
                    <a:pt x="13171" y="20548"/>
                  </a:lnTo>
                  <a:lnTo>
                    <a:pt x="13386" y="20443"/>
                  </a:lnTo>
                  <a:lnTo>
                    <a:pt x="13764" y="20127"/>
                  </a:lnTo>
                  <a:lnTo>
                    <a:pt x="14196" y="19812"/>
                  </a:lnTo>
                  <a:lnTo>
                    <a:pt x="15123" y="19181"/>
                  </a:lnTo>
                  <a:lnTo>
                    <a:pt x="15492" y="18865"/>
                  </a:lnTo>
                  <a:lnTo>
                    <a:pt x="15815" y="18655"/>
                  </a:lnTo>
                  <a:lnTo>
                    <a:pt x="16301" y="18234"/>
                  </a:lnTo>
                  <a:lnTo>
                    <a:pt x="16625" y="17603"/>
                  </a:lnTo>
                  <a:lnTo>
                    <a:pt x="16841" y="16866"/>
                  </a:lnTo>
                  <a:lnTo>
                    <a:pt x="17003" y="16340"/>
                  </a:lnTo>
                  <a:lnTo>
                    <a:pt x="17381" y="15183"/>
                  </a:lnTo>
                  <a:lnTo>
                    <a:pt x="17867" y="14026"/>
                  </a:lnTo>
                  <a:lnTo>
                    <a:pt x="18406" y="12974"/>
                  </a:lnTo>
                  <a:lnTo>
                    <a:pt x="19000" y="12132"/>
                  </a:lnTo>
                  <a:lnTo>
                    <a:pt x="19486" y="11396"/>
                  </a:lnTo>
                  <a:lnTo>
                    <a:pt x="19918" y="10870"/>
                  </a:lnTo>
                  <a:lnTo>
                    <a:pt x="20188" y="10449"/>
                  </a:lnTo>
                  <a:lnTo>
                    <a:pt x="20305" y="10344"/>
                  </a:lnTo>
                  <a:lnTo>
                    <a:pt x="21591" y="9082"/>
                  </a:lnTo>
                  <a:lnTo>
                    <a:pt x="21591" y="999"/>
                  </a:lnTo>
                  <a:lnTo>
                    <a:pt x="21600" y="0"/>
                  </a:lnTo>
                  <a:lnTo>
                    <a:pt x="20781" y="53"/>
                  </a:lnTo>
                  <a:close/>
                  <a:moveTo>
                    <a:pt x="20781" y="53"/>
                  </a:moveTo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07" name="Freeform 4"/>
            <p:cNvSpPr/>
            <p:nvPr/>
          </p:nvSpPr>
          <p:spPr>
            <a:xfrm>
              <a:off x="8559720" y="3467160"/>
              <a:ext cx="4444920" cy="171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591" y="4677"/>
                  </a:moveTo>
                  <a:lnTo>
                    <a:pt x="7639" y="5669"/>
                  </a:lnTo>
                  <a:lnTo>
                    <a:pt x="7606" y="6718"/>
                  </a:lnTo>
                  <a:lnTo>
                    <a:pt x="10141" y="7313"/>
                  </a:lnTo>
                  <a:lnTo>
                    <a:pt x="10899" y="7569"/>
                  </a:lnTo>
                  <a:lnTo>
                    <a:pt x="7474" y="8249"/>
                  </a:lnTo>
                  <a:lnTo>
                    <a:pt x="6948" y="8759"/>
                  </a:lnTo>
                  <a:lnTo>
                    <a:pt x="7079" y="9524"/>
                  </a:lnTo>
                  <a:lnTo>
                    <a:pt x="7376" y="9950"/>
                  </a:lnTo>
                  <a:lnTo>
                    <a:pt x="10800" y="9439"/>
                  </a:lnTo>
                  <a:lnTo>
                    <a:pt x="11854" y="10120"/>
                  </a:lnTo>
                  <a:lnTo>
                    <a:pt x="6849" y="13946"/>
                  </a:lnTo>
                  <a:lnTo>
                    <a:pt x="6761" y="15194"/>
                  </a:lnTo>
                  <a:lnTo>
                    <a:pt x="88" y="20523"/>
                  </a:lnTo>
                  <a:lnTo>
                    <a:pt x="0" y="21430"/>
                  </a:lnTo>
                  <a:lnTo>
                    <a:pt x="296" y="21600"/>
                  </a:lnTo>
                  <a:lnTo>
                    <a:pt x="7288" y="15987"/>
                  </a:lnTo>
                  <a:lnTo>
                    <a:pt x="9395" y="17008"/>
                  </a:lnTo>
                  <a:lnTo>
                    <a:pt x="12710" y="14372"/>
                  </a:lnTo>
                  <a:lnTo>
                    <a:pt x="15739" y="13181"/>
                  </a:lnTo>
                  <a:lnTo>
                    <a:pt x="17254" y="10431"/>
                  </a:lnTo>
                  <a:lnTo>
                    <a:pt x="18790" y="9638"/>
                  </a:lnTo>
                  <a:lnTo>
                    <a:pt x="20371" y="9298"/>
                  </a:lnTo>
                  <a:lnTo>
                    <a:pt x="21600" y="9354"/>
                  </a:lnTo>
                  <a:lnTo>
                    <a:pt x="21600" y="0"/>
                  </a:lnTo>
                  <a:lnTo>
                    <a:pt x="21227" y="85"/>
                  </a:lnTo>
                  <a:lnTo>
                    <a:pt x="20107" y="142"/>
                  </a:lnTo>
                  <a:lnTo>
                    <a:pt x="18461" y="992"/>
                  </a:lnTo>
                  <a:lnTo>
                    <a:pt x="18033" y="2041"/>
                  </a:lnTo>
                  <a:lnTo>
                    <a:pt x="15278" y="3373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08" name="AutoShape 5"/>
            <p:cNvSpPr/>
            <p:nvPr/>
          </p:nvSpPr>
          <p:spPr>
            <a:xfrm>
              <a:off x="8124840" y="5591160"/>
              <a:ext cx="420840" cy="2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080"/>
                  </a:lnTo>
                  <a:lnTo>
                    <a:pt x="21600" y="3240"/>
                  </a:lnTo>
                  <a:lnTo>
                    <a:pt x="21600" y="6480"/>
                  </a:lnTo>
                  <a:lnTo>
                    <a:pt x="20899" y="9720"/>
                  </a:lnTo>
                  <a:lnTo>
                    <a:pt x="18798" y="12960"/>
                  </a:lnTo>
                  <a:lnTo>
                    <a:pt x="15996" y="17280"/>
                  </a:lnTo>
                  <a:lnTo>
                    <a:pt x="11792" y="19440"/>
                  </a:lnTo>
                  <a:lnTo>
                    <a:pt x="5488" y="21600"/>
                  </a:lnTo>
                  <a:lnTo>
                    <a:pt x="3386" y="21600"/>
                  </a:lnTo>
                  <a:lnTo>
                    <a:pt x="1985" y="20520"/>
                  </a:lnTo>
                  <a:lnTo>
                    <a:pt x="0" y="17280"/>
                  </a:lnTo>
                  <a:lnTo>
                    <a:pt x="0" y="14040"/>
                  </a:lnTo>
                  <a:lnTo>
                    <a:pt x="0" y="1296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09" name="AutoShape 6"/>
            <p:cNvSpPr/>
            <p:nvPr/>
          </p:nvSpPr>
          <p:spPr>
            <a:xfrm>
              <a:off x="8531280" y="5402160"/>
              <a:ext cx="417600" cy="2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080"/>
                  </a:lnTo>
                  <a:lnTo>
                    <a:pt x="20899" y="4320"/>
                  </a:lnTo>
                  <a:lnTo>
                    <a:pt x="19498" y="7560"/>
                  </a:lnTo>
                  <a:lnTo>
                    <a:pt x="17397" y="11880"/>
                  </a:lnTo>
                  <a:lnTo>
                    <a:pt x="15295" y="16200"/>
                  </a:lnTo>
                  <a:lnTo>
                    <a:pt x="11909" y="19440"/>
                  </a:lnTo>
                  <a:lnTo>
                    <a:pt x="7706" y="21600"/>
                  </a:lnTo>
                  <a:lnTo>
                    <a:pt x="2102" y="21600"/>
                  </a:lnTo>
                  <a:lnTo>
                    <a:pt x="0" y="1080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10" name="AutoShape 7"/>
            <p:cNvSpPr/>
            <p:nvPr/>
          </p:nvSpPr>
          <p:spPr>
            <a:xfrm>
              <a:off x="8666280" y="4145040"/>
              <a:ext cx="1193760" cy="62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21129"/>
                  </a:lnTo>
                  <a:lnTo>
                    <a:pt x="246" y="19715"/>
                  </a:lnTo>
                  <a:lnTo>
                    <a:pt x="246" y="18772"/>
                  </a:lnTo>
                  <a:lnTo>
                    <a:pt x="493" y="17830"/>
                  </a:lnTo>
                  <a:lnTo>
                    <a:pt x="739" y="17359"/>
                  </a:lnTo>
                  <a:lnTo>
                    <a:pt x="1478" y="16887"/>
                  </a:lnTo>
                  <a:lnTo>
                    <a:pt x="3162" y="15945"/>
                  </a:lnTo>
                  <a:lnTo>
                    <a:pt x="5626" y="14060"/>
                  </a:lnTo>
                  <a:lnTo>
                    <a:pt x="8583" y="11232"/>
                  </a:lnTo>
                  <a:lnTo>
                    <a:pt x="10307" y="9425"/>
                  </a:lnTo>
                  <a:lnTo>
                    <a:pt x="12278" y="7540"/>
                  </a:lnTo>
                  <a:lnTo>
                    <a:pt x="16179" y="3770"/>
                  </a:lnTo>
                  <a:lnTo>
                    <a:pt x="18151" y="2356"/>
                  </a:lnTo>
                  <a:lnTo>
                    <a:pt x="19629" y="943"/>
                  </a:lnTo>
                  <a:lnTo>
                    <a:pt x="20614" y="471"/>
                  </a:lnTo>
                  <a:lnTo>
                    <a:pt x="21354" y="0"/>
                  </a:lnTo>
                  <a:lnTo>
                    <a:pt x="21600" y="0"/>
                  </a:lnTo>
                  <a:lnTo>
                    <a:pt x="21354" y="471"/>
                  </a:lnTo>
                  <a:lnTo>
                    <a:pt x="20861" y="943"/>
                  </a:lnTo>
                  <a:lnTo>
                    <a:pt x="19875" y="1885"/>
                  </a:lnTo>
                  <a:lnTo>
                    <a:pt x="18890" y="3299"/>
                  </a:lnTo>
                  <a:lnTo>
                    <a:pt x="17904" y="4241"/>
                  </a:lnTo>
                  <a:lnTo>
                    <a:pt x="16179" y="6127"/>
                  </a:lnTo>
                  <a:lnTo>
                    <a:pt x="13962" y="8483"/>
                  </a:lnTo>
                  <a:lnTo>
                    <a:pt x="11293" y="11232"/>
                  </a:lnTo>
                  <a:lnTo>
                    <a:pt x="5379" y="17359"/>
                  </a:lnTo>
                  <a:lnTo>
                    <a:pt x="2669" y="19715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11" name="AutoShape 8"/>
            <p:cNvSpPr/>
            <p:nvPr/>
          </p:nvSpPr>
          <p:spPr>
            <a:xfrm>
              <a:off x="8299440" y="4548240"/>
              <a:ext cx="1627200" cy="690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44" y="15247"/>
                  </a:moveTo>
                  <a:lnTo>
                    <a:pt x="903" y="17788"/>
                  </a:lnTo>
                  <a:lnTo>
                    <a:pt x="361" y="19906"/>
                  </a:lnTo>
                  <a:lnTo>
                    <a:pt x="181" y="21176"/>
                  </a:lnTo>
                  <a:lnTo>
                    <a:pt x="0" y="21600"/>
                  </a:lnTo>
                  <a:lnTo>
                    <a:pt x="1444" y="19482"/>
                  </a:lnTo>
                  <a:lnTo>
                    <a:pt x="2527" y="17788"/>
                  </a:lnTo>
                  <a:lnTo>
                    <a:pt x="3249" y="16518"/>
                  </a:lnTo>
                  <a:lnTo>
                    <a:pt x="3610" y="16094"/>
                  </a:lnTo>
                  <a:lnTo>
                    <a:pt x="3791" y="16094"/>
                  </a:lnTo>
                  <a:lnTo>
                    <a:pt x="4332" y="15671"/>
                  </a:lnTo>
                  <a:lnTo>
                    <a:pt x="5054" y="15247"/>
                  </a:lnTo>
                  <a:lnTo>
                    <a:pt x="5957" y="14400"/>
                  </a:lnTo>
                  <a:lnTo>
                    <a:pt x="8273" y="12706"/>
                  </a:lnTo>
                  <a:lnTo>
                    <a:pt x="11161" y="11012"/>
                  </a:lnTo>
                  <a:lnTo>
                    <a:pt x="13869" y="8894"/>
                  </a:lnTo>
                  <a:lnTo>
                    <a:pt x="16365" y="7200"/>
                  </a:lnTo>
                  <a:lnTo>
                    <a:pt x="17268" y="6353"/>
                  </a:lnTo>
                  <a:lnTo>
                    <a:pt x="18170" y="5929"/>
                  </a:lnTo>
                  <a:lnTo>
                    <a:pt x="18712" y="5506"/>
                  </a:lnTo>
                  <a:lnTo>
                    <a:pt x="18892" y="5082"/>
                  </a:lnTo>
                  <a:lnTo>
                    <a:pt x="19073" y="4659"/>
                  </a:lnTo>
                  <a:lnTo>
                    <a:pt x="19614" y="4235"/>
                  </a:lnTo>
                  <a:lnTo>
                    <a:pt x="20878" y="2118"/>
                  </a:lnTo>
                  <a:lnTo>
                    <a:pt x="21419" y="1271"/>
                  </a:lnTo>
                  <a:lnTo>
                    <a:pt x="21600" y="424"/>
                  </a:lnTo>
                  <a:lnTo>
                    <a:pt x="21419" y="0"/>
                  </a:lnTo>
                  <a:lnTo>
                    <a:pt x="20697" y="0"/>
                  </a:lnTo>
                  <a:lnTo>
                    <a:pt x="18892" y="0"/>
                  </a:lnTo>
                  <a:lnTo>
                    <a:pt x="17448" y="0"/>
                  </a:lnTo>
                  <a:lnTo>
                    <a:pt x="16365" y="0"/>
                  </a:lnTo>
                  <a:lnTo>
                    <a:pt x="15463" y="1271"/>
                  </a:lnTo>
                  <a:lnTo>
                    <a:pt x="14591" y="2965"/>
                  </a:lnTo>
                  <a:lnTo>
                    <a:pt x="14049" y="3812"/>
                  </a:lnTo>
                  <a:lnTo>
                    <a:pt x="13508" y="4235"/>
                  </a:lnTo>
                  <a:lnTo>
                    <a:pt x="12786" y="4235"/>
                  </a:lnTo>
                  <a:lnTo>
                    <a:pt x="11703" y="4659"/>
                  </a:lnTo>
                  <a:lnTo>
                    <a:pt x="10439" y="5929"/>
                  </a:lnTo>
                  <a:lnTo>
                    <a:pt x="9356" y="7624"/>
                  </a:lnTo>
                  <a:lnTo>
                    <a:pt x="8634" y="8894"/>
                  </a:lnTo>
                  <a:lnTo>
                    <a:pt x="8273" y="9318"/>
                  </a:lnTo>
                  <a:lnTo>
                    <a:pt x="7731" y="9741"/>
                  </a:lnTo>
                  <a:lnTo>
                    <a:pt x="6648" y="9741"/>
                  </a:lnTo>
                  <a:lnTo>
                    <a:pt x="5596" y="9741"/>
                  </a:lnTo>
                  <a:lnTo>
                    <a:pt x="5415" y="9741"/>
                  </a:lnTo>
                  <a:lnTo>
                    <a:pt x="5235" y="9741"/>
                  </a:lnTo>
                  <a:lnTo>
                    <a:pt x="3430" y="11435"/>
                  </a:lnTo>
                  <a:lnTo>
                    <a:pt x="1444" y="15247"/>
                  </a:lnTo>
                  <a:close/>
                  <a:moveTo>
                    <a:pt x="1444" y="15247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12" name="AutoShape 9"/>
            <p:cNvSpPr/>
            <p:nvPr/>
          </p:nvSpPr>
          <p:spPr>
            <a:xfrm>
              <a:off x="7580160" y="4267440"/>
              <a:ext cx="5423040" cy="198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87" y="883"/>
                  </a:moveTo>
                  <a:lnTo>
                    <a:pt x="20462" y="1177"/>
                  </a:lnTo>
                  <a:lnTo>
                    <a:pt x="20146" y="1324"/>
                  </a:lnTo>
                  <a:lnTo>
                    <a:pt x="19875" y="1324"/>
                  </a:lnTo>
                  <a:lnTo>
                    <a:pt x="19821" y="1324"/>
                  </a:lnTo>
                  <a:lnTo>
                    <a:pt x="19767" y="1324"/>
                  </a:lnTo>
                  <a:lnTo>
                    <a:pt x="19659" y="1471"/>
                  </a:lnTo>
                  <a:lnTo>
                    <a:pt x="19388" y="1618"/>
                  </a:lnTo>
                  <a:lnTo>
                    <a:pt x="19008" y="1912"/>
                  </a:lnTo>
                  <a:lnTo>
                    <a:pt x="18575" y="2182"/>
                  </a:lnTo>
                  <a:lnTo>
                    <a:pt x="18250" y="2476"/>
                  </a:lnTo>
                  <a:lnTo>
                    <a:pt x="18033" y="2623"/>
                  </a:lnTo>
                  <a:lnTo>
                    <a:pt x="17816" y="2770"/>
                  </a:lnTo>
                  <a:lnTo>
                    <a:pt x="17663" y="2918"/>
                  </a:lnTo>
                  <a:lnTo>
                    <a:pt x="17392" y="3212"/>
                  </a:lnTo>
                  <a:lnTo>
                    <a:pt x="17121" y="3359"/>
                  </a:lnTo>
                  <a:lnTo>
                    <a:pt x="16796" y="4094"/>
                  </a:lnTo>
                  <a:lnTo>
                    <a:pt x="16633" y="4683"/>
                  </a:lnTo>
                  <a:lnTo>
                    <a:pt x="16579" y="5418"/>
                  </a:lnTo>
                  <a:lnTo>
                    <a:pt x="16579" y="6007"/>
                  </a:lnTo>
                  <a:lnTo>
                    <a:pt x="16633" y="6595"/>
                  </a:lnTo>
                  <a:lnTo>
                    <a:pt x="16633" y="7184"/>
                  </a:lnTo>
                  <a:lnTo>
                    <a:pt x="16633" y="7478"/>
                  </a:lnTo>
                  <a:lnTo>
                    <a:pt x="16471" y="7919"/>
                  </a:lnTo>
                  <a:lnTo>
                    <a:pt x="16200" y="8066"/>
                  </a:lnTo>
                  <a:lnTo>
                    <a:pt x="15875" y="7772"/>
                  </a:lnTo>
                  <a:lnTo>
                    <a:pt x="15496" y="7331"/>
                  </a:lnTo>
                  <a:lnTo>
                    <a:pt x="14963" y="6742"/>
                  </a:lnTo>
                  <a:lnTo>
                    <a:pt x="14421" y="6448"/>
                  </a:lnTo>
                  <a:lnTo>
                    <a:pt x="13933" y="6301"/>
                  </a:lnTo>
                  <a:lnTo>
                    <a:pt x="13717" y="6301"/>
                  </a:lnTo>
                  <a:lnTo>
                    <a:pt x="13608" y="6301"/>
                  </a:lnTo>
                  <a:lnTo>
                    <a:pt x="13446" y="6448"/>
                  </a:lnTo>
                  <a:lnTo>
                    <a:pt x="13175" y="6742"/>
                  </a:lnTo>
                  <a:lnTo>
                    <a:pt x="12633" y="7625"/>
                  </a:lnTo>
                  <a:lnTo>
                    <a:pt x="12425" y="8066"/>
                  </a:lnTo>
                  <a:lnTo>
                    <a:pt x="12209" y="8361"/>
                  </a:lnTo>
                  <a:lnTo>
                    <a:pt x="12046" y="8655"/>
                  </a:lnTo>
                  <a:lnTo>
                    <a:pt x="11992" y="8802"/>
                  </a:lnTo>
                  <a:lnTo>
                    <a:pt x="11938" y="8802"/>
                  </a:lnTo>
                  <a:lnTo>
                    <a:pt x="11829" y="8802"/>
                  </a:lnTo>
                  <a:lnTo>
                    <a:pt x="11613" y="8949"/>
                  </a:lnTo>
                  <a:lnTo>
                    <a:pt x="11396" y="8949"/>
                  </a:lnTo>
                  <a:lnTo>
                    <a:pt x="10963" y="9096"/>
                  </a:lnTo>
                  <a:lnTo>
                    <a:pt x="10800" y="9096"/>
                  </a:lnTo>
                  <a:lnTo>
                    <a:pt x="10637" y="8949"/>
                  </a:lnTo>
                  <a:lnTo>
                    <a:pt x="10475" y="8949"/>
                  </a:lnTo>
                  <a:lnTo>
                    <a:pt x="10204" y="8949"/>
                  </a:lnTo>
                  <a:lnTo>
                    <a:pt x="9888" y="8949"/>
                  </a:lnTo>
                  <a:lnTo>
                    <a:pt x="9509" y="9096"/>
                  </a:lnTo>
                  <a:lnTo>
                    <a:pt x="9184" y="9243"/>
                  </a:lnTo>
                  <a:lnTo>
                    <a:pt x="8859" y="9243"/>
                  </a:lnTo>
                  <a:lnTo>
                    <a:pt x="8642" y="9390"/>
                  </a:lnTo>
                  <a:lnTo>
                    <a:pt x="8533" y="9537"/>
                  </a:lnTo>
                  <a:lnTo>
                    <a:pt x="8479" y="9684"/>
                  </a:lnTo>
                  <a:lnTo>
                    <a:pt x="8317" y="9832"/>
                  </a:lnTo>
                  <a:lnTo>
                    <a:pt x="7937" y="9979"/>
                  </a:lnTo>
                  <a:lnTo>
                    <a:pt x="7558" y="10273"/>
                  </a:lnTo>
                  <a:lnTo>
                    <a:pt x="7396" y="10273"/>
                  </a:lnTo>
                  <a:lnTo>
                    <a:pt x="7296" y="10273"/>
                  </a:lnTo>
                  <a:lnTo>
                    <a:pt x="7188" y="10273"/>
                  </a:lnTo>
                  <a:lnTo>
                    <a:pt x="7025" y="10273"/>
                  </a:lnTo>
                  <a:lnTo>
                    <a:pt x="6809" y="10273"/>
                  </a:lnTo>
                  <a:lnTo>
                    <a:pt x="6538" y="10420"/>
                  </a:lnTo>
                  <a:lnTo>
                    <a:pt x="5996" y="10714"/>
                  </a:lnTo>
                  <a:lnTo>
                    <a:pt x="5779" y="11008"/>
                  </a:lnTo>
                  <a:lnTo>
                    <a:pt x="5563" y="11303"/>
                  </a:lnTo>
                  <a:lnTo>
                    <a:pt x="5400" y="11597"/>
                  </a:lnTo>
                  <a:lnTo>
                    <a:pt x="5237" y="11597"/>
                  </a:lnTo>
                  <a:lnTo>
                    <a:pt x="4858" y="11597"/>
                  </a:lnTo>
                  <a:lnTo>
                    <a:pt x="4542" y="11450"/>
                  </a:lnTo>
                  <a:lnTo>
                    <a:pt x="4163" y="11597"/>
                  </a:lnTo>
                  <a:lnTo>
                    <a:pt x="4000" y="11744"/>
                  </a:lnTo>
                  <a:lnTo>
                    <a:pt x="3892" y="12038"/>
                  </a:lnTo>
                  <a:lnTo>
                    <a:pt x="3838" y="12479"/>
                  </a:lnTo>
                  <a:lnTo>
                    <a:pt x="3784" y="13068"/>
                  </a:lnTo>
                  <a:lnTo>
                    <a:pt x="3729" y="13215"/>
                  </a:lnTo>
                  <a:lnTo>
                    <a:pt x="3675" y="13362"/>
                  </a:lnTo>
                  <a:lnTo>
                    <a:pt x="3513" y="13509"/>
                  </a:lnTo>
                  <a:lnTo>
                    <a:pt x="3133" y="13951"/>
                  </a:lnTo>
                  <a:lnTo>
                    <a:pt x="2700" y="14392"/>
                  </a:lnTo>
                  <a:lnTo>
                    <a:pt x="2321" y="14539"/>
                  </a:lnTo>
                  <a:lnTo>
                    <a:pt x="2005" y="14686"/>
                  </a:lnTo>
                  <a:lnTo>
                    <a:pt x="1625" y="15127"/>
                  </a:lnTo>
                  <a:lnTo>
                    <a:pt x="1355" y="15716"/>
                  </a:lnTo>
                  <a:lnTo>
                    <a:pt x="1246" y="15863"/>
                  </a:lnTo>
                  <a:lnTo>
                    <a:pt x="1192" y="16010"/>
                  </a:lnTo>
                  <a:lnTo>
                    <a:pt x="1138" y="16157"/>
                  </a:lnTo>
                  <a:lnTo>
                    <a:pt x="975" y="16157"/>
                  </a:lnTo>
                  <a:lnTo>
                    <a:pt x="867" y="16010"/>
                  </a:lnTo>
                  <a:lnTo>
                    <a:pt x="813" y="16010"/>
                  </a:lnTo>
                  <a:lnTo>
                    <a:pt x="0" y="16451"/>
                  </a:lnTo>
                  <a:lnTo>
                    <a:pt x="108" y="16893"/>
                  </a:lnTo>
                  <a:lnTo>
                    <a:pt x="379" y="17040"/>
                  </a:lnTo>
                  <a:lnTo>
                    <a:pt x="759" y="17040"/>
                  </a:lnTo>
                  <a:lnTo>
                    <a:pt x="1192" y="16746"/>
                  </a:lnTo>
                  <a:lnTo>
                    <a:pt x="1734" y="16451"/>
                  </a:lnTo>
                  <a:lnTo>
                    <a:pt x="2375" y="16010"/>
                  </a:lnTo>
                  <a:lnTo>
                    <a:pt x="3025" y="15422"/>
                  </a:lnTo>
                  <a:lnTo>
                    <a:pt x="3675" y="14686"/>
                  </a:lnTo>
                  <a:lnTo>
                    <a:pt x="4271" y="13951"/>
                  </a:lnTo>
                  <a:lnTo>
                    <a:pt x="4759" y="13362"/>
                  </a:lnTo>
                  <a:lnTo>
                    <a:pt x="5075" y="12921"/>
                  </a:lnTo>
                  <a:lnTo>
                    <a:pt x="5129" y="12774"/>
                  </a:lnTo>
                  <a:lnTo>
                    <a:pt x="5183" y="12774"/>
                  </a:lnTo>
                  <a:lnTo>
                    <a:pt x="5454" y="12774"/>
                  </a:lnTo>
                  <a:lnTo>
                    <a:pt x="5833" y="12627"/>
                  </a:lnTo>
                  <a:lnTo>
                    <a:pt x="6429" y="12185"/>
                  </a:lnTo>
                  <a:lnTo>
                    <a:pt x="7134" y="11744"/>
                  </a:lnTo>
                  <a:lnTo>
                    <a:pt x="7883" y="11303"/>
                  </a:lnTo>
                  <a:lnTo>
                    <a:pt x="8696" y="10861"/>
                  </a:lnTo>
                  <a:lnTo>
                    <a:pt x="9563" y="10567"/>
                  </a:lnTo>
                  <a:lnTo>
                    <a:pt x="10367" y="10420"/>
                  </a:lnTo>
                  <a:lnTo>
                    <a:pt x="10637" y="10420"/>
                  </a:lnTo>
                  <a:lnTo>
                    <a:pt x="10963" y="10714"/>
                  </a:lnTo>
                  <a:lnTo>
                    <a:pt x="11667" y="11303"/>
                  </a:lnTo>
                  <a:lnTo>
                    <a:pt x="12100" y="11744"/>
                  </a:lnTo>
                  <a:lnTo>
                    <a:pt x="12480" y="12332"/>
                  </a:lnTo>
                  <a:lnTo>
                    <a:pt x="12796" y="13068"/>
                  </a:lnTo>
                  <a:lnTo>
                    <a:pt x="13012" y="13803"/>
                  </a:lnTo>
                  <a:lnTo>
                    <a:pt x="13067" y="14392"/>
                  </a:lnTo>
                  <a:lnTo>
                    <a:pt x="12958" y="15127"/>
                  </a:lnTo>
                  <a:lnTo>
                    <a:pt x="12850" y="15422"/>
                  </a:lnTo>
                  <a:lnTo>
                    <a:pt x="12687" y="15716"/>
                  </a:lnTo>
                  <a:lnTo>
                    <a:pt x="12425" y="16010"/>
                  </a:lnTo>
                  <a:lnTo>
                    <a:pt x="12155" y="16304"/>
                  </a:lnTo>
                  <a:lnTo>
                    <a:pt x="11559" y="16746"/>
                  </a:lnTo>
                  <a:lnTo>
                    <a:pt x="11071" y="17187"/>
                  </a:lnTo>
                  <a:lnTo>
                    <a:pt x="10637" y="17628"/>
                  </a:lnTo>
                  <a:lnTo>
                    <a:pt x="10312" y="18217"/>
                  </a:lnTo>
                  <a:lnTo>
                    <a:pt x="10041" y="18511"/>
                  </a:lnTo>
                  <a:lnTo>
                    <a:pt x="9834" y="18952"/>
                  </a:lnTo>
                  <a:lnTo>
                    <a:pt x="9725" y="19393"/>
                  </a:lnTo>
                  <a:lnTo>
                    <a:pt x="9617" y="19835"/>
                  </a:lnTo>
                  <a:lnTo>
                    <a:pt x="9563" y="20423"/>
                  </a:lnTo>
                  <a:lnTo>
                    <a:pt x="9617" y="21012"/>
                  </a:lnTo>
                  <a:lnTo>
                    <a:pt x="9725" y="21306"/>
                  </a:lnTo>
                  <a:lnTo>
                    <a:pt x="9780" y="21453"/>
                  </a:lnTo>
                  <a:lnTo>
                    <a:pt x="9834" y="21600"/>
                  </a:lnTo>
                  <a:lnTo>
                    <a:pt x="9987" y="21600"/>
                  </a:lnTo>
                  <a:lnTo>
                    <a:pt x="10150" y="21453"/>
                  </a:lnTo>
                  <a:lnTo>
                    <a:pt x="10367" y="21453"/>
                  </a:lnTo>
                  <a:lnTo>
                    <a:pt x="10908" y="21306"/>
                  </a:lnTo>
                  <a:lnTo>
                    <a:pt x="11450" y="21159"/>
                  </a:lnTo>
                  <a:lnTo>
                    <a:pt x="11992" y="21159"/>
                  </a:lnTo>
                  <a:lnTo>
                    <a:pt x="12534" y="21012"/>
                  </a:lnTo>
                  <a:lnTo>
                    <a:pt x="12741" y="21012"/>
                  </a:lnTo>
                  <a:lnTo>
                    <a:pt x="12904" y="20864"/>
                  </a:lnTo>
                  <a:lnTo>
                    <a:pt x="13012" y="20864"/>
                  </a:lnTo>
                  <a:lnTo>
                    <a:pt x="13067" y="20864"/>
                  </a:lnTo>
                  <a:lnTo>
                    <a:pt x="13175" y="20717"/>
                  </a:lnTo>
                  <a:lnTo>
                    <a:pt x="13392" y="20423"/>
                  </a:lnTo>
                  <a:lnTo>
                    <a:pt x="13771" y="19982"/>
                  </a:lnTo>
                  <a:lnTo>
                    <a:pt x="14204" y="19393"/>
                  </a:lnTo>
                  <a:lnTo>
                    <a:pt x="15125" y="18217"/>
                  </a:lnTo>
                  <a:lnTo>
                    <a:pt x="15496" y="17775"/>
                  </a:lnTo>
                  <a:lnTo>
                    <a:pt x="15821" y="17481"/>
                  </a:lnTo>
                  <a:lnTo>
                    <a:pt x="16308" y="16893"/>
                  </a:lnTo>
                  <a:lnTo>
                    <a:pt x="16633" y="16010"/>
                  </a:lnTo>
                  <a:lnTo>
                    <a:pt x="16850" y="14980"/>
                  </a:lnTo>
                  <a:lnTo>
                    <a:pt x="17013" y="14245"/>
                  </a:lnTo>
                  <a:lnTo>
                    <a:pt x="17392" y="12627"/>
                  </a:lnTo>
                  <a:lnTo>
                    <a:pt x="17871" y="11008"/>
                  </a:lnTo>
                  <a:lnTo>
                    <a:pt x="18412" y="9537"/>
                  </a:lnTo>
                  <a:lnTo>
                    <a:pt x="19008" y="8361"/>
                  </a:lnTo>
                  <a:lnTo>
                    <a:pt x="19496" y="7331"/>
                  </a:lnTo>
                  <a:lnTo>
                    <a:pt x="19929" y="6595"/>
                  </a:lnTo>
                  <a:lnTo>
                    <a:pt x="20200" y="6007"/>
                  </a:lnTo>
                  <a:lnTo>
                    <a:pt x="20309" y="5860"/>
                  </a:lnTo>
                  <a:lnTo>
                    <a:pt x="21600" y="4094"/>
                  </a:lnTo>
                  <a:lnTo>
                    <a:pt x="21600" y="1471"/>
                  </a:lnTo>
                  <a:lnTo>
                    <a:pt x="21600" y="0"/>
                  </a:lnTo>
                  <a:lnTo>
                    <a:pt x="21167" y="441"/>
                  </a:lnTo>
                  <a:lnTo>
                    <a:pt x="20787" y="883"/>
                  </a:lnTo>
                  <a:close/>
                  <a:moveTo>
                    <a:pt x="20787" y="883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13" name="AutoShape 10"/>
            <p:cNvSpPr/>
            <p:nvPr/>
          </p:nvSpPr>
          <p:spPr>
            <a:xfrm>
              <a:off x="8666280" y="4184640"/>
              <a:ext cx="1303200" cy="58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78" y="20591"/>
                  </a:moveTo>
                  <a:lnTo>
                    <a:pt x="707" y="21096"/>
                  </a:lnTo>
                  <a:lnTo>
                    <a:pt x="236" y="21600"/>
                  </a:lnTo>
                  <a:lnTo>
                    <a:pt x="0" y="21600"/>
                  </a:lnTo>
                  <a:lnTo>
                    <a:pt x="11978" y="9497"/>
                  </a:lnTo>
                  <a:lnTo>
                    <a:pt x="20422" y="0"/>
                  </a:lnTo>
                  <a:lnTo>
                    <a:pt x="20657" y="504"/>
                  </a:lnTo>
                  <a:lnTo>
                    <a:pt x="21364" y="1513"/>
                  </a:lnTo>
                  <a:lnTo>
                    <a:pt x="21600" y="2017"/>
                  </a:lnTo>
                  <a:lnTo>
                    <a:pt x="21600" y="3026"/>
                  </a:lnTo>
                  <a:lnTo>
                    <a:pt x="21364" y="3530"/>
                  </a:lnTo>
                  <a:lnTo>
                    <a:pt x="20657" y="4539"/>
                  </a:lnTo>
                  <a:lnTo>
                    <a:pt x="20186" y="5043"/>
                  </a:lnTo>
                  <a:lnTo>
                    <a:pt x="19715" y="5547"/>
                  </a:lnTo>
                  <a:lnTo>
                    <a:pt x="17594" y="7060"/>
                  </a:lnTo>
                  <a:lnTo>
                    <a:pt x="15002" y="9497"/>
                  </a:lnTo>
                  <a:lnTo>
                    <a:pt x="11978" y="12019"/>
                  </a:lnTo>
                  <a:lnTo>
                    <a:pt x="8915" y="14540"/>
                  </a:lnTo>
                  <a:lnTo>
                    <a:pt x="5852" y="17061"/>
                  </a:lnTo>
                  <a:lnTo>
                    <a:pt x="3260" y="19079"/>
                  </a:lnTo>
                  <a:lnTo>
                    <a:pt x="1178" y="20591"/>
                  </a:lnTo>
                  <a:close/>
                  <a:moveTo>
                    <a:pt x="1178" y="20591"/>
                  </a:move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14" name="Freeform 11"/>
            <p:cNvSpPr/>
            <p:nvPr/>
          </p:nvSpPr>
          <p:spPr>
            <a:xfrm>
              <a:off x="8666280" y="3898800"/>
              <a:ext cx="1617480" cy="86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880" y="338"/>
                  </a:moveTo>
                  <a:lnTo>
                    <a:pt x="17739" y="2369"/>
                  </a:lnTo>
                  <a:lnTo>
                    <a:pt x="15536" y="4737"/>
                  </a:lnTo>
                  <a:lnTo>
                    <a:pt x="15355" y="5076"/>
                  </a:lnTo>
                  <a:lnTo>
                    <a:pt x="14631" y="5752"/>
                  </a:lnTo>
                  <a:lnTo>
                    <a:pt x="13726" y="6768"/>
                  </a:lnTo>
                  <a:lnTo>
                    <a:pt x="12821" y="7783"/>
                  </a:lnTo>
                  <a:lnTo>
                    <a:pt x="11192" y="9475"/>
                  </a:lnTo>
                  <a:lnTo>
                    <a:pt x="9231" y="11167"/>
                  </a:lnTo>
                  <a:lnTo>
                    <a:pt x="5611" y="14156"/>
                  </a:lnTo>
                  <a:lnTo>
                    <a:pt x="3952" y="15171"/>
                  </a:lnTo>
                  <a:lnTo>
                    <a:pt x="2685" y="16186"/>
                  </a:lnTo>
                  <a:lnTo>
                    <a:pt x="1599" y="17201"/>
                  </a:lnTo>
                  <a:lnTo>
                    <a:pt x="1086" y="17539"/>
                  </a:lnTo>
                  <a:lnTo>
                    <a:pt x="362" y="18555"/>
                  </a:lnTo>
                  <a:lnTo>
                    <a:pt x="0" y="19908"/>
                  </a:lnTo>
                  <a:lnTo>
                    <a:pt x="0" y="20923"/>
                  </a:lnTo>
                  <a:lnTo>
                    <a:pt x="0" y="21600"/>
                  </a:lnTo>
                  <a:lnTo>
                    <a:pt x="362" y="20923"/>
                  </a:lnTo>
                  <a:lnTo>
                    <a:pt x="905" y="19908"/>
                  </a:lnTo>
                  <a:lnTo>
                    <a:pt x="1599" y="18893"/>
                  </a:lnTo>
                  <a:lnTo>
                    <a:pt x="2323" y="17878"/>
                  </a:lnTo>
                  <a:lnTo>
                    <a:pt x="3047" y="17539"/>
                  </a:lnTo>
                  <a:lnTo>
                    <a:pt x="3952" y="16863"/>
                  </a:lnTo>
                  <a:lnTo>
                    <a:pt x="6154" y="15171"/>
                  </a:lnTo>
                  <a:lnTo>
                    <a:pt x="7240" y="14156"/>
                  </a:lnTo>
                  <a:lnTo>
                    <a:pt x="8145" y="13479"/>
                  </a:lnTo>
                  <a:lnTo>
                    <a:pt x="8869" y="12858"/>
                  </a:lnTo>
                  <a:lnTo>
                    <a:pt x="9412" y="12520"/>
                  </a:lnTo>
                  <a:lnTo>
                    <a:pt x="9955" y="11843"/>
                  </a:lnTo>
                  <a:lnTo>
                    <a:pt x="11011" y="10490"/>
                  </a:lnTo>
                  <a:lnTo>
                    <a:pt x="12640" y="8798"/>
                  </a:lnTo>
                  <a:lnTo>
                    <a:pt x="14269" y="6768"/>
                  </a:lnTo>
                  <a:lnTo>
                    <a:pt x="15898" y="5076"/>
                  </a:lnTo>
                  <a:lnTo>
                    <a:pt x="17377" y="3384"/>
                  </a:lnTo>
                  <a:lnTo>
                    <a:pt x="18463" y="2369"/>
                  </a:lnTo>
                  <a:lnTo>
                    <a:pt x="18975" y="2030"/>
                  </a:lnTo>
                  <a:lnTo>
                    <a:pt x="19518" y="1692"/>
                  </a:lnTo>
                  <a:lnTo>
                    <a:pt x="20423" y="1015"/>
                  </a:lnTo>
                  <a:lnTo>
                    <a:pt x="21147" y="338"/>
                  </a:lnTo>
                  <a:lnTo>
                    <a:pt x="21509" y="0"/>
                  </a:lnTo>
                  <a:lnTo>
                    <a:pt x="19880" y="338"/>
                  </a:lnTo>
                  <a:lnTo>
                    <a:pt x="21600" y="355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15" name="Freeform 12"/>
            <p:cNvSpPr/>
            <p:nvPr/>
          </p:nvSpPr>
          <p:spPr>
            <a:xfrm>
              <a:off x="7794720" y="5126040"/>
              <a:ext cx="718920" cy="50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08" y="21600"/>
                  </a:moveTo>
                  <a:lnTo>
                    <a:pt x="0" y="18720"/>
                  </a:lnTo>
                  <a:lnTo>
                    <a:pt x="21396" y="0"/>
                  </a:lnTo>
                  <a:lnTo>
                    <a:pt x="20581" y="2592"/>
                  </a:lnTo>
                  <a:lnTo>
                    <a:pt x="21600" y="403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16" name="AutoShape 13"/>
            <p:cNvSpPr/>
            <p:nvPr/>
          </p:nvSpPr>
          <p:spPr>
            <a:xfrm>
              <a:off x="0" y="6000840"/>
              <a:ext cx="5857920" cy="2106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166" y="15627"/>
                  </a:moveTo>
                  <a:lnTo>
                    <a:pt x="8740" y="15210"/>
                  </a:lnTo>
                  <a:lnTo>
                    <a:pt x="9514" y="15071"/>
                  </a:lnTo>
                  <a:lnTo>
                    <a:pt x="13160" y="15974"/>
                  </a:lnTo>
                  <a:lnTo>
                    <a:pt x="13509" y="17086"/>
                  </a:lnTo>
                  <a:lnTo>
                    <a:pt x="13909" y="16738"/>
                  </a:lnTo>
                  <a:lnTo>
                    <a:pt x="13784" y="15627"/>
                  </a:lnTo>
                  <a:lnTo>
                    <a:pt x="9789" y="14377"/>
                  </a:lnTo>
                  <a:lnTo>
                    <a:pt x="14958" y="12363"/>
                  </a:lnTo>
                  <a:lnTo>
                    <a:pt x="15432" y="13127"/>
                  </a:lnTo>
                  <a:lnTo>
                    <a:pt x="15657" y="13543"/>
                  </a:lnTo>
                  <a:lnTo>
                    <a:pt x="15557" y="14168"/>
                  </a:lnTo>
                  <a:lnTo>
                    <a:pt x="16606" y="19725"/>
                  </a:lnTo>
                  <a:lnTo>
                    <a:pt x="17505" y="19933"/>
                  </a:lnTo>
                  <a:lnTo>
                    <a:pt x="15723" y="12455"/>
                  </a:lnTo>
                  <a:lnTo>
                    <a:pt x="15674" y="12039"/>
                  </a:lnTo>
                  <a:lnTo>
                    <a:pt x="15582" y="11761"/>
                  </a:lnTo>
                  <a:lnTo>
                    <a:pt x="15332" y="11344"/>
                  </a:lnTo>
                  <a:lnTo>
                    <a:pt x="15033" y="11066"/>
                  </a:lnTo>
                  <a:lnTo>
                    <a:pt x="14733" y="10788"/>
                  </a:lnTo>
                  <a:lnTo>
                    <a:pt x="14583" y="10511"/>
                  </a:lnTo>
                  <a:lnTo>
                    <a:pt x="14483" y="10372"/>
                  </a:lnTo>
                  <a:lnTo>
                    <a:pt x="14533" y="10094"/>
                  </a:lnTo>
                  <a:lnTo>
                    <a:pt x="14633" y="10094"/>
                  </a:lnTo>
                  <a:lnTo>
                    <a:pt x="14833" y="9955"/>
                  </a:lnTo>
                  <a:lnTo>
                    <a:pt x="15232" y="9955"/>
                  </a:lnTo>
                  <a:lnTo>
                    <a:pt x="15432" y="9955"/>
                  </a:lnTo>
                  <a:lnTo>
                    <a:pt x="15624" y="9816"/>
                  </a:lnTo>
                  <a:lnTo>
                    <a:pt x="16023" y="9260"/>
                  </a:lnTo>
                  <a:lnTo>
                    <a:pt x="16273" y="9122"/>
                  </a:lnTo>
                  <a:lnTo>
                    <a:pt x="16473" y="9122"/>
                  </a:lnTo>
                  <a:lnTo>
                    <a:pt x="17080" y="9168"/>
                  </a:lnTo>
                  <a:lnTo>
                    <a:pt x="17030" y="10557"/>
                  </a:lnTo>
                  <a:lnTo>
                    <a:pt x="18753" y="16947"/>
                  </a:lnTo>
                  <a:lnTo>
                    <a:pt x="19428" y="18891"/>
                  </a:lnTo>
                  <a:lnTo>
                    <a:pt x="20102" y="21600"/>
                  </a:lnTo>
                  <a:lnTo>
                    <a:pt x="20227" y="21044"/>
                  </a:lnTo>
                  <a:lnTo>
                    <a:pt x="19952" y="19169"/>
                  </a:lnTo>
                  <a:lnTo>
                    <a:pt x="17430" y="9538"/>
                  </a:lnTo>
                  <a:lnTo>
                    <a:pt x="17380" y="9260"/>
                  </a:lnTo>
                  <a:lnTo>
                    <a:pt x="17280" y="8705"/>
                  </a:lnTo>
                  <a:lnTo>
                    <a:pt x="17030" y="8010"/>
                  </a:lnTo>
                  <a:lnTo>
                    <a:pt x="16772" y="7455"/>
                  </a:lnTo>
                  <a:lnTo>
                    <a:pt x="16622" y="7038"/>
                  </a:lnTo>
                  <a:lnTo>
                    <a:pt x="16473" y="6760"/>
                  </a:lnTo>
                  <a:lnTo>
                    <a:pt x="16373" y="6621"/>
                  </a:lnTo>
                  <a:lnTo>
                    <a:pt x="16423" y="6621"/>
                  </a:lnTo>
                  <a:lnTo>
                    <a:pt x="16523" y="6621"/>
                  </a:lnTo>
                  <a:lnTo>
                    <a:pt x="16722" y="6621"/>
                  </a:lnTo>
                  <a:lnTo>
                    <a:pt x="16980" y="6899"/>
                  </a:lnTo>
                  <a:lnTo>
                    <a:pt x="17330" y="7455"/>
                  </a:lnTo>
                  <a:lnTo>
                    <a:pt x="17680" y="8057"/>
                  </a:lnTo>
                  <a:lnTo>
                    <a:pt x="18304" y="8890"/>
                  </a:lnTo>
                  <a:lnTo>
                    <a:pt x="19353" y="9862"/>
                  </a:lnTo>
                  <a:lnTo>
                    <a:pt x="19927" y="10372"/>
                  </a:lnTo>
                  <a:lnTo>
                    <a:pt x="21001" y="12085"/>
                  </a:lnTo>
                  <a:lnTo>
                    <a:pt x="21600" y="11946"/>
                  </a:lnTo>
                  <a:lnTo>
                    <a:pt x="20326" y="10511"/>
                  </a:lnTo>
                  <a:lnTo>
                    <a:pt x="19877" y="9816"/>
                  </a:lnTo>
                  <a:lnTo>
                    <a:pt x="19369" y="8983"/>
                  </a:lnTo>
                  <a:lnTo>
                    <a:pt x="18470" y="7871"/>
                  </a:lnTo>
                  <a:lnTo>
                    <a:pt x="17530" y="6760"/>
                  </a:lnTo>
                  <a:lnTo>
                    <a:pt x="17080" y="6482"/>
                  </a:lnTo>
                  <a:lnTo>
                    <a:pt x="16672" y="6205"/>
                  </a:lnTo>
                  <a:lnTo>
                    <a:pt x="16273" y="6066"/>
                  </a:lnTo>
                  <a:lnTo>
                    <a:pt x="15973" y="6205"/>
                  </a:lnTo>
                  <a:lnTo>
                    <a:pt x="15624" y="6343"/>
                  </a:lnTo>
                  <a:lnTo>
                    <a:pt x="15083" y="6343"/>
                  </a:lnTo>
                  <a:lnTo>
                    <a:pt x="14583" y="6343"/>
                  </a:lnTo>
                  <a:lnTo>
                    <a:pt x="14175" y="6621"/>
                  </a:lnTo>
                  <a:lnTo>
                    <a:pt x="13826" y="6760"/>
                  </a:lnTo>
                  <a:lnTo>
                    <a:pt x="13576" y="7038"/>
                  </a:lnTo>
                  <a:lnTo>
                    <a:pt x="13376" y="7316"/>
                  </a:lnTo>
                  <a:lnTo>
                    <a:pt x="13276" y="7455"/>
                  </a:lnTo>
                  <a:lnTo>
                    <a:pt x="13226" y="7455"/>
                  </a:lnTo>
                  <a:lnTo>
                    <a:pt x="12486" y="7732"/>
                  </a:lnTo>
                  <a:lnTo>
                    <a:pt x="11728" y="8288"/>
                  </a:lnTo>
                  <a:lnTo>
                    <a:pt x="10288" y="9677"/>
                  </a:lnTo>
                  <a:lnTo>
                    <a:pt x="9589" y="10233"/>
                  </a:lnTo>
                  <a:lnTo>
                    <a:pt x="8831" y="10650"/>
                  </a:lnTo>
                  <a:lnTo>
                    <a:pt x="8041" y="10650"/>
                  </a:lnTo>
                  <a:lnTo>
                    <a:pt x="7641" y="10511"/>
                  </a:lnTo>
                  <a:lnTo>
                    <a:pt x="7242" y="10233"/>
                  </a:lnTo>
                  <a:lnTo>
                    <a:pt x="7142" y="10094"/>
                  </a:lnTo>
                  <a:lnTo>
                    <a:pt x="6892" y="9955"/>
                  </a:lnTo>
                  <a:lnTo>
                    <a:pt x="6584" y="9538"/>
                  </a:lnTo>
                  <a:lnTo>
                    <a:pt x="6185" y="8983"/>
                  </a:lnTo>
                  <a:lnTo>
                    <a:pt x="5743" y="8427"/>
                  </a:lnTo>
                  <a:lnTo>
                    <a:pt x="5294" y="7732"/>
                  </a:lnTo>
                  <a:lnTo>
                    <a:pt x="4287" y="6482"/>
                  </a:lnTo>
                  <a:lnTo>
                    <a:pt x="3887" y="5927"/>
                  </a:lnTo>
                  <a:lnTo>
                    <a:pt x="3687" y="5649"/>
                  </a:lnTo>
                  <a:lnTo>
                    <a:pt x="0" y="0"/>
                  </a:lnTo>
                  <a:lnTo>
                    <a:pt x="1024" y="2778"/>
                  </a:lnTo>
                  <a:lnTo>
                    <a:pt x="4869" y="9029"/>
                  </a:lnTo>
                  <a:lnTo>
                    <a:pt x="5893" y="10696"/>
                  </a:lnTo>
                  <a:lnTo>
                    <a:pt x="7067" y="12571"/>
                  </a:lnTo>
                  <a:lnTo>
                    <a:pt x="7342" y="13057"/>
                  </a:lnTo>
                  <a:lnTo>
                    <a:pt x="7466" y="14377"/>
                  </a:lnTo>
                  <a:lnTo>
                    <a:pt x="8166" y="15627"/>
                  </a:lnTo>
                  <a:close/>
                  <a:moveTo>
                    <a:pt x="8166" y="15627"/>
                  </a:move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17" name="AutoShape 14"/>
            <p:cNvSpPr/>
            <p:nvPr/>
          </p:nvSpPr>
          <p:spPr>
            <a:xfrm>
              <a:off x="0" y="6759720"/>
              <a:ext cx="6146640" cy="246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5920"/>
                  </a:moveTo>
                  <a:lnTo>
                    <a:pt x="21537" y="4752"/>
                  </a:lnTo>
                  <a:lnTo>
                    <a:pt x="21069" y="3861"/>
                  </a:lnTo>
                  <a:lnTo>
                    <a:pt x="18800" y="1425"/>
                  </a:lnTo>
                  <a:lnTo>
                    <a:pt x="18268" y="1069"/>
                  </a:lnTo>
                  <a:lnTo>
                    <a:pt x="20505" y="3682"/>
                  </a:lnTo>
                  <a:lnTo>
                    <a:pt x="20553" y="3801"/>
                  </a:lnTo>
                  <a:lnTo>
                    <a:pt x="20601" y="3920"/>
                  </a:lnTo>
                  <a:lnTo>
                    <a:pt x="20791" y="4514"/>
                  </a:lnTo>
                  <a:lnTo>
                    <a:pt x="20934" y="5108"/>
                  </a:lnTo>
                  <a:lnTo>
                    <a:pt x="20989" y="5346"/>
                  </a:lnTo>
                  <a:lnTo>
                    <a:pt x="20934" y="5464"/>
                  </a:lnTo>
                  <a:lnTo>
                    <a:pt x="20648" y="5583"/>
                  </a:lnTo>
                  <a:lnTo>
                    <a:pt x="20267" y="5583"/>
                  </a:lnTo>
                  <a:lnTo>
                    <a:pt x="19887" y="5464"/>
                  </a:lnTo>
                  <a:lnTo>
                    <a:pt x="19458" y="5227"/>
                  </a:lnTo>
                  <a:lnTo>
                    <a:pt x="18990" y="4870"/>
                  </a:lnTo>
                  <a:lnTo>
                    <a:pt x="18562" y="4395"/>
                  </a:lnTo>
                  <a:lnTo>
                    <a:pt x="18411" y="4276"/>
                  </a:lnTo>
                  <a:lnTo>
                    <a:pt x="18221" y="4039"/>
                  </a:lnTo>
                  <a:lnTo>
                    <a:pt x="17221" y="2495"/>
                  </a:lnTo>
                  <a:lnTo>
                    <a:pt x="17174" y="2376"/>
                  </a:lnTo>
                  <a:lnTo>
                    <a:pt x="17086" y="2019"/>
                  </a:lnTo>
                  <a:lnTo>
                    <a:pt x="16753" y="1307"/>
                  </a:lnTo>
                  <a:lnTo>
                    <a:pt x="16373" y="475"/>
                  </a:lnTo>
                  <a:lnTo>
                    <a:pt x="16230" y="119"/>
                  </a:lnTo>
                  <a:lnTo>
                    <a:pt x="16135" y="0"/>
                  </a:lnTo>
                  <a:lnTo>
                    <a:pt x="16563" y="1425"/>
                  </a:lnTo>
                  <a:lnTo>
                    <a:pt x="16706" y="2138"/>
                  </a:lnTo>
                  <a:lnTo>
                    <a:pt x="16706" y="2257"/>
                  </a:lnTo>
                  <a:lnTo>
                    <a:pt x="16753" y="2257"/>
                  </a:lnTo>
                  <a:lnTo>
                    <a:pt x="19085" y="10216"/>
                  </a:lnTo>
                  <a:lnTo>
                    <a:pt x="19133" y="10572"/>
                  </a:lnTo>
                  <a:lnTo>
                    <a:pt x="19133" y="10929"/>
                  </a:lnTo>
                  <a:lnTo>
                    <a:pt x="18990" y="11404"/>
                  </a:lnTo>
                  <a:lnTo>
                    <a:pt x="18752" y="11641"/>
                  </a:lnTo>
                  <a:lnTo>
                    <a:pt x="18411" y="11641"/>
                  </a:lnTo>
                  <a:lnTo>
                    <a:pt x="18078" y="11166"/>
                  </a:lnTo>
                  <a:lnTo>
                    <a:pt x="17745" y="10572"/>
                  </a:lnTo>
                  <a:lnTo>
                    <a:pt x="17459" y="9978"/>
                  </a:lnTo>
                  <a:lnTo>
                    <a:pt x="17412" y="9860"/>
                  </a:lnTo>
                  <a:lnTo>
                    <a:pt x="17364" y="9741"/>
                  </a:lnTo>
                  <a:lnTo>
                    <a:pt x="17221" y="9147"/>
                  </a:lnTo>
                  <a:lnTo>
                    <a:pt x="16991" y="8315"/>
                  </a:lnTo>
                  <a:lnTo>
                    <a:pt x="16658" y="7484"/>
                  </a:lnTo>
                  <a:lnTo>
                    <a:pt x="16325" y="6533"/>
                  </a:lnTo>
                  <a:lnTo>
                    <a:pt x="16182" y="6296"/>
                  </a:lnTo>
                  <a:lnTo>
                    <a:pt x="16087" y="5940"/>
                  </a:lnTo>
                  <a:lnTo>
                    <a:pt x="15936" y="5227"/>
                  </a:lnTo>
                  <a:lnTo>
                    <a:pt x="15793" y="4633"/>
                  </a:lnTo>
                  <a:lnTo>
                    <a:pt x="15746" y="4158"/>
                  </a:lnTo>
                  <a:lnTo>
                    <a:pt x="15651" y="3801"/>
                  </a:lnTo>
                  <a:lnTo>
                    <a:pt x="15603" y="3564"/>
                  </a:lnTo>
                  <a:lnTo>
                    <a:pt x="15460" y="3445"/>
                  </a:lnTo>
                  <a:lnTo>
                    <a:pt x="15127" y="3089"/>
                  </a:lnTo>
                  <a:lnTo>
                    <a:pt x="14754" y="2732"/>
                  </a:lnTo>
                  <a:lnTo>
                    <a:pt x="14564" y="2613"/>
                  </a:lnTo>
                  <a:lnTo>
                    <a:pt x="14469" y="2613"/>
                  </a:lnTo>
                  <a:lnTo>
                    <a:pt x="14326" y="2613"/>
                  </a:lnTo>
                  <a:lnTo>
                    <a:pt x="14278" y="2732"/>
                  </a:lnTo>
                  <a:lnTo>
                    <a:pt x="14231" y="2851"/>
                  </a:lnTo>
                  <a:lnTo>
                    <a:pt x="14612" y="3089"/>
                  </a:lnTo>
                  <a:lnTo>
                    <a:pt x="14850" y="3564"/>
                  </a:lnTo>
                  <a:lnTo>
                    <a:pt x="14984" y="4039"/>
                  </a:lnTo>
                  <a:lnTo>
                    <a:pt x="15032" y="4395"/>
                  </a:lnTo>
                  <a:lnTo>
                    <a:pt x="14984" y="4752"/>
                  </a:lnTo>
                  <a:lnTo>
                    <a:pt x="15080" y="5346"/>
                  </a:lnTo>
                  <a:lnTo>
                    <a:pt x="15222" y="6296"/>
                  </a:lnTo>
                  <a:lnTo>
                    <a:pt x="15413" y="7246"/>
                  </a:lnTo>
                  <a:lnTo>
                    <a:pt x="15793" y="9503"/>
                  </a:lnTo>
                  <a:lnTo>
                    <a:pt x="16031" y="10572"/>
                  </a:lnTo>
                  <a:lnTo>
                    <a:pt x="16182" y="11523"/>
                  </a:lnTo>
                  <a:lnTo>
                    <a:pt x="16373" y="12473"/>
                  </a:lnTo>
                  <a:lnTo>
                    <a:pt x="16468" y="13186"/>
                  </a:lnTo>
                  <a:lnTo>
                    <a:pt x="16515" y="13522"/>
                  </a:lnTo>
                  <a:lnTo>
                    <a:pt x="16420" y="13760"/>
                  </a:lnTo>
                  <a:lnTo>
                    <a:pt x="16277" y="13760"/>
                  </a:lnTo>
                  <a:lnTo>
                    <a:pt x="16031" y="13760"/>
                  </a:lnTo>
                  <a:lnTo>
                    <a:pt x="15841" y="13760"/>
                  </a:lnTo>
                  <a:lnTo>
                    <a:pt x="15651" y="13641"/>
                  </a:lnTo>
                  <a:lnTo>
                    <a:pt x="15508" y="13522"/>
                  </a:lnTo>
                  <a:lnTo>
                    <a:pt x="15460" y="13522"/>
                  </a:lnTo>
                  <a:lnTo>
                    <a:pt x="15460" y="13403"/>
                  </a:lnTo>
                  <a:lnTo>
                    <a:pt x="15413" y="13304"/>
                  </a:lnTo>
                  <a:lnTo>
                    <a:pt x="15175" y="12592"/>
                  </a:lnTo>
                  <a:lnTo>
                    <a:pt x="14326" y="6415"/>
                  </a:lnTo>
                  <a:lnTo>
                    <a:pt x="14088" y="6533"/>
                  </a:lnTo>
                  <a:lnTo>
                    <a:pt x="13850" y="6533"/>
                  </a:lnTo>
                  <a:lnTo>
                    <a:pt x="13509" y="6177"/>
                  </a:lnTo>
                  <a:lnTo>
                    <a:pt x="13271" y="5702"/>
                  </a:lnTo>
                  <a:lnTo>
                    <a:pt x="13223" y="5464"/>
                  </a:lnTo>
                  <a:lnTo>
                    <a:pt x="13128" y="5346"/>
                  </a:lnTo>
                  <a:lnTo>
                    <a:pt x="12985" y="5464"/>
                  </a:lnTo>
                  <a:lnTo>
                    <a:pt x="12938" y="5702"/>
                  </a:lnTo>
                  <a:lnTo>
                    <a:pt x="12890" y="6058"/>
                  </a:lnTo>
                  <a:lnTo>
                    <a:pt x="12890" y="6177"/>
                  </a:lnTo>
                  <a:lnTo>
                    <a:pt x="13033" y="6296"/>
                  </a:lnTo>
                  <a:lnTo>
                    <a:pt x="13128" y="6652"/>
                  </a:lnTo>
                  <a:lnTo>
                    <a:pt x="13223" y="7246"/>
                  </a:lnTo>
                  <a:lnTo>
                    <a:pt x="13271" y="7959"/>
                  </a:lnTo>
                  <a:lnTo>
                    <a:pt x="13271" y="8078"/>
                  </a:lnTo>
                  <a:lnTo>
                    <a:pt x="13271" y="8197"/>
                  </a:lnTo>
                  <a:lnTo>
                    <a:pt x="13612" y="15067"/>
                  </a:lnTo>
                  <a:lnTo>
                    <a:pt x="13612" y="15304"/>
                  </a:lnTo>
                  <a:lnTo>
                    <a:pt x="13612" y="15423"/>
                  </a:lnTo>
                  <a:lnTo>
                    <a:pt x="13557" y="15304"/>
                  </a:lnTo>
                  <a:lnTo>
                    <a:pt x="13509" y="14948"/>
                  </a:lnTo>
                  <a:lnTo>
                    <a:pt x="13461" y="14829"/>
                  </a:lnTo>
                  <a:lnTo>
                    <a:pt x="13414" y="14591"/>
                  </a:lnTo>
                  <a:lnTo>
                    <a:pt x="13319" y="14116"/>
                  </a:lnTo>
                  <a:lnTo>
                    <a:pt x="13176" y="13304"/>
                  </a:lnTo>
                  <a:lnTo>
                    <a:pt x="13033" y="12473"/>
                  </a:lnTo>
                  <a:lnTo>
                    <a:pt x="12795" y="11523"/>
                  </a:lnTo>
                  <a:lnTo>
                    <a:pt x="12605" y="10691"/>
                  </a:lnTo>
                  <a:lnTo>
                    <a:pt x="12375" y="10097"/>
                  </a:lnTo>
                  <a:lnTo>
                    <a:pt x="12184" y="9741"/>
                  </a:lnTo>
                  <a:lnTo>
                    <a:pt x="11851" y="9503"/>
                  </a:lnTo>
                  <a:lnTo>
                    <a:pt x="11470" y="9503"/>
                  </a:lnTo>
                  <a:lnTo>
                    <a:pt x="11082" y="9622"/>
                  </a:lnTo>
                  <a:lnTo>
                    <a:pt x="10701" y="9860"/>
                  </a:lnTo>
                  <a:lnTo>
                    <a:pt x="9900" y="10454"/>
                  </a:lnTo>
                  <a:lnTo>
                    <a:pt x="9186" y="11285"/>
                  </a:lnTo>
                  <a:lnTo>
                    <a:pt x="8757" y="11879"/>
                  </a:lnTo>
                  <a:lnTo>
                    <a:pt x="8226" y="12354"/>
                  </a:lnTo>
                  <a:lnTo>
                    <a:pt x="7901" y="12473"/>
                  </a:lnTo>
                  <a:lnTo>
                    <a:pt x="7520" y="12473"/>
                  </a:lnTo>
                  <a:lnTo>
                    <a:pt x="7139" y="12235"/>
                  </a:lnTo>
                  <a:lnTo>
                    <a:pt x="6663" y="11641"/>
                  </a:lnTo>
                  <a:lnTo>
                    <a:pt x="5664" y="10572"/>
                  </a:lnTo>
                  <a:lnTo>
                    <a:pt x="4617" y="9384"/>
                  </a:lnTo>
                  <a:lnTo>
                    <a:pt x="3514" y="8078"/>
                  </a:lnTo>
                  <a:lnTo>
                    <a:pt x="2523" y="6890"/>
                  </a:lnTo>
                  <a:lnTo>
                    <a:pt x="1571" y="5702"/>
                  </a:lnTo>
                  <a:lnTo>
                    <a:pt x="1182" y="5227"/>
                  </a:lnTo>
                  <a:lnTo>
                    <a:pt x="809" y="4752"/>
                  </a:lnTo>
                  <a:lnTo>
                    <a:pt x="0" y="3702"/>
                  </a:lnTo>
                  <a:lnTo>
                    <a:pt x="0" y="9107"/>
                  </a:lnTo>
                  <a:lnTo>
                    <a:pt x="286" y="9384"/>
                  </a:lnTo>
                  <a:lnTo>
                    <a:pt x="1182" y="10216"/>
                  </a:lnTo>
                  <a:lnTo>
                    <a:pt x="1713" y="10691"/>
                  </a:lnTo>
                  <a:lnTo>
                    <a:pt x="2285" y="11285"/>
                  </a:lnTo>
                  <a:lnTo>
                    <a:pt x="2760" y="11760"/>
                  </a:lnTo>
                  <a:lnTo>
                    <a:pt x="3141" y="12235"/>
                  </a:lnTo>
                  <a:lnTo>
                    <a:pt x="3427" y="12592"/>
                  </a:lnTo>
                  <a:lnTo>
                    <a:pt x="3657" y="12948"/>
                  </a:lnTo>
                  <a:lnTo>
                    <a:pt x="3998" y="13304"/>
                  </a:lnTo>
                  <a:lnTo>
                    <a:pt x="4664" y="13997"/>
                  </a:lnTo>
                  <a:lnTo>
                    <a:pt x="5426" y="14710"/>
                  </a:lnTo>
                  <a:lnTo>
                    <a:pt x="5751" y="14948"/>
                  </a:lnTo>
                  <a:lnTo>
                    <a:pt x="6037" y="15185"/>
                  </a:lnTo>
                  <a:lnTo>
                    <a:pt x="6568" y="15423"/>
                  </a:lnTo>
                  <a:lnTo>
                    <a:pt x="7092" y="15542"/>
                  </a:lnTo>
                  <a:lnTo>
                    <a:pt x="7663" y="15660"/>
                  </a:lnTo>
                  <a:lnTo>
                    <a:pt x="8178" y="15660"/>
                  </a:lnTo>
                  <a:lnTo>
                    <a:pt x="8662" y="15542"/>
                  </a:lnTo>
                  <a:lnTo>
                    <a:pt x="9091" y="15542"/>
                  </a:lnTo>
                  <a:lnTo>
                    <a:pt x="9329" y="15423"/>
                  </a:lnTo>
                  <a:lnTo>
                    <a:pt x="9424" y="15423"/>
                  </a:lnTo>
                  <a:lnTo>
                    <a:pt x="9804" y="15542"/>
                  </a:lnTo>
                  <a:lnTo>
                    <a:pt x="10138" y="15660"/>
                  </a:lnTo>
                  <a:lnTo>
                    <a:pt x="10368" y="15898"/>
                  </a:lnTo>
                  <a:lnTo>
                    <a:pt x="10606" y="16017"/>
                  </a:lnTo>
                  <a:lnTo>
                    <a:pt x="10939" y="16373"/>
                  </a:lnTo>
                  <a:lnTo>
                    <a:pt x="11137" y="16730"/>
                  </a:lnTo>
                  <a:lnTo>
                    <a:pt x="11232" y="17086"/>
                  </a:lnTo>
                  <a:lnTo>
                    <a:pt x="11232" y="17324"/>
                  </a:lnTo>
                  <a:lnTo>
                    <a:pt x="11232" y="17442"/>
                  </a:lnTo>
                  <a:lnTo>
                    <a:pt x="11232" y="17561"/>
                  </a:lnTo>
                  <a:lnTo>
                    <a:pt x="11185" y="17561"/>
                  </a:lnTo>
                  <a:lnTo>
                    <a:pt x="11082" y="17680"/>
                  </a:lnTo>
                  <a:lnTo>
                    <a:pt x="10939" y="17918"/>
                  </a:lnTo>
                  <a:lnTo>
                    <a:pt x="10796" y="18274"/>
                  </a:lnTo>
                  <a:lnTo>
                    <a:pt x="10748" y="18630"/>
                  </a:lnTo>
                  <a:lnTo>
                    <a:pt x="10796" y="19224"/>
                  </a:lnTo>
                  <a:lnTo>
                    <a:pt x="10844" y="19581"/>
                  </a:lnTo>
                  <a:lnTo>
                    <a:pt x="10986" y="19937"/>
                  </a:lnTo>
                  <a:lnTo>
                    <a:pt x="11137" y="20293"/>
                  </a:lnTo>
                  <a:lnTo>
                    <a:pt x="11375" y="20768"/>
                  </a:lnTo>
                  <a:lnTo>
                    <a:pt x="11613" y="21125"/>
                  </a:lnTo>
                  <a:lnTo>
                    <a:pt x="11851" y="21481"/>
                  </a:lnTo>
                  <a:lnTo>
                    <a:pt x="12327" y="21600"/>
                  </a:lnTo>
                  <a:lnTo>
                    <a:pt x="12747" y="21481"/>
                  </a:lnTo>
                  <a:lnTo>
                    <a:pt x="13176" y="21125"/>
                  </a:lnTo>
                  <a:lnTo>
                    <a:pt x="13461" y="20650"/>
                  </a:lnTo>
                  <a:lnTo>
                    <a:pt x="13755" y="20175"/>
                  </a:lnTo>
                  <a:lnTo>
                    <a:pt x="13898" y="19699"/>
                  </a:lnTo>
                  <a:lnTo>
                    <a:pt x="13945" y="19581"/>
                  </a:lnTo>
                  <a:lnTo>
                    <a:pt x="14374" y="19581"/>
                  </a:lnTo>
                  <a:lnTo>
                    <a:pt x="14754" y="19462"/>
                  </a:lnTo>
                  <a:lnTo>
                    <a:pt x="15127" y="19105"/>
                  </a:lnTo>
                  <a:lnTo>
                    <a:pt x="15413" y="18630"/>
                  </a:lnTo>
                  <a:lnTo>
                    <a:pt x="15651" y="18155"/>
                  </a:lnTo>
                  <a:lnTo>
                    <a:pt x="15889" y="17799"/>
                  </a:lnTo>
                  <a:lnTo>
                    <a:pt x="15984" y="17442"/>
                  </a:lnTo>
                  <a:lnTo>
                    <a:pt x="16031" y="17324"/>
                  </a:lnTo>
                  <a:lnTo>
                    <a:pt x="17459" y="17799"/>
                  </a:lnTo>
                  <a:lnTo>
                    <a:pt x="17792" y="17918"/>
                  </a:lnTo>
                  <a:lnTo>
                    <a:pt x="18030" y="17799"/>
                  </a:lnTo>
                  <a:lnTo>
                    <a:pt x="18459" y="17561"/>
                  </a:lnTo>
                  <a:lnTo>
                    <a:pt x="18752" y="17086"/>
                  </a:lnTo>
                  <a:lnTo>
                    <a:pt x="18943" y="16373"/>
                  </a:lnTo>
                  <a:lnTo>
                    <a:pt x="19038" y="15779"/>
                  </a:lnTo>
                  <a:lnTo>
                    <a:pt x="19038" y="15185"/>
                  </a:lnTo>
                  <a:lnTo>
                    <a:pt x="19038" y="14710"/>
                  </a:lnTo>
                  <a:lnTo>
                    <a:pt x="19038" y="14591"/>
                  </a:lnTo>
                  <a:lnTo>
                    <a:pt x="19181" y="14591"/>
                  </a:lnTo>
                  <a:lnTo>
                    <a:pt x="19323" y="14473"/>
                  </a:lnTo>
                  <a:lnTo>
                    <a:pt x="19601" y="13879"/>
                  </a:lnTo>
                  <a:lnTo>
                    <a:pt x="19934" y="13067"/>
                  </a:lnTo>
                  <a:lnTo>
                    <a:pt x="20267" y="11998"/>
                  </a:lnTo>
                  <a:lnTo>
                    <a:pt x="20553" y="10929"/>
                  </a:lnTo>
                  <a:lnTo>
                    <a:pt x="20791" y="9978"/>
                  </a:lnTo>
                  <a:lnTo>
                    <a:pt x="20934" y="9266"/>
                  </a:lnTo>
                  <a:lnTo>
                    <a:pt x="20989" y="9147"/>
                  </a:lnTo>
                  <a:lnTo>
                    <a:pt x="20989" y="9028"/>
                  </a:lnTo>
                  <a:lnTo>
                    <a:pt x="21362" y="7405"/>
                  </a:lnTo>
                  <a:lnTo>
                    <a:pt x="21600" y="5920"/>
                  </a:lnTo>
                  <a:close/>
                  <a:moveTo>
                    <a:pt x="21600" y="5920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b9efee"/>
                </a:solidFill>
                <a:latin typeface="Lucida Grande"/>
              </a:rPr>
              <a:t>Click to edit the title text format</a:t>
            </a:r>
            <a:endParaRPr b="1" lang="en-US" sz="6200" spc="-1" strike="noStrike">
              <a:solidFill>
                <a:srgbClr val="b9efee"/>
              </a:solidFill>
              <a:latin typeface="Lucida Gran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Num" idx="8"/>
          </p:nvPr>
        </p:nvSpPr>
        <p:spPr>
          <a:xfrm>
            <a:off x="10648800" y="9207360"/>
            <a:ext cx="37152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0D04-9608-4A36-A14F-30C10395DCAC}" type="slidenum">
              <a:rPr b="0" lang="en-US" sz="16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1" marL="630360" indent="-285840">
              <a:spcBef>
                <a:spcPts val="11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2" marL="1030320" indent="-228600">
              <a:spcBef>
                <a:spcPts val="1100"/>
              </a:spcBef>
              <a:buClr>
                <a:srgbClr val="b9efe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3" marL="1487520" indent="-228600">
              <a:spcBef>
                <a:spcPts val="11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4" marL="1944720" indent="-228600">
              <a:spcBef>
                <a:spcPts val="1100"/>
              </a:spcBef>
              <a:buClr>
                <a:srgbClr val="ccff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5" marL="1944720" indent="-228600">
              <a:spcBef>
                <a:spcPts val="11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6" marL="1944720" indent="-228600">
              <a:spcBef>
                <a:spcPts val="11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15"/>
          <p:cNvGrpSpPr/>
          <p:nvPr/>
        </p:nvGrpSpPr>
        <p:grpSpPr>
          <a:xfrm>
            <a:off x="0" y="3467160"/>
            <a:ext cx="13004640" cy="5754600"/>
            <a:chOff x="0" y="3467160"/>
            <a:chExt cx="13004640" cy="5754600"/>
          </a:xfrm>
        </p:grpSpPr>
        <p:sp>
          <p:nvSpPr>
            <p:cNvPr id="358" name="Rectangle 1"/>
            <p:cNvSpPr/>
            <p:nvPr/>
          </p:nvSpPr>
          <p:spPr>
            <a:xfrm rot="20160000">
              <a:off x="4782960" y="5864400"/>
              <a:ext cx="6934320" cy="86364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37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59" name="AutoShape 2"/>
            <p:cNvSpPr/>
            <p:nvPr/>
          </p:nvSpPr>
          <p:spPr>
            <a:xfrm>
              <a:off x="0" y="6019920"/>
              <a:ext cx="6070680" cy="2768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7714" y="9741"/>
                  </a:lnTo>
                  <a:lnTo>
                    <a:pt x="15814" y="4659"/>
                  </a:lnTo>
                  <a:lnTo>
                    <a:pt x="16296" y="4765"/>
                  </a:lnTo>
                  <a:lnTo>
                    <a:pt x="21383" y="9318"/>
                  </a:lnTo>
                  <a:lnTo>
                    <a:pt x="21600" y="11435"/>
                  </a:lnTo>
                  <a:lnTo>
                    <a:pt x="18514" y="19059"/>
                  </a:lnTo>
                  <a:lnTo>
                    <a:pt x="12729" y="21600"/>
                  </a:lnTo>
                  <a:lnTo>
                    <a:pt x="10414" y="16518"/>
                  </a:lnTo>
                  <a:lnTo>
                    <a:pt x="6943" y="18212"/>
                  </a:lnTo>
                  <a:lnTo>
                    <a:pt x="0" y="9741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60" name="AutoShape 3"/>
            <p:cNvSpPr/>
            <p:nvPr/>
          </p:nvSpPr>
          <p:spPr>
            <a:xfrm>
              <a:off x="7583400" y="3467160"/>
              <a:ext cx="5421240" cy="278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81" y="53"/>
                  </a:moveTo>
                  <a:lnTo>
                    <a:pt x="20511" y="53"/>
                  </a:lnTo>
                  <a:lnTo>
                    <a:pt x="19864" y="263"/>
                  </a:lnTo>
                  <a:lnTo>
                    <a:pt x="19216" y="473"/>
                  </a:lnTo>
                  <a:lnTo>
                    <a:pt x="19000" y="684"/>
                  </a:lnTo>
                  <a:lnTo>
                    <a:pt x="18784" y="999"/>
                  </a:lnTo>
                  <a:lnTo>
                    <a:pt x="18730" y="1105"/>
                  </a:lnTo>
                  <a:lnTo>
                    <a:pt x="18676" y="1210"/>
                  </a:lnTo>
                  <a:lnTo>
                    <a:pt x="17552" y="1736"/>
                  </a:lnTo>
                  <a:lnTo>
                    <a:pt x="17057" y="1946"/>
                  </a:lnTo>
                  <a:lnTo>
                    <a:pt x="16517" y="2051"/>
                  </a:lnTo>
                  <a:lnTo>
                    <a:pt x="15330" y="2367"/>
                  </a:lnTo>
                  <a:lnTo>
                    <a:pt x="14142" y="2682"/>
                  </a:lnTo>
                  <a:lnTo>
                    <a:pt x="12901" y="2893"/>
                  </a:lnTo>
                  <a:lnTo>
                    <a:pt x="11821" y="3103"/>
                  </a:lnTo>
                  <a:lnTo>
                    <a:pt x="11335" y="3208"/>
                  </a:lnTo>
                  <a:lnTo>
                    <a:pt x="10903" y="3314"/>
                  </a:lnTo>
                  <a:lnTo>
                    <a:pt x="10580" y="3314"/>
                  </a:lnTo>
                  <a:lnTo>
                    <a:pt x="10310" y="3419"/>
                  </a:lnTo>
                  <a:lnTo>
                    <a:pt x="10148" y="3419"/>
                  </a:lnTo>
                  <a:lnTo>
                    <a:pt x="10094" y="3419"/>
                  </a:lnTo>
                  <a:lnTo>
                    <a:pt x="10040" y="3524"/>
                  </a:lnTo>
                  <a:lnTo>
                    <a:pt x="9941" y="3629"/>
                  </a:lnTo>
                  <a:lnTo>
                    <a:pt x="9671" y="4050"/>
                  </a:lnTo>
                  <a:lnTo>
                    <a:pt x="9230" y="4576"/>
                  </a:lnTo>
                  <a:lnTo>
                    <a:pt x="8744" y="5102"/>
                  </a:lnTo>
                  <a:lnTo>
                    <a:pt x="8313" y="5628"/>
                  </a:lnTo>
                  <a:lnTo>
                    <a:pt x="7881" y="6049"/>
                  </a:lnTo>
                  <a:lnTo>
                    <a:pt x="7611" y="6364"/>
                  </a:lnTo>
                  <a:lnTo>
                    <a:pt x="7557" y="6469"/>
                  </a:lnTo>
                  <a:lnTo>
                    <a:pt x="7503" y="6469"/>
                  </a:lnTo>
                  <a:lnTo>
                    <a:pt x="6585" y="7311"/>
                  </a:lnTo>
                  <a:lnTo>
                    <a:pt x="5668" y="8030"/>
                  </a:lnTo>
                  <a:lnTo>
                    <a:pt x="5290" y="8345"/>
                  </a:lnTo>
                  <a:lnTo>
                    <a:pt x="4966" y="8556"/>
                  </a:lnTo>
                  <a:lnTo>
                    <a:pt x="4759" y="8766"/>
                  </a:lnTo>
                  <a:lnTo>
                    <a:pt x="4651" y="8871"/>
                  </a:lnTo>
                  <a:lnTo>
                    <a:pt x="4489" y="9187"/>
                  </a:lnTo>
                  <a:lnTo>
                    <a:pt x="4381" y="9503"/>
                  </a:lnTo>
                  <a:lnTo>
                    <a:pt x="4327" y="9818"/>
                  </a:lnTo>
                  <a:lnTo>
                    <a:pt x="4327" y="10134"/>
                  </a:lnTo>
                  <a:lnTo>
                    <a:pt x="4111" y="10344"/>
                  </a:lnTo>
                  <a:lnTo>
                    <a:pt x="3940" y="10449"/>
                  </a:lnTo>
                  <a:lnTo>
                    <a:pt x="3778" y="10765"/>
                  </a:lnTo>
                  <a:lnTo>
                    <a:pt x="3616" y="11186"/>
                  </a:lnTo>
                  <a:lnTo>
                    <a:pt x="3293" y="12238"/>
                  </a:lnTo>
                  <a:lnTo>
                    <a:pt x="3131" y="12764"/>
                  </a:lnTo>
                  <a:lnTo>
                    <a:pt x="2969" y="13290"/>
                  </a:lnTo>
                  <a:lnTo>
                    <a:pt x="2915" y="13605"/>
                  </a:lnTo>
                  <a:lnTo>
                    <a:pt x="2861" y="13710"/>
                  </a:lnTo>
                  <a:lnTo>
                    <a:pt x="2807" y="13816"/>
                  </a:lnTo>
                  <a:lnTo>
                    <a:pt x="2699" y="13921"/>
                  </a:lnTo>
                  <a:lnTo>
                    <a:pt x="2537" y="14131"/>
                  </a:lnTo>
                  <a:lnTo>
                    <a:pt x="2267" y="14447"/>
                  </a:lnTo>
                  <a:lnTo>
                    <a:pt x="1790" y="14973"/>
                  </a:lnTo>
                  <a:lnTo>
                    <a:pt x="1358" y="15499"/>
                  </a:lnTo>
                  <a:lnTo>
                    <a:pt x="756" y="16235"/>
                  </a:lnTo>
                  <a:lnTo>
                    <a:pt x="270" y="16866"/>
                  </a:lnTo>
                  <a:lnTo>
                    <a:pt x="108" y="17077"/>
                  </a:lnTo>
                  <a:lnTo>
                    <a:pt x="0" y="17392"/>
                  </a:lnTo>
                  <a:lnTo>
                    <a:pt x="0" y="17603"/>
                  </a:lnTo>
                  <a:lnTo>
                    <a:pt x="0" y="17918"/>
                  </a:lnTo>
                  <a:lnTo>
                    <a:pt x="108" y="18234"/>
                  </a:lnTo>
                  <a:lnTo>
                    <a:pt x="378" y="18339"/>
                  </a:lnTo>
                  <a:lnTo>
                    <a:pt x="756" y="18339"/>
                  </a:lnTo>
                  <a:lnTo>
                    <a:pt x="1188" y="18129"/>
                  </a:lnTo>
                  <a:lnTo>
                    <a:pt x="1736" y="17918"/>
                  </a:lnTo>
                  <a:lnTo>
                    <a:pt x="2375" y="17603"/>
                  </a:lnTo>
                  <a:lnTo>
                    <a:pt x="3023" y="17182"/>
                  </a:lnTo>
                  <a:lnTo>
                    <a:pt x="3670" y="16656"/>
                  </a:lnTo>
                  <a:lnTo>
                    <a:pt x="4273" y="16130"/>
                  </a:lnTo>
                  <a:lnTo>
                    <a:pt x="4759" y="15709"/>
                  </a:lnTo>
                  <a:lnTo>
                    <a:pt x="5074" y="15394"/>
                  </a:lnTo>
                  <a:lnTo>
                    <a:pt x="5128" y="15288"/>
                  </a:lnTo>
                  <a:lnTo>
                    <a:pt x="5182" y="15288"/>
                  </a:lnTo>
                  <a:lnTo>
                    <a:pt x="5452" y="15288"/>
                  </a:lnTo>
                  <a:lnTo>
                    <a:pt x="5830" y="15183"/>
                  </a:lnTo>
                  <a:lnTo>
                    <a:pt x="6423" y="14868"/>
                  </a:lnTo>
                  <a:lnTo>
                    <a:pt x="7134" y="14552"/>
                  </a:lnTo>
                  <a:lnTo>
                    <a:pt x="7881" y="14236"/>
                  </a:lnTo>
                  <a:lnTo>
                    <a:pt x="8690" y="13921"/>
                  </a:lnTo>
                  <a:lnTo>
                    <a:pt x="9563" y="13710"/>
                  </a:lnTo>
                  <a:lnTo>
                    <a:pt x="10364" y="13605"/>
                  </a:lnTo>
                  <a:lnTo>
                    <a:pt x="10903" y="13710"/>
                  </a:lnTo>
                  <a:lnTo>
                    <a:pt x="11551" y="14131"/>
                  </a:lnTo>
                  <a:lnTo>
                    <a:pt x="12208" y="14657"/>
                  </a:lnTo>
                  <a:lnTo>
                    <a:pt x="12739" y="15288"/>
                  </a:lnTo>
                  <a:lnTo>
                    <a:pt x="12901" y="15604"/>
                  </a:lnTo>
                  <a:lnTo>
                    <a:pt x="13063" y="15919"/>
                  </a:lnTo>
                  <a:lnTo>
                    <a:pt x="13171" y="16340"/>
                  </a:lnTo>
                  <a:lnTo>
                    <a:pt x="13171" y="16656"/>
                  </a:lnTo>
                  <a:lnTo>
                    <a:pt x="13117" y="16971"/>
                  </a:lnTo>
                  <a:lnTo>
                    <a:pt x="12955" y="17392"/>
                  </a:lnTo>
                  <a:lnTo>
                    <a:pt x="12685" y="17603"/>
                  </a:lnTo>
                  <a:lnTo>
                    <a:pt x="12316" y="17918"/>
                  </a:lnTo>
                  <a:lnTo>
                    <a:pt x="11713" y="18234"/>
                  </a:lnTo>
                  <a:lnTo>
                    <a:pt x="11227" y="18655"/>
                  </a:lnTo>
                  <a:lnTo>
                    <a:pt x="10796" y="18970"/>
                  </a:lnTo>
                  <a:lnTo>
                    <a:pt x="10418" y="19286"/>
                  </a:lnTo>
                  <a:lnTo>
                    <a:pt x="10148" y="19601"/>
                  </a:lnTo>
                  <a:lnTo>
                    <a:pt x="9986" y="19812"/>
                  </a:lnTo>
                  <a:lnTo>
                    <a:pt x="9833" y="20127"/>
                  </a:lnTo>
                  <a:lnTo>
                    <a:pt x="9725" y="20338"/>
                  </a:lnTo>
                  <a:lnTo>
                    <a:pt x="9617" y="20864"/>
                  </a:lnTo>
                  <a:lnTo>
                    <a:pt x="9671" y="21179"/>
                  </a:lnTo>
                  <a:lnTo>
                    <a:pt x="9725" y="21390"/>
                  </a:lnTo>
                  <a:lnTo>
                    <a:pt x="9779" y="21495"/>
                  </a:lnTo>
                  <a:lnTo>
                    <a:pt x="9833" y="21600"/>
                  </a:lnTo>
                  <a:lnTo>
                    <a:pt x="9986" y="21600"/>
                  </a:lnTo>
                  <a:lnTo>
                    <a:pt x="10148" y="21495"/>
                  </a:lnTo>
                  <a:lnTo>
                    <a:pt x="10364" y="21495"/>
                  </a:lnTo>
                  <a:lnTo>
                    <a:pt x="10903" y="21390"/>
                  </a:lnTo>
                  <a:lnTo>
                    <a:pt x="11443" y="21284"/>
                  </a:lnTo>
                  <a:lnTo>
                    <a:pt x="11983" y="21179"/>
                  </a:lnTo>
                  <a:lnTo>
                    <a:pt x="12532" y="20969"/>
                  </a:lnTo>
                  <a:lnTo>
                    <a:pt x="12739" y="20864"/>
                  </a:lnTo>
                  <a:lnTo>
                    <a:pt x="12901" y="20758"/>
                  </a:lnTo>
                  <a:lnTo>
                    <a:pt x="13009" y="20653"/>
                  </a:lnTo>
                  <a:lnTo>
                    <a:pt x="13063" y="20653"/>
                  </a:lnTo>
                  <a:lnTo>
                    <a:pt x="13171" y="20548"/>
                  </a:lnTo>
                  <a:lnTo>
                    <a:pt x="13386" y="20443"/>
                  </a:lnTo>
                  <a:lnTo>
                    <a:pt x="13764" y="20127"/>
                  </a:lnTo>
                  <a:lnTo>
                    <a:pt x="14196" y="19812"/>
                  </a:lnTo>
                  <a:lnTo>
                    <a:pt x="15123" y="19181"/>
                  </a:lnTo>
                  <a:lnTo>
                    <a:pt x="15492" y="18865"/>
                  </a:lnTo>
                  <a:lnTo>
                    <a:pt x="15815" y="18655"/>
                  </a:lnTo>
                  <a:lnTo>
                    <a:pt x="16301" y="18234"/>
                  </a:lnTo>
                  <a:lnTo>
                    <a:pt x="16625" y="17603"/>
                  </a:lnTo>
                  <a:lnTo>
                    <a:pt x="16841" y="16866"/>
                  </a:lnTo>
                  <a:lnTo>
                    <a:pt x="17003" y="16340"/>
                  </a:lnTo>
                  <a:lnTo>
                    <a:pt x="17381" y="15183"/>
                  </a:lnTo>
                  <a:lnTo>
                    <a:pt x="17867" y="14026"/>
                  </a:lnTo>
                  <a:lnTo>
                    <a:pt x="18406" y="12974"/>
                  </a:lnTo>
                  <a:lnTo>
                    <a:pt x="19000" y="12132"/>
                  </a:lnTo>
                  <a:lnTo>
                    <a:pt x="19486" y="11396"/>
                  </a:lnTo>
                  <a:lnTo>
                    <a:pt x="19918" y="10870"/>
                  </a:lnTo>
                  <a:lnTo>
                    <a:pt x="20188" y="10449"/>
                  </a:lnTo>
                  <a:lnTo>
                    <a:pt x="20305" y="10344"/>
                  </a:lnTo>
                  <a:lnTo>
                    <a:pt x="21591" y="9082"/>
                  </a:lnTo>
                  <a:lnTo>
                    <a:pt x="21591" y="999"/>
                  </a:lnTo>
                  <a:lnTo>
                    <a:pt x="21600" y="0"/>
                  </a:lnTo>
                  <a:lnTo>
                    <a:pt x="20781" y="53"/>
                  </a:lnTo>
                  <a:close/>
                  <a:moveTo>
                    <a:pt x="20781" y="53"/>
                  </a:moveTo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61" name="Freeform 4"/>
            <p:cNvSpPr/>
            <p:nvPr/>
          </p:nvSpPr>
          <p:spPr>
            <a:xfrm>
              <a:off x="8559720" y="3467160"/>
              <a:ext cx="4444920" cy="171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591" y="4677"/>
                  </a:moveTo>
                  <a:lnTo>
                    <a:pt x="7639" y="5669"/>
                  </a:lnTo>
                  <a:lnTo>
                    <a:pt x="7606" y="6718"/>
                  </a:lnTo>
                  <a:lnTo>
                    <a:pt x="10141" y="7313"/>
                  </a:lnTo>
                  <a:lnTo>
                    <a:pt x="10899" y="7569"/>
                  </a:lnTo>
                  <a:lnTo>
                    <a:pt x="7474" y="8249"/>
                  </a:lnTo>
                  <a:lnTo>
                    <a:pt x="6948" y="8759"/>
                  </a:lnTo>
                  <a:lnTo>
                    <a:pt x="7079" y="9524"/>
                  </a:lnTo>
                  <a:lnTo>
                    <a:pt x="7376" y="9950"/>
                  </a:lnTo>
                  <a:lnTo>
                    <a:pt x="10800" y="9439"/>
                  </a:lnTo>
                  <a:lnTo>
                    <a:pt x="11854" y="10120"/>
                  </a:lnTo>
                  <a:lnTo>
                    <a:pt x="6849" y="13946"/>
                  </a:lnTo>
                  <a:lnTo>
                    <a:pt x="6761" y="15194"/>
                  </a:lnTo>
                  <a:lnTo>
                    <a:pt x="88" y="20523"/>
                  </a:lnTo>
                  <a:lnTo>
                    <a:pt x="0" y="21430"/>
                  </a:lnTo>
                  <a:lnTo>
                    <a:pt x="296" y="21600"/>
                  </a:lnTo>
                  <a:lnTo>
                    <a:pt x="7288" y="15987"/>
                  </a:lnTo>
                  <a:lnTo>
                    <a:pt x="9395" y="17008"/>
                  </a:lnTo>
                  <a:lnTo>
                    <a:pt x="12710" y="14372"/>
                  </a:lnTo>
                  <a:lnTo>
                    <a:pt x="15739" y="13181"/>
                  </a:lnTo>
                  <a:lnTo>
                    <a:pt x="17254" y="10431"/>
                  </a:lnTo>
                  <a:lnTo>
                    <a:pt x="18790" y="9638"/>
                  </a:lnTo>
                  <a:lnTo>
                    <a:pt x="20371" y="9298"/>
                  </a:lnTo>
                  <a:lnTo>
                    <a:pt x="21600" y="9354"/>
                  </a:lnTo>
                  <a:lnTo>
                    <a:pt x="21600" y="0"/>
                  </a:lnTo>
                  <a:lnTo>
                    <a:pt x="21227" y="85"/>
                  </a:lnTo>
                  <a:lnTo>
                    <a:pt x="20107" y="142"/>
                  </a:lnTo>
                  <a:lnTo>
                    <a:pt x="18461" y="992"/>
                  </a:lnTo>
                  <a:lnTo>
                    <a:pt x="18033" y="2041"/>
                  </a:lnTo>
                  <a:lnTo>
                    <a:pt x="15278" y="3373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62" name="AutoShape 5"/>
            <p:cNvSpPr/>
            <p:nvPr/>
          </p:nvSpPr>
          <p:spPr>
            <a:xfrm>
              <a:off x="8124840" y="5591160"/>
              <a:ext cx="420840" cy="2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080"/>
                  </a:lnTo>
                  <a:lnTo>
                    <a:pt x="21600" y="3240"/>
                  </a:lnTo>
                  <a:lnTo>
                    <a:pt x="21600" y="6480"/>
                  </a:lnTo>
                  <a:lnTo>
                    <a:pt x="20899" y="9720"/>
                  </a:lnTo>
                  <a:lnTo>
                    <a:pt x="18798" y="12960"/>
                  </a:lnTo>
                  <a:lnTo>
                    <a:pt x="15996" y="17280"/>
                  </a:lnTo>
                  <a:lnTo>
                    <a:pt x="11792" y="19440"/>
                  </a:lnTo>
                  <a:lnTo>
                    <a:pt x="5488" y="21600"/>
                  </a:lnTo>
                  <a:lnTo>
                    <a:pt x="3386" y="21600"/>
                  </a:lnTo>
                  <a:lnTo>
                    <a:pt x="1985" y="20520"/>
                  </a:lnTo>
                  <a:lnTo>
                    <a:pt x="0" y="17280"/>
                  </a:lnTo>
                  <a:lnTo>
                    <a:pt x="0" y="14040"/>
                  </a:lnTo>
                  <a:lnTo>
                    <a:pt x="0" y="1296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63" name="AutoShape 6"/>
            <p:cNvSpPr/>
            <p:nvPr/>
          </p:nvSpPr>
          <p:spPr>
            <a:xfrm>
              <a:off x="8531280" y="5402160"/>
              <a:ext cx="417600" cy="2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080"/>
                  </a:lnTo>
                  <a:lnTo>
                    <a:pt x="20899" y="4320"/>
                  </a:lnTo>
                  <a:lnTo>
                    <a:pt x="19498" y="7560"/>
                  </a:lnTo>
                  <a:lnTo>
                    <a:pt x="17397" y="11880"/>
                  </a:lnTo>
                  <a:lnTo>
                    <a:pt x="15295" y="16200"/>
                  </a:lnTo>
                  <a:lnTo>
                    <a:pt x="11909" y="19440"/>
                  </a:lnTo>
                  <a:lnTo>
                    <a:pt x="7706" y="21600"/>
                  </a:lnTo>
                  <a:lnTo>
                    <a:pt x="2102" y="21600"/>
                  </a:lnTo>
                  <a:lnTo>
                    <a:pt x="0" y="1080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64" name="AutoShape 7"/>
            <p:cNvSpPr/>
            <p:nvPr/>
          </p:nvSpPr>
          <p:spPr>
            <a:xfrm>
              <a:off x="8666280" y="4145040"/>
              <a:ext cx="1193760" cy="62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21129"/>
                  </a:lnTo>
                  <a:lnTo>
                    <a:pt x="246" y="19715"/>
                  </a:lnTo>
                  <a:lnTo>
                    <a:pt x="246" y="18772"/>
                  </a:lnTo>
                  <a:lnTo>
                    <a:pt x="493" y="17830"/>
                  </a:lnTo>
                  <a:lnTo>
                    <a:pt x="739" y="17359"/>
                  </a:lnTo>
                  <a:lnTo>
                    <a:pt x="1478" y="16887"/>
                  </a:lnTo>
                  <a:lnTo>
                    <a:pt x="3162" y="15945"/>
                  </a:lnTo>
                  <a:lnTo>
                    <a:pt x="5626" y="14060"/>
                  </a:lnTo>
                  <a:lnTo>
                    <a:pt x="8583" y="11232"/>
                  </a:lnTo>
                  <a:lnTo>
                    <a:pt x="10307" y="9425"/>
                  </a:lnTo>
                  <a:lnTo>
                    <a:pt x="12278" y="7540"/>
                  </a:lnTo>
                  <a:lnTo>
                    <a:pt x="16179" y="3770"/>
                  </a:lnTo>
                  <a:lnTo>
                    <a:pt x="18151" y="2356"/>
                  </a:lnTo>
                  <a:lnTo>
                    <a:pt x="19629" y="943"/>
                  </a:lnTo>
                  <a:lnTo>
                    <a:pt x="20614" y="471"/>
                  </a:lnTo>
                  <a:lnTo>
                    <a:pt x="21354" y="0"/>
                  </a:lnTo>
                  <a:lnTo>
                    <a:pt x="21600" y="0"/>
                  </a:lnTo>
                  <a:lnTo>
                    <a:pt x="21354" y="471"/>
                  </a:lnTo>
                  <a:lnTo>
                    <a:pt x="20861" y="943"/>
                  </a:lnTo>
                  <a:lnTo>
                    <a:pt x="19875" y="1885"/>
                  </a:lnTo>
                  <a:lnTo>
                    <a:pt x="18890" y="3299"/>
                  </a:lnTo>
                  <a:lnTo>
                    <a:pt x="17904" y="4241"/>
                  </a:lnTo>
                  <a:lnTo>
                    <a:pt x="16179" y="6127"/>
                  </a:lnTo>
                  <a:lnTo>
                    <a:pt x="13962" y="8483"/>
                  </a:lnTo>
                  <a:lnTo>
                    <a:pt x="11293" y="11232"/>
                  </a:lnTo>
                  <a:lnTo>
                    <a:pt x="5379" y="17359"/>
                  </a:lnTo>
                  <a:lnTo>
                    <a:pt x="2669" y="19715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65" name="AutoShape 8"/>
            <p:cNvSpPr/>
            <p:nvPr/>
          </p:nvSpPr>
          <p:spPr>
            <a:xfrm>
              <a:off x="8299440" y="4548240"/>
              <a:ext cx="1627200" cy="690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44" y="15247"/>
                  </a:moveTo>
                  <a:lnTo>
                    <a:pt x="903" y="17788"/>
                  </a:lnTo>
                  <a:lnTo>
                    <a:pt x="361" y="19906"/>
                  </a:lnTo>
                  <a:lnTo>
                    <a:pt x="181" y="21176"/>
                  </a:lnTo>
                  <a:lnTo>
                    <a:pt x="0" y="21600"/>
                  </a:lnTo>
                  <a:lnTo>
                    <a:pt x="1444" y="19482"/>
                  </a:lnTo>
                  <a:lnTo>
                    <a:pt x="2527" y="17788"/>
                  </a:lnTo>
                  <a:lnTo>
                    <a:pt x="3249" y="16518"/>
                  </a:lnTo>
                  <a:lnTo>
                    <a:pt x="3610" y="16094"/>
                  </a:lnTo>
                  <a:lnTo>
                    <a:pt x="3791" y="16094"/>
                  </a:lnTo>
                  <a:lnTo>
                    <a:pt x="4332" y="15671"/>
                  </a:lnTo>
                  <a:lnTo>
                    <a:pt x="5054" y="15247"/>
                  </a:lnTo>
                  <a:lnTo>
                    <a:pt x="5957" y="14400"/>
                  </a:lnTo>
                  <a:lnTo>
                    <a:pt x="8273" y="12706"/>
                  </a:lnTo>
                  <a:lnTo>
                    <a:pt x="11161" y="11012"/>
                  </a:lnTo>
                  <a:lnTo>
                    <a:pt x="13869" y="8894"/>
                  </a:lnTo>
                  <a:lnTo>
                    <a:pt x="16365" y="7200"/>
                  </a:lnTo>
                  <a:lnTo>
                    <a:pt x="17268" y="6353"/>
                  </a:lnTo>
                  <a:lnTo>
                    <a:pt x="18170" y="5929"/>
                  </a:lnTo>
                  <a:lnTo>
                    <a:pt x="18712" y="5506"/>
                  </a:lnTo>
                  <a:lnTo>
                    <a:pt x="18892" y="5082"/>
                  </a:lnTo>
                  <a:lnTo>
                    <a:pt x="19073" y="4659"/>
                  </a:lnTo>
                  <a:lnTo>
                    <a:pt x="19614" y="4235"/>
                  </a:lnTo>
                  <a:lnTo>
                    <a:pt x="20878" y="2118"/>
                  </a:lnTo>
                  <a:lnTo>
                    <a:pt x="21419" y="1271"/>
                  </a:lnTo>
                  <a:lnTo>
                    <a:pt x="21600" y="424"/>
                  </a:lnTo>
                  <a:lnTo>
                    <a:pt x="21419" y="0"/>
                  </a:lnTo>
                  <a:lnTo>
                    <a:pt x="20697" y="0"/>
                  </a:lnTo>
                  <a:lnTo>
                    <a:pt x="18892" y="0"/>
                  </a:lnTo>
                  <a:lnTo>
                    <a:pt x="17448" y="0"/>
                  </a:lnTo>
                  <a:lnTo>
                    <a:pt x="16365" y="0"/>
                  </a:lnTo>
                  <a:lnTo>
                    <a:pt x="15463" y="1271"/>
                  </a:lnTo>
                  <a:lnTo>
                    <a:pt x="14591" y="2965"/>
                  </a:lnTo>
                  <a:lnTo>
                    <a:pt x="14049" y="3812"/>
                  </a:lnTo>
                  <a:lnTo>
                    <a:pt x="13508" y="4235"/>
                  </a:lnTo>
                  <a:lnTo>
                    <a:pt x="12786" y="4235"/>
                  </a:lnTo>
                  <a:lnTo>
                    <a:pt x="11703" y="4659"/>
                  </a:lnTo>
                  <a:lnTo>
                    <a:pt x="10439" y="5929"/>
                  </a:lnTo>
                  <a:lnTo>
                    <a:pt x="9356" y="7624"/>
                  </a:lnTo>
                  <a:lnTo>
                    <a:pt x="8634" y="8894"/>
                  </a:lnTo>
                  <a:lnTo>
                    <a:pt x="8273" y="9318"/>
                  </a:lnTo>
                  <a:lnTo>
                    <a:pt x="7731" y="9741"/>
                  </a:lnTo>
                  <a:lnTo>
                    <a:pt x="6648" y="9741"/>
                  </a:lnTo>
                  <a:lnTo>
                    <a:pt x="5596" y="9741"/>
                  </a:lnTo>
                  <a:lnTo>
                    <a:pt x="5415" y="9741"/>
                  </a:lnTo>
                  <a:lnTo>
                    <a:pt x="5235" y="9741"/>
                  </a:lnTo>
                  <a:lnTo>
                    <a:pt x="3430" y="11435"/>
                  </a:lnTo>
                  <a:lnTo>
                    <a:pt x="1444" y="15247"/>
                  </a:lnTo>
                  <a:close/>
                  <a:moveTo>
                    <a:pt x="1444" y="15247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66" name="AutoShape 9"/>
            <p:cNvSpPr/>
            <p:nvPr/>
          </p:nvSpPr>
          <p:spPr>
            <a:xfrm>
              <a:off x="7580160" y="4267440"/>
              <a:ext cx="5423040" cy="198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87" y="883"/>
                  </a:moveTo>
                  <a:lnTo>
                    <a:pt x="20462" y="1177"/>
                  </a:lnTo>
                  <a:lnTo>
                    <a:pt x="20146" y="1324"/>
                  </a:lnTo>
                  <a:lnTo>
                    <a:pt x="19875" y="1324"/>
                  </a:lnTo>
                  <a:lnTo>
                    <a:pt x="19821" y="1324"/>
                  </a:lnTo>
                  <a:lnTo>
                    <a:pt x="19767" y="1324"/>
                  </a:lnTo>
                  <a:lnTo>
                    <a:pt x="19659" y="1471"/>
                  </a:lnTo>
                  <a:lnTo>
                    <a:pt x="19388" y="1618"/>
                  </a:lnTo>
                  <a:lnTo>
                    <a:pt x="19008" y="1912"/>
                  </a:lnTo>
                  <a:lnTo>
                    <a:pt x="18575" y="2182"/>
                  </a:lnTo>
                  <a:lnTo>
                    <a:pt x="18250" y="2476"/>
                  </a:lnTo>
                  <a:lnTo>
                    <a:pt x="18033" y="2623"/>
                  </a:lnTo>
                  <a:lnTo>
                    <a:pt x="17816" y="2770"/>
                  </a:lnTo>
                  <a:lnTo>
                    <a:pt x="17663" y="2918"/>
                  </a:lnTo>
                  <a:lnTo>
                    <a:pt x="17392" y="3212"/>
                  </a:lnTo>
                  <a:lnTo>
                    <a:pt x="17121" y="3359"/>
                  </a:lnTo>
                  <a:lnTo>
                    <a:pt x="16796" y="4094"/>
                  </a:lnTo>
                  <a:lnTo>
                    <a:pt x="16633" y="4683"/>
                  </a:lnTo>
                  <a:lnTo>
                    <a:pt x="16579" y="5418"/>
                  </a:lnTo>
                  <a:lnTo>
                    <a:pt x="16579" y="6007"/>
                  </a:lnTo>
                  <a:lnTo>
                    <a:pt x="16633" y="6595"/>
                  </a:lnTo>
                  <a:lnTo>
                    <a:pt x="16633" y="7184"/>
                  </a:lnTo>
                  <a:lnTo>
                    <a:pt x="16633" y="7478"/>
                  </a:lnTo>
                  <a:lnTo>
                    <a:pt x="16471" y="7919"/>
                  </a:lnTo>
                  <a:lnTo>
                    <a:pt x="16200" y="8066"/>
                  </a:lnTo>
                  <a:lnTo>
                    <a:pt x="15875" y="7772"/>
                  </a:lnTo>
                  <a:lnTo>
                    <a:pt x="15496" y="7331"/>
                  </a:lnTo>
                  <a:lnTo>
                    <a:pt x="14963" y="6742"/>
                  </a:lnTo>
                  <a:lnTo>
                    <a:pt x="14421" y="6448"/>
                  </a:lnTo>
                  <a:lnTo>
                    <a:pt x="13933" y="6301"/>
                  </a:lnTo>
                  <a:lnTo>
                    <a:pt x="13717" y="6301"/>
                  </a:lnTo>
                  <a:lnTo>
                    <a:pt x="13608" y="6301"/>
                  </a:lnTo>
                  <a:lnTo>
                    <a:pt x="13446" y="6448"/>
                  </a:lnTo>
                  <a:lnTo>
                    <a:pt x="13175" y="6742"/>
                  </a:lnTo>
                  <a:lnTo>
                    <a:pt x="12633" y="7625"/>
                  </a:lnTo>
                  <a:lnTo>
                    <a:pt x="12425" y="8066"/>
                  </a:lnTo>
                  <a:lnTo>
                    <a:pt x="12209" y="8361"/>
                  </a:lnTo>
                  <a:lnTo>
                    <a:pt x="12046" y="8655"/>
                  </a:lnTo>
                  <a:lnTo>
                    <a:pt x="11992" y="8802"/>
                  </a:lnTo>
                  <a:lnTo>
                    <a:pt x="11938" y="8802"/>
                  </a:lnTo>
                  <a:lnTo>
                    <a:pt x="11829" y="8802"/>
                  </a:lnTo>
                  <a:lnTo>
                    <a:pt x="11613" y="8949"/>
                  </a:lnTo>
                  <a:lnTo>
                    <a:pt x="11396" y="8949"/>
                  </a:lnTo>
                  <a:lnTo>
                    <a:pt x="10963" y="9096"/>
                  </a:lnTo>
                  <a:lnTo>
                    <a:pt x="10800" y="9096"/>
                  </a:lnTo>
                  <a:lnTo>
                    <a:pt x="10637" y="8949"/>
                  </a:lnTo>
                  <a:lnTo>
                    <a:pt x="10475" y="8949"/>
                  </a:lnTo>
                  <a:lnTo>
                    <a:pt x="10204" y="8949"/>
                  </a:lnTo>
                  <a:lnTo>
                    <a:pt x="9888" y="8949"/>
                  </a:lnTo>
                  <a:lnTo>
                    <a:pt x="9509" y="9096"/>
                  </a:lnTo>
                  <a:lnTo>
                    <a:pt x="9184" y="9243"/>
                  </a:lnTo>
                  <a:lnTo>
                    <a:pt x="8859" y="9243"/>
                  </a:lnTo>
                  <a:lnTo>
                    <a:pt x="8642" y="9390"/>
                  </a:lnTo>
                  <a:lnTo>
                    <a:pt x="8533" y="9537"/>
                  </a:lnTo>
                  <a:lnTo>
                    <a:pt x="8479" y="9684"/>
                  </a:lnTo>
                  <a:lnTo>
                    <a:pt x="8317" y="9832"/>
                  </a:lnTo>
                  <a:lnTo>
                    <a:pt x="7937" y="9979"/>
                  </a:lnTo>
                  <a:lnTo>
                    <a:pt x="7558" y="10273"/>
                  </a:lnTo>
                  <a:lnTo>
                    <a:pt x="7396" y="10273"/>
                  </a:lnTo>
                  <a:lnTo>
                    <a:pt x="7296" y="10273"/>
                  </a:lnTo>
                  <a:lnTo>
                    <a:pt x="7188" y="10273"/>
                  </a:lnTo>
                  <a:lnTo>
                    <a:pt x="7025" y="10273"/>
                  </a:lnTo>
                  <a:lnTo>
                    <a:pt x="6809" y="10273"/>
                  </a:lnTo>
                  <a:lnTo>
                    <a:pt x="6538" y="10420"/>
                  </a:lnTo>
                  <a:lnTo>
                    <a:pt x="5996" y="10714"/>
                  </a:lnTo>
                  <a:lnTo>
                    <a:pt x="5779" y="11008"/>
                  </a:lnTo>
                  <a:lnTo>
                    <a:pt x="5563" y="11303"/>
                  </a:lnTo>
                  <a:lnTo>
                    <a:pt x="5400" y="11597"/>
                  </a:lnTo>
                  <a:lnTo>
                    <a:pt x="5237" y="11597"/>
                  </a:lnTo>
                  <a:lnTo>
                    <a:pt x="4858" y="11597"/>
                  </a:lnTo>
                  <a:lnTo>
                    <a:pt x="4542" y="11450"/>
                  </a:lnTo>
                  <a:lnTo>
                    <a:pt x="4163" y="11597"/>
                  </a:lnTo>
                  <a:lnTo>
                    <a:pt x="4000" y="11744"/>
                  </a:lnTo>
                  <a:lnTo>
                    <a:pt x="3892" y="12038"/>
                  </a:lnTo>
                  <a:lnTo>
                    <a:pt x="3838" y="12479"/>
                  </a:lnTo>
                  <a:lnTo>
                    <a:pt x="3784" y="13068"/>
                  </a:lnTo>
                  <a:lnTo>
                    <a:pt x="3729" y="13215"/>
                  </a:lnTo>
                  <a:lnTo>
                    <a:pt x="3675" y="13362"/>
                  </a:lnTo>
                  <a:lnTo>
                    <a:pt x="3513" y="13509"/>
                  </a:lnTo>
                  <a:lnTo>
                    <a:pt x="3133" y="13951"/>
                  </a:lnTo>
                  <a:lnTo>
                    <a:pt x="2700" y="14392"/>
                  </a:lnTo>
                  <a:lnTo>
                    <a:pt x="2321" y="14539"/>
                  </a:lnTo>
                  <a:lnTo>
                    <a:pt x="2005" y="14686"/>
                  </a:lnTo>
                  <a:lnTo>
                    <a:pt x="1625" y="15127"/>
                  </a:lnTo>
                  <a:lnTo>
                    <a:pt x="1355" y="15716"/>
                  </a:lnTo>
                  <a:lnTo>
                    <a:pt x="1246" y="15863"/>
                  </a:lnTo>
                  <a:lnTo>
                    <a:pt x="1192" y="16010"/>
                  </a:lnTo>
                  <a:lnTo>
                    <a:pt x="1138" y="16157"/>
                  </a:lnTo>
                  <a:lnTo>
                    <a:pt x="975" y="16157"/>
                  </a:lnTo>
                  <a:lnTo>
                    <a:pt x="867" y="16010"/>
                  </a:lnTo>
                  <a:lnTo>
                    <a:pt x="813" y="16010"/>
                  </a:lnTo>
                  <a:lnTo>
                    <a:pt x="0" y="16451"/>
                  </a:lnTo>
                  <a:lnTo>
                    <a:pt x="108" y="16893"/>
                  </a:lnTo>
                  <a:lnTo>
                    <a:pt x="379" y="17040"/>
                  </a:lnTo>
                  <a:lnTo>
                    <a:pt x="759" y="17040"/>
                  </a:lnTo>
                  <a:lnTo>
                    <a:pt x="1192" y="16746"/>
                  </a:lnTo>
                  <a:lnTo>
                    <a:pt x="1734" y="16451"/>
                  </a:lnTo>
                  <a:lnTo>
                    <a:pt x="2375" y="16010"/>
                  </a:lnTo>
                  <a:lnTo>
                    <a:pt x="3025" y="15422"/>
                  </a:lnTo>
                  <a:lnTo>
                    <a:pt x="3675" y="14686"/>
                  </a:lnTo>
                  <a:lnTo>
                    <a:pt x="4271" y="13951"/>
                  </a:lnTo>
                  <a:lnTo>
                    <a:pt x="4759" y="13362"/>
                  </a:lnTo>
                  <a:lnTo>
                    <a:pt x="5075" y="12921"/>
                  </a:lnTo>
                  <a:lnTo>
                    <a:pt x="5129" y="12774"/>
                  </a:lnTo>
                  <a:lnTo>
                    <a:pt x="5183" y="12774"/>
                  </a:lnTo>
                  <a:lnTo>
                    <a:pt x="5454" y="12774"/>
                  </a:lnTo>
                  <a:lnTo>
                    <a:pt x="5833" y="12627"/>
                  </a:lnTo>
                  <a:lnTo>
                    <a:pt x="6429" y="12185"/>
                  </a:lnTo>
                  <a:lnTo>
                    <a:pt x="7134" y="11744"/>
                  </a:lnTo>
                  <a:lnTo>
                    <a:pt x="7883" y="11303"/>
                  </a:lnTo>
                  <a:lnTo>
                    <a:pt x="8696" y="10861"/>
                  </a:lnTo>
                  <a:lnTo>
                    <a:pt x="9563" y="10567"/>
                  </a:lnTo>
                  <a:lnTo>
                    <a:pt x="10367" y="10420"/>
                  </a:lnTo>
                  <a:lnTo>
                    <a:pt x="10637" y="10420"/>
                  </a:lnTo>
                  <a:lnTo>
                    <a:pt x="10963" y="10714"/>
                  </a:lnTo>
                  <a:lnTo>
                    <a:pt x="11667" y="11303"/>
                  </a:lnTo>
                  <a:lnTo>
                    <a:pt x="12100" y="11744"/>
                  </a:lnTo>
                  <a:lnTo>
                    <a:pt x="12480" y="12332"/>
                  </a:lnTo>
                  <a:lnTo>
                    <a:pt x="12796" y="13068"/>
                  </a:lnTo>
                  <a:lnTo>
                    <a:pt x="13012" y="13803"/>
                  </a:lnTo>
                  <a:lnTo>
                    <a:pt x="13067" y="14392"/>
                  </a:lnTo>
                  <a:lnTo>
                    <a:pt x="12958" y="15127"/>
                  </a:lnTo>
                  <a:lnTo>
                    <a:pt x="12850" y="15422"/>
                  </a:lnTo>
                  <a:lnTo>
                    <a:pt x="12687" y="15716"/>
                  </a:lnTo>
                  <a:lnTo>
                    <a:pt x="12425" y="16010"/>
                  </a:lnTo>
                  <a:lnTo>
                    <a:pt x="12155" y="16304"/>
                  </a:lnTo>
                  <a:lnTo>
                    <a:pt x="11559" y="16746"/>
                  </a:lnTo>
                  <a:lnTo>
                    <a:pt x="11071" y="17187"/>
                  </a:lnTo>
                  <a:lnTo>
                    <a:pt x="10637" y="17628"/>
                  </a:lnTo>
                  <a:lnTo>
                    <a:pt x="10312" y="18217"/>
                  </a:lnTo>
                  <a:lnTo>
                    <a:pt x="10041" y="18511"/>
                  </a:lnTo>
                  <a:lnTo>
                    <a:pt x="9834" y="18952"/>
                  </a:lnTo>
                  <a:lnTo>
                    <a:pt x="9725" y="19393"/>
                  </a:lnTo>
                  <a:lnTo>
                    <a:pt x="9617" y="19835"/>
                  </a:lnTo>
                  <a:lnTo>
                    <a:pt x="9563" y="20423"/>
                  </a:lnTo>
                  <a:lnTo>
                    <a:pt x="9617" y="21012"/>
                  </a:lnTo>
                  <a:lnTo>
                    <a:pt x="9725" y="21306"/>
                  </a:lnTo>
                  <a:lnTo>
                    <a:pt x="9780" y="21453"/>
                  </a:lnTo>
                  <a:lnTo>
                    <a:pt x="9834" y="21600"/>
                  </a:lnTo>
                  <a:lnTo>
                    <a:pt x="9987" y="21600"/>
                  </a:lnTo>
                  <a:lnTo>
                    <a:pt x="10150" y="21453"/>
                  </a:lnTo>
                  <a:lnTo>
                    <a:pt x="10367" y="21453"/>
                  </a:lnTo>
                  <a:lnTo>
                    <a:pt x="10908" y="21306"/>
                  </a:lnTo>
                  <a:lnTo>
                    <a:pt x="11450" y="21159"/>
                  </a:lnTo>
                  <a:lnTo>
                    <a:pt x="11992" y="21159"/>
                  </a:lnTo>
                  <a:lnTo>
                    <a:pt x="12534" y="21012"/>
                  </a:lnTo>
                  <a:lnTo>
                    <a:pt x="12741" y="21012"/>
                  </a:lnTo>
                  <a:lnTo>
                    <a:pt x="12904" y="20864"/>
                  </a:lnTo>
                  <a:lnTo>
                    <a:pt x="13012" y="20864"/>
                  </a:lnTo>
                  <a:lnTo>
                    <a:pt x="13067" y="20864"/>
                  </a:lnTo>
                  <a:lnTo>
                    <a:pt x="13175" y="20717"/>
                  </a:lnTo>
                  <a:lnTo>
                    <a:pt x="13392" y="20423"/>
                  </a:lnTo>
                  <a:lnTo>
                    <a:pt x="13771" y="19982"/>
                  </a:lnTo>
                  <a:lnTo>
                    <a:pt x="14204" y="19393"/>
                  </a:lnTo>
                  <a:lnTo>
                    <a:pt x="15125" y="18217"/>
                  </a:lnTo>
                  <a:lnTo>
                    <a:pt x="15496" y="17775"/>
                  </a:lnTo>
                  <a:lnTo>
                    <a:pt x="15821" y="17481"/>
                  </a:lnTo>
                  <a:lnTo>
                    <a:pt x="16308" y="16893"/>
                  </a:lnTo>
                  <a:lnTo>
                    <a:pt x="16633" y="16010"/>
                  </a:lnTo>
                  <a:lnTo>
                    <a:pt x="16850" y="14980"/>
                  </a:lnTo>
                  <a:lnTo>
                    <a:pt x="17013" y="14245"/>
                  </a:lnTo>
                  <a:lnTo>
                    <a:pt x="17392" y="12627"/>
                  </a:lnTo>
                  <a:lnTo>
                    <a:pt x="17871" y="11008"/>
                  </a:lnTo>
                  <a:lnTo>
                    <a:pt x="18412" y="9537"/>
                  </a:lnTo>
                  <a:lnTo>
                    <a:pt x="19008" y="8361"/>
                  </a:lnTo>
                  <a:lnTo>
                    <a:pt x="19496" y="7331"/>
                  </a:lnTo>
                  <a:lnTo>
                    <a:pt x="19929" y="6595"/>
                  </a:lnTo>
                  <a:lnTo>
                    <a:pt x="20200" y="6007"/>
                  </a:lnTo>
                  <a:lnTo>
                    <a:pt x="20309" y="5860"/>
                  </a:lnTo>
                  <a:lnTo>
                    <a:pt x="21600" y="4094"/>
                  </a:lnTo>
                  <a:lnTo>
                    <a:pt x="21600" y="1471"/>
                  </a:lnTo>
                  <a:lnTo>
                    <a:pt x="21600" y="0"/>
                  </a:lnTo>
                  <a:lnTo>
                    <a:pt x="21167" y="441"/>
                  </a:lnTo>
                  <a:lnTo>
                    <a:pt x="20787" y="883"/>
                  </a:lnTo>
                  <a:close/>
                  <a:moveTo>
                    <a:pt x="20787" y="883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67" name="AutoShape 10"/>
            <p:cNvSpPr/>
            <p:nvPr/>
          </p:nvSpPr>
          <p:spPr>
            <a:xfrm>
              <a:off x="8666280" y="4184640"/>
              <a:ext cx="1303200" cy="58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78" y="20591"/>
                  </a:moveTo>
                  <a:lnTo>
                    <a:pt x="707" y="21096"/>
                  </a:lnTo>
                  <a:lnTo>
                    <a:pt x="236" y="21600"/>
                  </a:lnTo>
                  <a:lnTo>
                    <a:pt x="0" y="21600"/>
                  </a:lnTo>
                  <a:lnTo>
                    <a:pt x="11978" y="9497"/>
                  </a:lnTo>
                  <a:lnTo>
                    <a:pt x="20422" y="0"/>
                  </a:lnTo>
                  <a:lnTo>
                    <a:pt x="20657" y="504"/>
                  </a:lnTo>
                  <a:lnTo>
                    <a:pt x="21364" y="1513"/>
                  </a:lnTo>
                  <a:lnTo>
                    <a:pt x="21600" y="2017"/>
                  </a:lnTo>
                  <a:lnTo>
                    <a:pt x="21600" y="3026"/>
                  </a:lnTo>
                  <a:lnTo>
                    <a:pt x="21364" y="3530"/>
                  </a:lnTo>
                  <a:lnTo>
                    <a:pt x="20657" y="4539"/>
                  </a:lnTo>
                  <a:lnTo>
                    <a:pt x="20186" y="5043"/>
                  </a:lnTo>
                  <a:lnTo>
                    <a:pt x="19715" y="5547"/>
                  </a:lnTo>
                  <a:lnTo>
                    <a:pt x="17594" y="7060"/>
                  </a:lnTo>
                  <a:lnTo>
                    <a:pt x="15002" y="9497"/>
                  </a:lnTo>
                  <a:lnTo>
                    <a:pt x="11978" y="12019"/>
                  </a:lnTo>
                  <a:lnTo>
                    <a:pt x="8915" y="14540"/>
                  </a:lnTo>
                  <a:lnTo>
                    <a:pt x="5852" y="17061"/>
                  </a:lnTo>
                  <a:lnTo>
                    <a:pt x="3260" y="19079"/>
                  </a:lnTo>
                  <a:lnTo>
                    <a:pt x="1178" y="20591"/>
                  </a:lnTo>
                  <a:close/>
                  <a:moveTo>
                    <a:pt x="1178" y="20591"/>
                  </a:move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68" name="Freeform 11"/>
            <p:cNvSpPr/>
            <p:nvPr/>
          </p:nvSpPr>
          <p:spPr>
            <a:xfrm>
              <a:off x="8666280" y="3898800"/>
              <a:ext cx="1617480" cy="86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880" y="338"/>
                  </a:moveTo>
                  <a:lnTo>
                    <a:pt x="17739" y="2369"/>
                  </a:lnTo>
                  <a:lnTo>
                    <a:pt x="15536" y="4737"/>
                  </a:lnTo>
                  <a:lnTo>
                    <a:pt x="15355" y="5076"/>
                  </a:lnTo>
                  <a:lnTo>
                    <a:pt x="14631" y="5752"/>
                  </a:lnTo>
                  <a:lnTo>
                    <a:pt x="13726" y="6768"/>
                  </a:lnTo>
                  <a:lnTo>
                    <a:pt x="12821" y="7783"/>
                  </a:lnTo>
                  <a:lnTo>
                    <a:pt x="11192" y="9475"/>
                  </a:lnTo>
                  <a:lnTo>
                    <a:pt x="9231" y="11167"/>
                  </a:lnTo>
                  <a:lnTo>
                    <a:pt x="5611" y="14156"/>
                  </a:lnTo>
                  <a:lnTo>
                    <a:pt x="3952" y="15171"/>
                  </a:lnTo>
                  <a:lnTo>
                    <a:pt x="2685" y="16186"/>
                  </a:lnTo>
                  <a:lnTo>
                    <a:pt x="1599" y="17201"/>
                  </a:lnTo>
                  <a:lnTo>
                    <a:pt x="1086" y="17539"/>
                  </a:lnTo>
                  <a:lnTo>
                    <a:pt x="362" y="18555"/>
                  </a:lnTo>
                  <a:lnTo>
                    <a:pt x="0" y="19908"/>
                  </a:lnTo>
                  <a:lnTo>
                    <a:pt x="0" y="20923"/>
                  </a:lnTo>
                  <a:lnTo>
                    <a:pt x="0" y="21600"/>
                  </a:lnTo>
                  <a:lnTo>
                    <a:pt x="362" y="20923"/>
                  </a:lnTo>
                  <a:lnTo>
                    <a:pt x="905" y="19908"/>
                  </a:lnTo>
                  <a:lnTo>
                    <a:pt x="1599" y="18893"/>
                  </a:lnTo>
                  <a:lnTo>
                    <a:pt x="2323" y="17878"/>
                  </a:lnTo>
                  <a:lnTo>
                    <a:pt x="3047" y="17539"/>
                  </a:lnTo>
                  <a:lnTo>
                    <a:pt x="3952" y="16863"/>
                  </a:lnTo>
                  <a:lnTo>
                    <a:pt x="6154" y="15171"/>
                  </a:lnTo>
                  <a:lnTo>
                    <a:pt x="7240" y="14156"/>
                  </a:lnTo>
                  <a:lnTo>
                    <a:pt x="8145" y="13479"/>
                  </a:lnTo>
                  <a:lnTo>
                    <a:pt x="8869" y="12858"/>
                  </a:lnTo>
                  <a:lnTo>
                    <a:pt x="9412" y="12520"/>
                  </a:lnTo>
                  <a:lnTo>
                    <a:pt x="9955" y="11843"/>
                  </a:lnTo>
                  <a:lnTo>
                    <a:pt x="11011" y="10490"/>
                  </a:lnTo>
                  <a:lnTo>
                    <a:pt x="12640" y="8798"/>
                  </a:lnTo>
                  <a:lnTo>
                    <a:pt x="14269" y="6768"/>
                  </a:lnTo>
                  <a:lnTo>
                    <a:pt x="15898" y="5076"/>
                  </a:lnTo>
                  <a:lnTo>
                    <a:pt x="17377" y="3384"/>
                  </a:lnTo>
                  <a:lnTo>
                    <a:pt x="18463" y="2369"/>
                  </a:lnTo>
                  <a:lnTo>
                    <a:pt x="18975" y="2030"/>
                  </a:lnTo>
                  <a:lnTo>
                    <a:pt x="19518" y="1692"/>
                  </a:lnTo>
                  <a:lnTo>
                    <a:pt x="20423" y="1015"/>
                  </a:lnTo>
                  <a:lnTo>
                    <a:pt x="21147" y="338"/>
                  </a:lnTo>
                  <a:lnTo>
                    <a:pt x="21509" y="0"/>
                  </a:lnTo>
                  <a:lnTo>
                    <a:pt x="19880" y="338"/>
                  </a:lnTo>
                  <a:lnTo>
                    <a:pt x="21600" y="355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69" name="Freeform 12"/>
            <p:cNvSpPr/>
            <p:nvPr/>
          </p:nvSpPr>
          <p:spPr>
            <a:xfrm>
              <a:off x="7794720" y="5126040"/>
              <a:ext cx="718920" cy="50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08" y="21600"/>
                  </a:moveTo>
                  <a:lnTo>
                    <a:pt x="0" y="18720"/>
                  </a:lnTo>
                  <a:lnTo>
                    <a:pt x="21396" y="0"/>
                  </a:lnTo>
                  <a:lnTo>
                    <a:pt x="20581" y="2592"/>
                  </a:lnTo>
                  <a:lnTo>
                    <a:pt x="21600" y="403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70" name="AutoShape 13"/>
            <p:cNvSpPr/>
            <p:nvPr/>
          </p:nvSpPr>
          <p:spPr>
            <a:xfrm>
              <a:off x="0" y="6000840"/>
              <a:ext cx="5857920" cy="2106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166" y="15627"/>
                  </a:moveTo>
                  <a:lnTo>
                    <a:pt x="8740" y="15210"/>
                  </a:lnTo>
                  <a:lnTo>
                    <a:pt x="9514" y="15071"/>
                  </a:lnTo>
                  <a:lnTo>
                    <a:pt x="13160" y="15974"/>
                  </a:lnTo>
                  <a:lnTo>
                    <a:pt x="13509" y="17086"/>
                  </a:lnTo>
                  <a:lnTo>
                    <a:pt x="13909" y="16738"/>
                  </a:lnTo>
                  <a:lnTo>
                    <a:pt x="13784" y="15627"/>
                  </a:lnTo>
                  <a:lnTo>
                    <a:pt x="9789" y="14377"/>
                  </a:lnTo>
                  <a:lnTo>
                    <a:pt x="14958" y="12363"/>
                  </a:lnTo>
                  <a:lnTo>
                    <a:pt x="15432" y="13127"/>
                  </a:lnTo>
                  <a:lnTo>
                    <a:pt x="15657" y="13543"/>
                  </a:lnTo>
                  <a:lnTo>
                    <a:pt x="15557" y="14168"/>
                  </a:lnTo>
                  <a:lnTo>
                    <a:pt x="16606" y="19725"/>
                  </a:lnTo>
                  <a:lnTo>
                    <a:pt x="17505" y="19933"/>
                  </a:lnTo>
                  <a:lnTo>
                    <a:pt x="15723" y="12455"/>
                  </a:lnTo>
                  <a:lnTo>
                    <a:pt x="15674" y="12039"/>
                  </a:lnTo>
                  <a:lnTo>
                    <a:pt x="15582" y="11761"/>
                  </a:lnTo>
                  <a:lnTo>
                    <a:pt x="15332" y="11344"/>
                  </a:lnTo>
                  <a:lnTo>
                    <a:pt x="15033" y="11066"/>
                  </a:lnTo>
                  <a:lnTo>
                    <a:pt x="14733" y="10788"/>
                  </a:lnTo>
                  <a:lnTo>
                    <a:pt x="14583" y="10511"/>
                  </a:lnTo>
                  <a:lnTo>
                    <a:pt x="14483" y="10372"/>
                  </a:lnTo>
                  <a:lnTo>
                    <a:pt x="14533" y="10094"/>
                  </a:lnTo>
                  <a:lnTo>
                    <a:pt x="14633" y="10094"/>
                  </a:lnTo>
                  <a:lnTo>
                    <a:pt x="14833" y="9955"/>
                  </a:lnTo>
                  <a:lnTo>
                    <a:pt x="15232" y="9955"/>
                  </a:lnTo>
                  <a:lnTo>
                    <a:pt x="15432" y="9955"/>
                  </a:lnTo>
                  <a:lnTo>
                    <a:pt x="15624" y="9816"/>
                  </a:lnTo>
                  <a:lnTo>
                    <a:pt x="16023" y="9260"/>
                  </a:lnTo>
                  <a:lnTo>
                    <a:pt x="16273" y="9122"/>
                  </a:lnTo>
                  <a:lnTo>
                    <a:pt x="16473" y="9122"/>
                  </a:lnTo>
                  <a:lnTo>
                    <a:pt x="17080" y="9168"/>
                  </a:lnTo>
                  <a:lnTo>
                    <a:pt x="17030" y="10557"/>
                  </a:lnTo>
                  <a:lnTo>
                    <a:pt x="18753" y="16947"/>
                  </a:lnTo>
                  <a:lnTo>
                    <a:pt x="19428" y="18891"/>
                  </a:lnTo>
                  <a:lnTo>
                    <a:pt x="20102" y="21600"/>
                  </a:lnTo>
                  <a:lnTo>
                    <a:pt x="20227" y="21044"/>
                  </a:lnTo>
                  <a:lnTo>
                    <a:pt x="19952" y="19169"/>
                  </a:lnTo>
                  <a:lnTo>
                    <a:pt x="17430" y="9538"/>
                  </a:lnTo>
                  <a:lnTo>
                    <a:pt x="17380" y="9260"/>
                  </a:lnTo>
                  <a:lnTo>
                    <a:pt x="17280" y="8705"/>
                  </a:lnTo>
                  <a:lnTo>
                    <a:pt x="17030" y="8010"/>
                  </a:lnTo>
                  <a:lnTo>
                    <a:pt x="16772" y="7455"/>
                  </a:lnTo>
                  <a:lnTo>
                    <a:pt x="16622" y="7038"/>
                  </a:lnTo>
                  <a:lnTo>
                    <a:pt x="16473" y="6760"/>
                  </a:lnTo>
                  <a:lnTo>
                    <a:pt x="16373" y="6621"/>
                  </a:lnTo>
                  <a:lnTo>
                    <a:pt x="16423" y="6621"/>
                  </a:lnTo>
                  <a:lnTo>
                    <a:pt x="16523" y="6621"/>
                  </a:lnTo>
                  <a:lnTo>
                    <a:pt x="16722" y="6621"/>
                  </a:lnTo>
                  <a:lnTo>
                    <a:pt x="16980" y="6899"/>
                  </a:lnTo>
                  <a:lnTo>
                    <a:pt x="17330" y="7455"/>
                  </a:lnTo>
                  <a:lnTo>
                    <a:pt x="17680" y="8057"/>
                  </a:lnTo>
                  <a:lnTo>
                    <a:pt x="18304" y="8890"/>
                  </a:lnTo>
                  <a:lnTo>
                    <a:pt x="19353" y="9862"/>
                  </a:lnTo>
                  <a:lnTo>
                    <a:pt x="19927" y="10372"/>
                  </a:lnTo>
                  <a:lnTo>
                    <a:pt x="21001" y="12085"/>
                  </a:lnTo>
                  <a:lnTo>
                    <a:pt x="21600" y="11946"/>
                  </a:lnTo>
                  <a:lnTo>
                    <a:pt x="20326" y="10511"/>
                  </a:lnTo>
                  <a:lnTo>
                    <a:pt x="19877" y="9816"/>
                  </a:lnTo>
                  <a:lnTo>
                    <a:pt x="19369" y="8983"/>
                  </a:lnTo>
                  <a:lnTo>
                    <a:pt x="18470" y="7871"/>
                  </a:lnTo>
                  <a:lnTo>
                    <a:pt x="17530" y="6760"/>
                  </a:lnTo>
                  <a:lnTo>
                    <a:pt x="17080" y="6482"/>
                  </a:lnTo>
                  <a:lnTo>
                    <a:pt x="16672" y="6205"/>
                  </a:lnTo>
                  <a:lnTo>
                    <a:pt x="16273" y="6066"/>
                  </a:lnTo>
                  <a:lnTo>
                    <a:pt x="15973" y="6205"/>
                  </a:lnTo>
                  <a:lnTo>
                    <a:pt x="15624" y="6343"/>
                  </a:lnTo>
                  <a:lnTo>
                    <a:pt x="15083" y="6343"/>
                  </a:lnTo>
                  <a:lnTo>
                    <a:pt x="14583" y="6343"/>
                  </a:lnTo>
                  <a:lnTo>
                    <a:pt x="14175" y="6621"/>
                  </a:lnTo>
                  <a:lnTo>
                    <a:pt x="13826" y="6760"/>
                  </a:lnTo>
                  <a:lnTo>
                    <a:pt x="13576" y="7038"/>
                  </a:lnTo>
                  <a:lnTo>
                    <a:pt x="13376" y="7316"/>
                  </a:lnTo>
                  <a:lnTo>
                    <a:pt x="13276" y="7455"/>
                  </a:lnTo>
                  <a:lnTo>
                    <a:pt x="13226" y="7455"/>
                  </a:lnTo>
                  <a:lnTo>
                    <a:pt x="12486" y="7732"/>
                  </a:lnTo>
                  <a:lnTo>
                    <a:pt x="11728" y="8288"/>
                  </a:lnTo>
                  <a:lnTo>
                    <a:pt x="10288" y="9677"/>
                  </a:lnTo>
                  <a:lnTo>
                    <a:pt x="9589" y="10233"/>
                  </a:lnTo>
                  <a:lnTo>
                    <a:pt x="8831" y="10650"/>
                  </a:lnTo>
                  <a:lnTo>
                    <a:pt x="8041" y="10650"/>
                  </a:lnTo>
                  <a:lnTo>
                    <a:pt x="7641" y="10511"/>
                  </a:lnTo>
                  <a:lnTo>
                    <a:pt x="7242" y="10233"/>
                  </a:lnTo>
                  <a:lnTo>
                    <a:pt x="7142" y="10094"/>
                  </a:lnTo>
                  <a:lnTo>
                    <a:pt x="6892" y="9955"/>
                  </a:lnTo>
                  <a:lnTo>
                    <a:pt x="6584" y="9538"/>
                  </a:lnTo>
                  <a:lnTo>
                    <a:pt x="6185" y="8983"/>
                  </a:lnTo>
                  <a:lnTo>
                    <a:pt x="5743" y="8427"/>
                  </a:lnTo>
                  <a:lnTo>
                    <a:pt x="5294" y="7732"/>
                  </a:lnTo>
                  <a:lnTo>
                    <a:pt x="4287" y="6482"/>
                  </a:lnTo>
                  <a:lnTo>
                    <a:pt x="3887" y="5927"/>
                  </a:lnTo>
                  <a:lnTo>
                    <a:pt x="3687" y="5649"/>
                  </a:lnTo>
                  <a:lnTo>
                    <a:pt x="0" y="0"/>
                  </a:lnTo>
                  <a:lnTo>
                    <a:pt x="1024" y="2778"/>
                  </a:lnTo>
                  <a:lnTo>
                    <a:pt x="4869" y="9029"/>
                  </a:lnTo>
                  <a:lnTo>
                    <a:pt x="5893" y="10696"/>
                  </a:lnTo>
                  <a:lnTo>
                    <a:pt x="7067" y="12571"/>
                  </a:lnTo>
                  <a:lnTo>
                    <a:pt x="7342" y="13057"/>
                  </a:lnTo>
                  <a:lnTo>
                    <a:pt x="7466" y="14377"/>
                  </a:lnTo>
                  <a:lnTo>
                    <a:pt x="8166" y="15627"/>
                  </a:lnTo>
                  <a:close/>
                  <a:moveTo>
                    <a:pt x="8166" y="15627"/>
                  </a:move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71" name="AutoShape 14"/>
            <p:cNvSpPr/>
            <p:nvPr/>
          </p:nvSpPr>
          <p:spPr>
            <a:xfrm>
              <a:off x="0" y="6759720"/>
              <a:ext cx="6146640" cy="246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5920"/>
                  </a:moveTo>
                  <a:lnTo>
                    <a:pt x="21537" y="4752"/>
                  </a:lnTo>
                  <a:lnTo>
                    <a:pt x="21069" y="3861"/>
                  </a:lnTo>
                  <a:lnTo>
                    <a:pt x="18800" y="1425"/>
                  </a:lnTo>
                  <a:lnTo>
                    <a:pt x="18268" y="1069"/>
                  </a:lnTo>
                  <a:lnTo>
                    <a:pt x="20505" y="3682"/>
                  </a:lnTo>
                  <a:lnTo>
                    <a:pt x="20553" y="3801"/>
                  </a:lnTo>
                  <a:lnTo>
                    <a:pt x="20601" y="3920"/>
                  </a:lnTo>
                  <a:lnTo>
                    <a:pt x="20791" y="4514"/>
                  </a:lnTo>
                  <a:lnTo>
                    <a:pt x="20934" y="5108"/>
                  </a:lnTo>
                  <a:lnTo>
                    <a:pt x="20989" y="5346"/>
                  </a:lnTo>
                  <a:lnTo>
                    <a:pt x="20934" y="5464"/>
                  </a:lnTo>
                  <a:lnTo>
                    <a:pt x="20648" y="5583"/>
                  </a:lnTo>
                  <a:lnTo>
                    <a:pt x="20267" y="5583"/>
                  </a:lnTo>
                  <a:lnTo>
                    <a:pt x="19887" y="5464"/>
                  </a:lnTo>
                  <a:lnTo>
                    <a:pt x="19458" y="5227"/>
                  </a:lnTo>
                  <a:lnTo>
                    <a:pt x="18990" y="4870"/>
                  </a:lnTo>
                  <a:lnTo>
                    <a:pt x="18562" y="4395"/>
                  </a:lnTo>
                  <a:lnTo>
                    <a:pt x="18411" y="4276"/>
                  </a:lnTo>
                  <a:lnTo>
                    <a:pt x="18221" y="4039"/>
                  </a:lnTo>
                  <a:lnTo>
                    <a:pt x="17221" y="2495"/>
                  </a:lnTo>
                  <a:lnTo>
                    <a:pt x="17174" y="2376"/>
                  </a:lnTo>
                  <a:lnTo>
                    <a:pt x="17086" y="2019"/>
                  </a:lnTo>
                  <a:lnTo>
                    <a:pt x="16753" y="1307"/>
                  </a:lnTo>
                  <a:lnTo>
                    <a:pt x="16373" y="475"/>
                  </a:lnTo>
                  <a:lnTo>
                    <a:pt x="16230" y="119"/>
                  </a:lnTo>
                  <a:lnTo>
                    <a:pt x="16135" y="0"/>
                  </a:lnTo>
                  <a:lnTo>
                    <a:pt x="16563" y="1425"/>
                  </a:lnTo>
                  <a:lnTo>
                    <a:pt x="16706" y="2138"/>
                  </a:lnTo>
                  <a:lnTo>
                    <a:pt x="16706" y="2257"/>
                  </a:lnTo>
                  <a:lnTo>
                    <a:pt x="16753" y="2257"/>
                  </a:lnTo>
                  <a:lnTo>
                    <a:pt x="19085" y="10216"/>
                  </a:lnTo>
                  <a:lnTo>
                    <a:pt x="19133" y="10572"/>
                  </a:lnTo>
                  <a:lnTo>
                    <a:pt x="19133" y="10929"/>
                  </a:lnTo>
                  <a:lnTo>
                    <a:pt x="18990" y="11404"/>
                  </a:lnTo>
                  <a:lnTo>
                    <a:pt x="18752" y="11641"/>
                  </a:lnTo>
                  <a:lnTo>
                    <a:pt x="18411" y="11641"/>
                  </a:lnTo>
                  <a:lnTo>
                    <a:pt x="18078" y="11166"/>
                  </a:lnTo>
                  <a:lnTo>
                    <a:pt x="17745" y="10572"/>
                  </a:lnTo>
                  <a:lnTo>
                    <a:pt x="17459" y="9978"/>
                  </a:lnTo>
                  <a:lnTo>
                    <a:pt x="17412" y="9860"/>
                  </a:lnTo>
                  <a:lnTo>
                    <a:pt x="17364" y="9741"/>
                  </a:lnTo>
                  <a:lnTo>
                    <a:pt x="17221" y="9147"/>
                  </a:lnTo>
                  <a:lnTo>
                    <a:pt x="16991" y="8315"/>
                  </a:lnTo>
                  <a:lnTo>
                    <a:pt x="16658" y="7484"/>
                  </a:lnTo>
                  <a:lnTo>
                    <a:pt x="16325" y="6533"/>
                  </a:lnTo>
                  <a:lnTo>
                    <a:pt x="16182" y="6296"/>
                  </a:lnTo>
                  <a:lnTo>
                    <a:pt x="16087" y="5940"/>
                  </a:lnTo>
                  <a:lnTo>
                    <a:pt x="15936" y="5227"/>
                  </a:lnTo>
                  <a:lnTo>
                    <a:pt x="15793" y="4633"/>
                  </a:lnTo>
                  <a:lnTo>
                    <a:pt x="15746" y="4158"/>
                  </a:lnTo>
                  <a:lnTo>
                    <a:pt x="15651" y="3801"/>
                  </a:lnTo>
                  <a:lnTo>
                    <a:pt x="15603" y="3564"/>
                  </a:lnTo>
                  <a:lnTo>
                    <a:pt x="15460" y="3445"/>
                  </a:lnTo>
                  <a:lnTo>
                    <a:pt x="15127" y="3089"/>
                  </a:lnTo>
                  <a:lnTo>
                    <a:pt x="14754" y="2732"/>
                  </a:lnTo>
                  <a:lnTo>
                    <a:pt x="14564" y="2613"/>
                  </a:lnTo>
                  <a:lnTo>
                    <a:pt x="14469" y="2613"/>
                  </a:lnTo>
                  <a:lnTo>
                    <a:pt x="14326" y="2613"/>
                  </a:lnTo>
                  <a:lnTo>
                    <a:pt x="14278" y="2732"/>
                  </a:lnTo>
                  <a:lnTo>
                    <a:pt x="14231" y="2851"/>
                  </a:lnTo>
                  <a:lnTo>
                    <a:pt x="14612" y="3089"/>
                  </a:lnTo>
                  <a:lnTo>
                    <a:pt x="14850" y="3564"/>
                  </a:lnTo>
                  <a:lnTo>
                    <a:pt x="14984" y="4039"/>
                  </a:lnTo>
                  <a:lnTo>
                    <a:pt x="15032" y="4395"/>
                  </a:lnTo>
                  <a:lnTo>
                    <a:pt x="14984" y="4752"/>
                  </a:lnTo>
                  <a:lnTo>
                    <a:pt x="15080" y="5346"/>
                  </a:lnTo>
                  <a:lnTo>
                    <a:pt x="15222" y="6296"/>
                  </a:lnTo>
                  <a:lnTo>
                    <a:pt x="15413" y="7246"/>
                  </a:lnTo>
                  <a:lnTo>
                    <a:pt x="15793" y="9503"/>
                  </a:lnTo>
                  <a:lnTo>
                    <a:pt x="16031" y="10572"/>
                  </a:lnTo>
                  <a:lnTo>
                    <a:pt x="16182" y="11523"/>
                  </a:lnTo>
                  <a:lnTo>
                    <a:pt x="16373" y="12473"/>
                  </a:lnTo>
                  <a:lnTo>
                    <a:pt x="16468" y="13186"/>
                  </a:lnTo>
                  <a:lnTo>
                    <a:pt x="16515" y="13522"/>
                  </a:lnTo>
                  <a:lnTo>
                    <a:pt x="16420" y="13760"/>
                  </a:lnTo>
                  <a:lnTo>
                    <a:pt x="16277" y="13760"/>
                  </a:lnTo>
                  <a:lnTo>
                    <a:pt x="16031" y="13760"/>
                  </a:lnTo>
                  <a:lnTo>
                    <a:pt x="15841" y="13760"/>
                  </a:lnTo>
                  <a:lnTo>
                    <a:pt x="15651" y="13641"/>
                  </a:lnTo>
                  <a:lnTo>
                    <a:pt x="15508" y="13522"/>
                  </a:lnTo>
                  <a:lnTo>
                    <a:pt x="15460" y="13522"/>
                  </a:lnTo>
                  <a:lnTo>
                    <a:pt x="15460" y="13403"/>
                  </a:lnTo>
                  <a:lnTo>
                    <a:pt x="15413" y="13304"/>
                  </a:lnTo>
                  <a:lnTo>
                    <a:pt x="15175" y="12592"/>
                  </a:lnTo>
                  <a:lnTo>
                    <a:pt x="14326" y="6415"/>
                  </a:lnTo>
                  <a:lnTo>
                    <a:pt x="14088" y="6533"/>
                  </a:lnTo>
                  <a:lnTo>
                    <a:pt x="13850" y="6533"/>
                  </a:lnTo>
                  <a:lnTo>
                    <a:pt x="13509" y="6177"/>
                  </a:lnTo>
                  <a:lnTo>
                    <a:pt x="13271" y="5702"/>
                  </a:lnTo>
                  <a:lnTo>
                    <a:pt x="13223" y="5464"/>
                  </a:lnTo>
                  <a:lnTo>
                    <a:pt x="13128" y="5346"/>
                  </a:lnTo>
                  <a:lnTo>
                    <a:pt x="12985" y="5464"/>
                  </a:lnTo>
                  <a:lnTo>
                    <a:pt x="12938" y="5702"/>
                  </a:lnTo>
                  <a:lnTo>
                    <a:pt x="12890" y="6058"/>
                  </a:lnTo>
                  <a:lnTo>
                    <a:pt x="12890" y="6177"/>
                  </a:lnTo>
                  <a:lnTo>
                    <a:pt x="13033" y="6296"/>
                  </a:lnTo>
                  <a:lnTo>
                    <a:pt x="13128" y="6652"/>
                  </a:lnTo>
                  <a:lnTo>
                    <a:pt x="13223" y="7246"/>
                  </a:lnTo>
                  <a:lnTo>
                    <a:pt x="13271" y="7959"/>
                  </a:lnTo>
                  <a:lnTo>
                    <a:pt x="13271" y="8078"/>
                  </a:lnTo>
                  <a:lnTo>
                    <a:pt x="13271" y="8197"/>
                  </a:lnTo>
                  <a:lnTo>
                    <a:pt x="13612" y="15067"/>
                  </a:lnTo>
                  <a:lnTo>
                    <a:pt x="13612" y="15304"/>
                  </a:lnTo>
                  <a:lnTo>
                    <a:pt x="13612" y="15423"/>
                  </a:lnTo>
                  <a:lnTo>
                    <a:pt x="13557" y="15304"/>
                  </a:lnTo>
                  <a:lnTo>
                    <a:pt x="13509" y="14948"/>
                  </a:lnTo>
                  <a:lnTo>
                    <a:pt x="13461" y="14829"/>
                  </a:lnTo>
                  <a:lnTo>
                    <a:pt x="13414" y="14591"/>
                  </a:lnTo>
                  <a:lnTo>
                    <a:pt x="13319" y="14116"/>
                  </a:lnTo>
                  <a:lnTo>
                    <a:pt x="13176" y="13304"/>
                  </a:lnTo>
                  <a:lnTo>
                    <a:pt x="13033" y="12473"/>
                  </a:lnTo>
                  <a:lnTo>
                    <a:pt x="12795" y="11523"/>
                  </a:lnTo>
                  <a:lnTo>
                    <a:pt x="12605" y="10691"/>
                  </a:lnTo>
                  <a:lnTo>
                    <a:pt x="12375" y="10097"/>
                  </a:lnTo>
                  <a:lnTo>
                    <a:pt x="12184" y="9741"/>
                  </a:lnTo>
                  <a:lnTo>
                    <a:pt x="11851" y="9503"/>
                  </a:lnTo>
                  <a:lnTo>
                    <a:pt x="11470" y="9503"/>
                  </a:lnTo>
                  <a:lnTo>
                    <a:pt x="11082" y="9622"/>
                  </a:lnTo>
                  <a:lnTo>
                    <a:pt x="10701" y="9860"/>
                  </a:lnTo>
                  <a:lnTo>
                    <a:pt x="9900" y="10454"/>
                  </a:lnTo>
                  <a:lnTo>
                    <a:pt x="9186" y="11285"/>
                  </a:lnTo>
                  <a:lnTo>
                    <a:pt x="8757" y="11879"/>
                  </a:lnTo>
                  <a:lnTo>
                    <a:pt x="8226" y="12354"/>
                  </a:lnTo>
                  <a:lnTo>
                    <a:pt x="7901" y="12473"/>
                  </a:lnTo>
                  <a:lnTo>
                    <a:pt x="7520" y="12473"/>
                  </a:lnTo>
                  <a:lnTo>
                    <a:pt x="7139" y="12235"/>
                  </a:lnTo>
                  <a:lnTo>
                    <a:pt x="6663" y="11641"/>
                  </a:lnTo>
                  <a:lnTo>
                    <a:pt x="5664" y="10572"/>
                  </a:lnTo>
                  <a:lnTo>
                    <a:pt x="4617" y="9384"/>
                  </a:lnTo>
                  <a:lnTo>
                    <a:pt x="3514" y="8078"/>
                  </a:lnTo>
                  <a:lnTo>
                    <a:pt x="2523" y="6890"/>
                  </a:lnTo>
                  <a:lnTo>
                    <a:pt x="1571" y="5702"/>
                  </a:lnTo>
                  <a:lnTo>
                    <a:pt x="1182" y="5227"/>
                  </a:lnTo>
                  <a:lnTo>
                    <a:pt x="809" y="4752"/>
                  </a:lnTo>
                  <a:lnTo>
                    <a:pt x="0" y="3702"/>
                  </a:lnTo>
                  <a:lnTo>
                    <a:pt x="0" y="9107"/>
                  </a:lnTo>
                  <a:lnTo>
                    <a:pt x="286" y="9384"/>
                  </a:lnTo>
                  <a:lnTo>
                    <a:pt x="1182" y="10216"/>
                  </a:lnTo>
                  <a:lnTo>
                    <a:pt x="1713" y="10691"/>
                  </a:lnTo>
                  <a:lnTo>
                    <a:pt x="2285" y="11285"/>
                  </a:lnTo>
                  <a:lnTo>
                    <a:pt x="2760" y="11760"/>
                  </a:lnTo>
                  <a:lnTo>
                    <a:pt x="3141" y="12235"/>
                  </a:lnTo>
                  <a:lnTo>
                    <a:pt x="3427" y="12592"/>
                  </a:lnTo>
                  <a:lnTo>
                    <a:pt x="3657" y="12948"/>
                  </a:lnTo>
                  <a:lnTo>
                    <a:pt x="3998" y="13304"/>
                  </a:lnTo>
                  <a:lnTo>
                    <a:pt x="4664" y="13997"/>
                  </a:lnTo>
                  <a:lnTo>
                    <a:pt x="5426" y="14710"/>
                  </a:lnTo>
                  <a:lnTo>
                    <a:pt x="5751" y="14948"/>
                  </a:lnTo>
                  <a:lnTo>
                    <a:pt x="6037" y="15185"/>
                  </a:lnTo>
                  <a:lnTo>
                    <a:pt x="6568" y="15423"/>
                  </a:lnTo>
                  <a:lnTo>
                    <a:pt x="7092" y="15542"/>
                  </a:lnTo>
                  <a:lnTo>
                    <a:pt x="7663" y="15660"/>
                  </a:lnTo>
                  <a:lnTo>
                    <a:pt x="8178" y="15660"/>
                  </a:lnTo>
                  <a:lnTo>
                    <a:pt x="8662" y="15542"/>
                  </a:lnTo>
                  <a:lnTo>
                    <a:pt x="9091" y="15542"/>
                  </a:lnTo>
                  <a:lnTo>
                    <a:pt x="9329" y="15423"/>
                  </a:lnTo>
                  <a:lnTo>
                    <a:pt x="9424" y="15423"/>
                  </a:lnTo>
                  <a:lnTo>
                    <a:pt x="9804" y="15542"/>
                  </a:lnTo>
                  <a:lnTo>
                    <a:pt x="10138" y="15660"/>
                  </a:lnTo>
                  <a:lnTo>
                    <a:pt x="10368" y="15898"/>
                  </a:lnTo>
                  <a:lnTo>
                    <a:pt x="10606" y="16017"/>
                  </a:lnTo>
                  <a:lnTo>
                    <a:pt x="10939" y="16373"/>
                  </a:lnTo>
                  <a:lnTo>
                    <a:pt x="11137" y="16730"/>
                  </a:lnTo>
                  <a:lnTo>
                    <a:pt x="11232" y="17086"/>
                  </a:lnTo>
                  <a:lnTo>
                    <a:pt x="11232" y="17324"/>
                  </a:lnTo>
                  <a:lnTo>
                    <a:pt x="11232" y="17442"/>
                  </a:lnTo>
                  <a:lnTo>
                    <a:pt x="11232" y="17561"/>
                  </a:lnTo>
                  <a:lnTo>
                    <a:pt x="11185" y="17561"/>
                  </a:lnTo>
                  <a:lnTo>
                    <a:pt x="11082" y="17680"/>
                  </a:lnTo>
                  <a:lnTo>
                    <a:pt x="10939" y="17918"/>
                  </a:lnTo>
                  <a:lnTo>
                    <a:pt x="10796" y="18274"/>
                  </a:lnTo>
                  <a:lnTo>
                    <a:pt x="10748" y="18630"/>
                  </a:lnTo>
                  <a:lnTo>
                    <a:pt x="10796" y="19224"/>
                  </a:lnTo>
                  <a:lnTo>
                    <a:pt x="10844" y="19581"/>
                  </a:lnTo>
                  <a:lnTo>
                    <a:pt x="10986" y="19937"/>
                  </a:lnTo>
                  <a:lnTo>
                    <a:pt x="11137" y="20293"/>
                  </a:lnTo>
                  <a:lnTo>
                    <a:pt x="11375" y="20768"/>
                  </a:lnTo>
                  <a:lnTo>
                    <a:pt x="11613" y="21125"/>
                  </a:lnTo>
                  <a:lnTo>
                    <a:pt x="11851" y="21481"/>
                  </a:lnTo>
                  <a:lnTo>
                    <a:pt x="12327" y="21600"/>
                  </a:lnTo>
                  <a:lnTo>
                    <a:pt x="12747" y="21481"/>
                  </a:lnTo>
                  <a:lnTo>
                    <a:pt x="13176" y="21125"/>
                  </a:lnTo>
                  <a:lnTo>
                    <a:pt x="13461" y="20650"/>
                  </a:lnTo>
                  <a:lnTo>
                    <a:pt x="13755" y="20175"/>
                  </a:lnTo>
                  <a:lnTo>
                    <a:pt x="13898" y="19699"/>
                  </a:lnTo>
                  <a:lnTo>
                    <a:pt x="13945" y="19581"/>
                  </a:lnTo>
                  <a:lnTo>
                    <a:pt x="14374" y="19581"/>
                  </a:lnTo>
                  <a:lnTo>
                    <a:pt x="14754" y="19462"/>
                  </a:lnTo>
                  <a:lnTo>
                    <a:pt x="15127" y="19105"/>
                  </a:lnTo>
                  <a:lnTo>
                    <a:pt x="15413" y="18630"/>
                  </a:lnTo>
                  <a:lnTo>
                    <a:pt x="15651" y="18155"/>
                  </a:lnTo>
                  <a:lnTo>
                    <a:pt x="15889" y="17799"/>
                  </a:lnTo>
                  <a:lnTo>
                    <a:pt x="15984" y="17442"/>
                  </a:lnTo>
                  <a:lnTo>
                    <a:pt x="16031" y="17324"/>
                  </a:lnTo>
                  <a:lnTo>
                    <a:pt x="17459" y="17799"/>
                  </a:lnTo>
                  <a:lnTo>
                    <a:pt x="17792" y="17918"/>
                  </a:lnTo>
                  <a:lnTo>
                    <a:pt x="18030" y="17799"/>
                  </a:lnTo>
                  <a:lnTo>
                    <a:pt x="18459" y="17561"/>
                  </a:lnTo>
                  <a:lnTo>
                    <a:pt x="18752" y="17086"/>
                  </a:lnTo>
                  <a:lnTo>
                    <a:pt x="18943" y="16373"/>
                  </a:lnTo>
                  <a:lnTo>
                    <a:pt x="19038" y="15779"/>
                  </a:lnTo>
                  <a:lnTo>
                    <a:pt x="19038" y="15185"/>
                  </a:lnTo>
                  <a:lnTo>
                    <a:pt x="19038" y="14710"/>
                  </a:lnTo>
                  <a:lnTo>
                    <a:pt x="19038" y="14591"/>
                  </a:lnTo>
                  <a:lnTo>
                    <a:pt x="19181" y="14591"/>
                  </a:lnTo>
                  <a:lnTo>
                    <a:pt x="19323" y="14473"/>
                  </a:lnTo>
                  <a:lnTo>
                    <a:pt x="19601" y="13879"/>
                  </a:lnTo>
                  <a:lnTo>
                    <a:pt x="19934" y="13067"/>
                  </a:lnTo>
                  <a:lnTo>
                    <a:pt x="20267" y="11998"/>
                  </a:lnTo>
                  <a:lnTo>
                    <a:pt x="20553" y="10929"/>
                  </a:lnTo>
                  <a:lnTo>
                    <a:pt x="20791" y="9978"/>
                  </a:lnTo>
                  <a:lnTo>
                    <a:pt x="20934" y="9266"/>
                  </a:lnTo>
                  <a:lnTo>
                    <a:pt x="20989" y="9147"/>
                  </a:lnTo>
                  <a:lnTo>
                    <a:pt x="20989" y="9028"/>
                  </a:lnTo>
                  <a:lnTo>
                    <a:pt x="21362" y="7405"/>
                  </a:lnTo>
                  <a:lnTo>
                    <a:pt x="21600" y="5920"/>
                  </a:lnTo>
                  <a:close/>
                  <a:moveTo>
                    <a:pt x="21600" y="5920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b9efee"/>
                </a:solidFill>
                <a:latin typeface="Lucida Grande"/>
              </a:rPr>
              <a:t>Click to edit the title text format</a:t>
            </a:r>
            <a:endParaRPr b="1" lang="en-US" sz="6200" spc="-1" strike="noStrike">
              <a:solidFill>
                <a:srgbClr val="b9efee"/>
              </a:solidFill>
              <a:latin typeface="Lucida Gran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9"/>
          </p:nvPr>
        </p:nvSpPr>
        <p:spPr>
          <a:xfrm>
            <a:off x="10648800" y="9207360"/>
            <a:ext cx="37152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5801-BB83-4AD7-9437-C416152FA0E8}" type="slidenum">
              <a:rPr b="0" lang="en-US" sz="16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1" marL="630360" indent="-285840">
              <a:spcBef>
                <a:spcPts val="11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2" marL="1030320" indent="-228600">
              <a:spcBef>
                <a:spcPts val="1100"/>
              </a:spcBef>
              <a:buClr>
                <a:srgbClr val="b9efe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3" marL="1487520" indent="-228600">
              <a:spcBef>
                <a:spcPts val="11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4" marL="1944720" indent="-228600">
              <a:spcBef>
                <a:spcPts val="1100"/>
              </a:spcBef>
              <a:buClr>
                <a:srgbClr val="ccff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5" marL="1944720" indent="-228600">
              <a:spcBef>
                <a:spcPts val="11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6" marL="1944720" indent="-228600">
              <a:spcBef>
                <a:spcPts val="11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20000"/>
                </a:solidFill>
                <a:latin typeface="Big Caslon"/>
              </a:rPr>
              <a:t>Bell Ringer 9-11</a:t>
            </a:r>
            <a:r>
              <a:rPr b="0" lang="en-US" sz="6200" spc="-1" strike="noStrike">
                <a:solidFill>
                  <a:srgbClr val="320000"/>
                </a:solidFill>
                <a:latin typeface="Big Caslon"/>
              </a:rPr>
              <a:t>	</a:t>
            </a: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33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What is the difference between latitude and longitude?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10518840" y="8889840"/>
            <a:ext cx="307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FE74-FD58-4AE2-BFE1-4DBD75FD0CA9}" type="slidenum">
              <a:rPr b="0" lang="en-US" sz="1800" spc="-1" strike="noStrike">
                <a:solidFill>
                  <a:srgbClr val="330000"/>
                </a:solidFill>
                <a:latin typeface="Big Caslon"/>
                <a:ea typeface="Big Caslon"/>
              </a:rPr>
              <a:t>1</a:t>
            </a:fld>
            <a:endParaRPr b="0" lang="en-US" sz="1800" spc="-1" strike="noStrike">
              <a:solidFill>
                <a:srgbClr val="330000"/>
              </a:solidFill>
              <a:latin typeface="Big Caslo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3dcc"/>
                </a:solidFill>
                <a:latin typeface="Big Caslon"/>
              </a:rPr>
              <a:t>HUMAN-ENVIRONMENT INTERACTION</a:t>
            </a:r>
            <a:endParaRPr b="0" lang="en-US" sz="56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00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How humans and the environment affect each other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546120" y="7365960"/>
            <a:ext cx="1320840" cy="23875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3"/>
          <a:stretch/>
        </p:blipFill>
        <p:spPr>
          <a:xfrm>
            <a:off x="9105840" y="4991040"/>
            <a:ext cx="2387520" cy="2387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"/>
          <p:cNvPicPr/>
          <p:nvPr/>
        </p:nvPicPr>
        <p:blipFill>
          <a:blip r:embed="rId4"/>
          <a:stretch/>
        </p:blipFill>
        <p:spPr>
          <a:xfrm>
            <a:off x="3467160" y="5359320"/>
            <a:ext cx="3467160" cy="13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7562880" presetSubtype="917285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20000"/>
                </a:solidFill>
                <a:latin typeface="Big Caslon"/>
              </a:rPr>
              <a:t>TOC</a:t>
            </a: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33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Pg13: Postcard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marL="382680" indent="-343080">
              <a:spcBef>
                <a:spcPts val="1100"/>
              </a:spcBef>
              <a:buClr>
                <a:srgbClr val="33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Pg14: 5 themes of geo c-n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10518840" y="8889840"/>
            <a:ext cx="307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533E-D2C2-4713-B6E6-580651070792}" type="slidenum">
              <a:rPr b="0" lang="en-US" sz="1800" spc="-1" strike="noStrike">
                <a:solidFill>
                  <a:srgbClr val="330000"/>
                </a:solidFill>
                <a:latin typeface="Big Caslon"/>
                <a:ea typeface="Big Caslon"/>
              </a:rPr>
              <a:t>&lt;number&gt;</a:t>
            </a:fld>
            <a:endParaRPr b="0" lang="en-US" sz="1800" spc="-1" strike="noStrike">
              <a:solidFill>
                <a:srgbClr val="330000"/>
              </a:solidFill>
              <a:latin typeface="Big Caslo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77760" y="343080"/>
            <a:ext cx="1104912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44fe"/>
                </a:solidFill>
                <a:latin typeface="Big Caslon"/>
              </a:rPr>
              <a:t>Five themes-</a:t>
            </a: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0b00"/>
                </a:solidFill>
                <a:latin typeface="Big Caslon"/>
              </a:rPr>
              <a:t>Tools geographers use to study features on earth.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spcBef>
                <a:spcPts val="1001"/>
              </a:spcBef>
              <a:buClr>
                <a:srgbClr val="cc6018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ig Caslon"/>
              </a:rPr>
              <a:t>Location</a:t>
            </a:r>
            <a:endParaRPr b="0" lang="en-US" sz="38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spcBef>
                <a:spcPts val="1001"/>
              </a:spcBef>
              <a:buClr>
                <a:srgbClr val="cc6018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ig Caslon"/>
              </a:rPr>
              <a:t>Place</a:t>
            </a:r>
            <a:endParaRPr b="0" lang="en-US" sz="38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spcBef>
                <a:spcPts val="1001"/>
              </a:spcBef>
              <a:buClr>
                <a:srgbClr val="cc6018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ig Caslon"/>
              </a:rPr>
              <a:t>Movement</a:t>
            </a:r>
            <a:endParaRPr b="0" lang="en-US" sz="38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spcBef>
                <a:spcPts val="1001"/>
              </a:spcBef>
              <a:buClr>
                <a:srgbClr val="cc6018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ig Caslon"/>
              </a:rPr>
              <a:t>Region</a:t>
            </a:r>
            <a:endParaRPr b="0" lang="en-US" sz="38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spcBef>
                <a:spcPts val="1001"/>
              </a:spcBef>
              <a:buClr>
                <a:srgbClr val="cc6018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ig Caslon"/>
              </a:rPr>
              <a:t>Human Environment Interaction</a:t>
            </a:r>
            <a:endParaRPr b="0" lang="en-US" sz="3800" spc="-1" strike="noStrike">
              <a:solidFill>
                <a:srgbClr val="330000"/>
              </a:solidFill>
              <a:latin typeface="Big Caslo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44fe"/>
                </a:solidFill>
                <a:latin typeface="Big Caslon"/>
              </a:rPr>
              <a:t>Location</a:t>
            </a: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1100"/>
              </a:spcBef>
              <a:buSzPct val="10276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d90b00"/>
                </a:solidFill>
                <a:latin typeface="Big Caslon"/>
              </a:rPr>
              <a:t>Describes where places are on earth.</a:t>
            </a:r>
            <a:endParaRPr b="0" lang="en-US" sz="3100" spc="-1" strike="noStrike">
              <a:solidFill>
                <a:srgbClr val="330000"/>
              </a:solidFill>
              <a:latin typeface="Big Caslon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SzPct val="10276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dcc"/>
                </a:solidFill>
                <a:latin typeface="Big Caslon"/>
              </a:rPr>
              <a:t>Types of Location:</a:t>
            </a:r>
            <a:endParaRPr b="0" lang="en-US" sz="31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lnSpc>
                <a:spcPct val="90000"/>
              </a:lnSpc>
              <a:spcBef>
                <a:spcPts val="1001"/>
              </a:spcBef>
              <a:buClr>
                <a:srgbClr val="130a96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90b00"/>
                </a:solidFill>
                <a:latin typeface="Big Caslon"/>
              </a:rPr>
              <a:t>ABSOLUTE: (lat/long)</a:t>
            </a:r>
            <a:endParaRPr b="0" lang="en-US" sz="25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lnSpc>
                <a:spcPct val="90000"/>
              </a:lnSpc>
              <a:spcBef>
                <a:spcPts val="1001"/>
              </a:spcBef>
              <a:buClr>
                <a:srgbClr val="130a96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90b00"/>
                </a:solidFill>
                <a:latin typeface="Big Caslon"/>
              </a:rPr>
              <a:t>RELATIVE: compared to another place (direction)</a:t>
            </a:r>
            <a:endParaRPr b="0" lang="en-US" sz="25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lnSpc>
                <a:spcPct val="90000"/>
              </a:lnSpc>
              <a:spcBef>
                <a:spcPts val="1001"/>
              </a:spcBef>
              <a:buClr>
                <a:srgbClr val="130a96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g Caslon"/>
              </a:rPr>
              <a:t>Bojangles example</a:t>
            </a:r>
            <a:endParaRPr b="0" lang="en-US" sz="2500" spc="-1" strike="noStrike">
              <a:solidFill>
                <a:srgbClr val="330000"/>
              </a:solidFill>
              <a:latin typeface="Big Caslo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3dcc"/>
                </a:solidFill>
                <a:latin typeface="Big Caslon"/>
              </a:rPr>
              <a:t>Place</a:t>
            </a: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0" y="2781360"/>
            <a:ext cx="11049120" cy="693432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2712"/>
                </a:solidFill>
                <a:latin typeface="Big Caslon"/>
              </a:rPr>
              <a:t>defined by it’s unique characteristics.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spcBef>
                <a:spcPts val="1001"/>
              </a:spcBef>
              <a:buClr>
                <a:srgbClr val="cc6018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ig Caslon"/>
              </a:rPr>
              <a:t>Physical characteristics</a:t>
            </a:r>
            <a:endParaRPr b="0" lang="en-US" sz="38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spcBef>
                <a:spcPts val="1001"/>
              </a:spcBef>
              <a:buClr>
                <a:srgbClr val="cc6018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ig Caslon"/>
              </a:rPr>
              <a:t>Cultural characteristics</a:t>
            </a:r>
            <a:endParaRPr b="0" lang="en-US" sz="3800" spc="-1" strike="noStrike">
              <a:solidFill>
                <a:srgbClr val="330000"/>
              </a:solidFill>
              <a:latin typeface="Big Caslo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3dcc"/>
                </a:solidFill>
                <a:latin typeface="Big Caslon"/>
              </a:rPr>
              <a:t>Physical</a:t>
            </a: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17520" y="2514240"/>
            <a:ext cx="12864960" cy="648972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lnSpc>
                <a:spcPct val="90000"/>
              </a:lnSpc>
              <a:spcBef>
                <a:spcPts val="1001"/>
              </a:spcBef>
              <a:buClr>
                <a:srgbClr val="cc6018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Big Caslon"/>
              </a:rPr>
              <a:t>The way a place looks (nature-mountains)</a:t>
            </a:r>
            <a:endParaRPr b="0" lang="en-US" sz="2800" spc="-1" strike="noStrike">
              <a:solidFill>
                <a:srgbClr val="330000"/>
              </a:solidFill>
              <a:latin typeface="Big Caslon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SzPct val="1029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a1a1a"/>
                </a:solidFill>
                <a:latin typeface="Big Caslon"/>
              </a:rPr>
              <a:t>Examples:</a:t>
            </a:r>
            <a:endParaRPr b="0" lang="en-US" sz="34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lnSpc>
                <a:spcPct val="90000"/>
              </a:lnSpc>
              <a:spcBef>
                <a:spcPts val="1001"/>
              </a:spcBef>
              <a:buClr>
                <a:srgbClr val="1a1a1a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1a"/>
                </a:solidFill>
                <a:latin typeface="Big Caslon"/>
              </a:rPr>
              <a:t>Andes Mountains are in South America.</a:t>
            </a:r>
            <a:endParaRPr b="0" lang="en-US" sz="28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lnSpc>
                <a:spcPct val="90000"/>
              </a:lnSpc>
              <a:spcBef>
                <a:spcPts val="1001"/>
              </a:spcBef>
              <a:buClr>
                <a:srgbClr val="1a1a1a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1a"/>
                </a:solidFill>
                <a:latin typeface="Big Caslon"/>
              </a:rPr>
              <a:t>Amazon River flows through Brazil.</a:t>
            </a:r>
            <a:endParaRPr b="0" lang="en-US" sz="28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lnSpc>
                <a:spcPct val="90000"/>
              </a:lnSpc>
              <a:spcBef>
                <a:spcPts val="1001"/>
              </a:spcBef>
              <a:buClr>
                <a:srgbClr val="1a1a1a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1a"/>
                </a:solidFill>
                <a:latin typeface="Big Caslon"/>
              </a:rPr>
              <a:t>Pampas are located in Argentina.</a:t>
            </a:r>
            <a:endParaRPr b="0" lang="en-US" sz="28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lnSpc>
                <a:spcPct val="90000"/>
              </a:lnSpc>
              <a:spcBef>
                <a:spcPts val="1001"/>
              </a:spcBef>
              <a:buClr>
                <a:srgbClr val="1a1a1a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1a"/>
                </a:solidFill>
                <a:latin typeface="Big Caslon"/>
              </a:rPr>
              <a:t>The isthmus of Panama connects Central &amp; South America. </a:t>
            </a:r>
            <a:endParaRPr b="0" lang="en-US" sz="2800" spc="-1" strike="noStrike">
              <a:solidFill>
                <a:srgbClr val="330000"/>
              </a:solidFill>
              <a:latin typeface="Big Caslo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3dcc"/>
                </a:solidFill>
                <a:latin typeface="Big Caslon"/>
              </a:rPr>
              <a:t>Cultural</a:t>
            </a: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0000"/>
              </a:solidFill>
              <a:latin typeface="Big Caslon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Big Caslon"/>
              </a:rPr>
              <a:t>Man-made/invented.</a:t>
            </a:r>
            <a:endParaRPr b="0" lang="en-US" sz="3400" spc="-1" strike="noStrike">
              <a:solidFill>
                <a:srgbClr val="330000"/>
              </a:solidFill>
              <a:latin typeface="Big Caslon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ig Caslon"/>
              </a:rPr>
              <a:t>Examples:</a:t>
            </a:r>
            <a:r>
              <a:rPr b="0" lang="en-US" sz="3800" spc="-1" strike="noStrike">
                <a:solidFill>
                  <a:srgbClr val="000000"/>
                </a:solidFill>
                <a:latin typeface="Big Caslon"/>
              </a:rPr>
              <a:t> </a:t>
            </a:r>
            <a:endParaRPr b="0" lang="en-US" sz="38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lnSpc>
                <a:spcPct val="90000"/>
              </a:lnSpc>
              <a:spcBef>
                <a:spcPts val="1001"/>
              </a:spcBef>
              <a:buClr>
                <a:srgbClr val="3300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Big Caslon"/>
              </a:rPr>
              <a:t>Portuguese is the official language of Brazil.</a:t>
            </a:r>
            <a:endParaRPr b="0" lang="en-US" sz="28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lnSpc>
                <a:spcPct val="90000"/>
              </a:lnSpc>
              <a:spcBef>
                <a:spcPts val="1001"/>
              </a:spcBef>
              <a:buClr>
                <a:srgbClr val="3300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Big Caslon"/>
              </a:rPr>
              <a:t>Many Mexicans are Catholic.</a:t>
            </a:r>
            <a:endParaRPr b="0" lang="en-US" sz="28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lnSpc>
                <a:spcPct val="90000"/>
              </a:lnSpc>
              <a:spcBef>
                <a:spcPts val="1001"/>
              </a:spcBef>
              <a:buClr>
                <a:srgbClr val="3300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Big Caslon"/>
              </a:rPr>
              <a:t>Mayan ruins are located in Mexico. </a:t>
            </a:r>
            <a:endParaRPr b="0" lang="en-US" sz="28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lnSpc>
                <a:spcPct val="90000"/>
              </a:lnSpc>
              <a:spcBef>
                <a:spcPts val="1001"/>
              </a:spcBef>
              <a:buClr>
                <a:srgbClr val="3300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Big Caslon"/>
              </a:rPr>
              <a:t>Cinco de Mayo is a national holiday in Mexico.</a:t>
            </a:r>
            <a:endParaRPr b="0" lang="en-US" sz="2800" spc="-1" strike="noStrike">
              <a:solidFill>
                <a:srgbClr val="330000"/>
              </a:solidFill>
              <a:latin typeface="Big Caslo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3dcc"/>
                </a:solidFill>
                <a:latin typeface="Big Caslon"/>
              </a:rPr>
              <a:t>MOVEMENT</a:t>
            </a: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0b00"/>
                </a:solidFill>
                <a:latin typeface="Big Caslon"/>
              </a:rPr>
              <a:t>How people, goods, ideas moved from place to place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marL="382680" indent="-343080">
              <a:spcBef>
                <a:spcPts val="1100"/>
              </a:spcBef>
              <a:buClr>
                <a:srgbClr val="00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0b00"/>
                </a:solidFill>
                <a:latin typeface="Big Caslon"/>
              </a:rPr>
              <a:t>Human</a:t>
            </a: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 </a:t>
            </a:r>
            <a:r>
              <a:rPr b="0" lang="en-US" sz="4400" spc="-1" strike="noStrike">
                <a:solidFill>
                  <a:srgbClr val="d90b00"/>
                </a:solidFill>
                <a:latin typeface="Big Caslon"/>
              </a:rPr>
              <a:t>(car)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spcBef>
                <a:spcPts val="10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90b00"/>
                </a:solidFill>
                <a:latin typeface="Big Caslon"/>
              </a:rPr>
              <a:t>Information</a:t>
            </a:r>
            <a:r>
              <a:rPr b="0" lang="en-US" sz="3800" spc="-1" strike="noStrike">
                <a:solidFill>
                  <a:srgbClr val="330000"/>
                </a:solidFill>
                <a:latin typeface="Big Caslon"/>
              </a:rPr>
              <a:t> </a:t>
            </a:r>
            <a:r>
              <a:rPr b="0" lang="en-US" sz="3800" spc="-1" strike="noStrike">
                <a:solidFill>
                  <a:srgbClr val="d90b00"/>
                </a:solidFill>
                <a:latin typeface="Big Caslon"/>
              </a:rPr>
              <a:t>(phone)</a:t>
            </a:r>
            <a:endParaRPr b="0" lang="en-US" sz="38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spcBef>
                <a:spcPts val="10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90b00"/>
                </a:solidFill>
                <a:latin typeface="Big Caslon"/>
              </a:rPr>
              <a:t>Idea</a:t>
            </a:r>
            <a:r>
              <a:rPr b="0" lang="en-US" sz="3800" spc="-1" strike="noStrike">
                <a:solidFill>
                  <a:srgbClr val="330000"/>
                </a:solidFill>
                <a:latin typeface="Big Caslon"/>
              </a:rPr>
              <a:t> </a:t>
            </a:r>
            <a:r>
              <a:rPr b="0" lang="en-US" sz="3800" spc="-1" strike="noStrike">
                <a:solidFill>
                  <a:srgbClr val="d90b00"/>
                </a:solidFill>
                <a:latin typeface="Big Caslon"/>
              </a:rPr>
              <a:t>(TV)</a:t>
            </a:r>
            <a:endParaRPr b="0" lang="en-US" sz="3800" spc="-1" strike="noStrike">
              <a:solidFill>
                <a:srgbClr val="330000"/>
              </a:solidFill>
              <a:latin typeface="Big Caslon"/>
            </a:endParaRPr>
          </a:p>
        </p:txBody>
      </p:sp>
      <p:pic>
        <p:nvPicPr>
          <p:cNvPr id="435" name="Picture 4" descr=""/>
          <p:cNvPicPr/>
          <p:nvPr/>
        </p:nvPicPr>
        <p:blipFill>
          <a:blip r:embed="rId2"/>
          <a:stretch/>
        </p:blipFill>
        <p:spPr>
          <a:xfrm>
            <a:off x="6985080" y="3568680"/>
            <a:ext cx="3082680" cy="20574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"/>
          <p:cNvPicPr/>
          <p:nvPr/>
        </p:nvPicPr>
        <p:blipFill>
          <a:blip r:embed="rId3"/>
          <a:stretch/>
        </p:blipFill>
        <p:spPr>
          <a:xfrm>
            <a:off x="9779040" y="3772080"/>
            <a:ext cx="2730600" cy="18190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"/>
          <p:cNvPicPr/>
          <p:nvPr/>
        </p:nvPicPr>
        <p:blipFill>
          <a:blip r:embed="rId4"/>
          <a:stretch/>
        </p:blipFill>
        <p:spPr>
          <a:xfrm>
            <a:off x="8242200" y="5423040"/>
            <a:ext cx="2616480" cy="17348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"/>
          <p:cNvPicPr/>
          <p:nvPr/>
        </p:nvPicPr>
        <p:blipFill>
          <a:blip r:embed="rId5"/>
          <a:stretch/>
        </p:blipFill>
        <p:spPr>
          <a:xfrm>
            <a:off x="6388200" y="7797960"/>
            <a:ext cx="1752480" cy="16826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8" descr=""/>
          <p:cNvPicPr/>
          <p:nvPr/>
        </p:nvPicPr>
        <p:blipFill>
          <a:blip r:embed="rId6"/>
          <a:stretch/>
        </p:blipFill>
        <p:spPr>
          <a:xfrm>
            <a:off x="9423360" y="7264440"/>
            <a:ext cx="1735200" cy="22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3dcc"/>
                </a:solidFill>
                <a:latin typeface="Big Caslon"/>
              </a:rPr>
              <a:t>REGIONS</a:t>
            </a: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520" y="3022200"/>
            <a:ext cx="11925360" cy="748044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How places are similar to and different from other places</a:t>
            </a:r>
            <a:r>
              <a:rPr b="1" lang="en-US" sz="3800" spc="-1" strike="noStrike">
                <a:solidFill>
                  <a:srgbClr val="330000"/>
                </a:solidFill>
                <a:latin typeface="Lucida Grande"/>
                <a:ea typeface="Lucida Grande"/>
              </a:rPr>
              <a:t>?</a:t>
            </a:r>
            <a:endParaRPr b="0" lang="en-US" sz="38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spcBef>
                <a:spcPts val="10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Big Caslon"/>
              </a:rPr>
              <a:t>Formal (NC/SC)</a:t>
            </a:r>
            <a:endParaRPr b="0" lang="en-US" sz="34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Functional</a:t>
            </a:r>
            <a:r>
              <a:rPr b="0" lang="en-US" sz="3400" spc="-1" strike="noStrike">
                <a:solidFill>
                  <a:srgbClr val="330000"/>
                </a:solidFill>
                <a:latin typeface="Lucida Grande"/>
                <a:ea typeface="Lucida Grande"/>
              </a:rPr>
              <a:t> </a:t>
            </a:r>
            <a:r>
              <a:rPr b="0" lang="en-US" sz="3800" spc="-1" strike="noStrike">
                <a:solidFill>
                  <a:srgbClr val="d90b00"/>
                </a:solidFill>
                <a:latin typeface="Big Caslon"/>
              </a:rPr>
              <a:t>(cell phone)</a:t>
            </a:r>
            <a:r>
              <a:rPr b="0" lang="en-US" sz="3800" spc="-1" strike="noStrike">
                <a:solidFill>
                  <a:srgbClr val="330000"/>
                </a:solidFill>
                <a:latin typeface="Big Caslon"/>
              </a:rPr>
              <a:t>.</a:t>
            </a:r>
            <a:endParaRPr b="0" lang="en-US" sz="38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Vernacular</a:t>
            </a:r>
            <a:r>
              <a:rPr b="1" lang="en-US" sz="3400" spc="-1" strike="noStrike">
                <a:solidFill>
                  <a:srgbClr val="ff2712"/>
                </a:solidFill>
                <a:latin typeface="Lucida Grande"/>
                <a:ea typeface="Lucida Grande"/>
              </a:rPr>
              <a:t> (</a:t>
            </a:r>
            <a:r>
              <a:rPr b="0" lang="en-US" sz="3800" spc="-1" strike="noStrike">
                <a:solidFill>
                  <a:srgbClr val="ff2712"/>
                </a:solidFill>
                <a:latin typeface="Big Caslon"/>
              </a:rPr>
              <a:t>perception</a:t>
            </a:r>
            <a:endParaRPr b="0" lang="en-US" sz="3800" spc="-1" strike="noStrike">
              <a:solidFill>
                <a:srgbClr val="330000"/>
              </a:solidFill>
              <a:latin typeface="Big Caslo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TylerDaughtry</cp:lastModifiedBy>
  <dcterms:modified xsi:type="dcterms:W3CDTF">2013-09-11T15:20:24Z</dcterms:modified>
  <cp:revision>4</cp:revision>
  <dc:subject/>
  <dc:title>Bell Ringer 9-11 </dc:title>
</cp:coreProperties>
</file>